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F35E6-C1B6-4BB7-A344-CA81303FB8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EEF74-406D-4B6B-9A02-6820792ED0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04814-A8C3-4AA9-B1F6-EA0F1A1642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B19EB-7716-4ED1-8279-BAEEB5B526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1CE66-2B2C-4B85-987D-DA1F97D1F2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C4015-5D7D-490E-A4A8-CFD404D835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52BDC-35DE-4390-9514-65662F60CB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18230-FCA3-448F-9852-2FE063A24E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A0E74-AD29-4AEF-A031-580C60DE61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EF55C-4B0D-495F-B411-CDF48FC0D3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383F4-AD47-4AE8-A2AD-EFBD74CD68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7635C-0CDD-4489-BD37-4AE136ED03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5FB48-4744-4885-9D13-B6B918F429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232EE-179F-4F89-8426-4DCFCA1B36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BA47A-10E8-463B-AEB3-9496045903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99DB6-02E4-4206-9A77-7820DFA6D0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28A0C-94F6-4AC2-89BF-41F8B734C2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2F9CC-FA96-45CE-86AB-0BA3BBC4C4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E760F-8B06-4579-8F39-DE1968DFA8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12339-9C85-42A0-9796-52383E25F9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F582-1D83-43D4-910A-4792BB071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4334-5559-49EE-A609-76693A3E8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E849-FEA9-4E7C-ABE4-B55B789BD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F6CD-4844-4AC1-9753-1B7498882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4C226-CE6E-48DE-A856-DB150AE39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D165C-B31D-44FC-B33C-B67DE6809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925E2-6815-4DBB-947A-E8CC7DCF3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17B21-3E4A-4B2D-920A-8847D56A0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1B628-A0A5-48D9-BE18-F2FB86368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3037A-EFEA-4AA4-929E-D83E2E3C5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571F6-A98E-435E-825D-9D7F782D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52FE-B423-426C-BCB9-1C37F1886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27BAB-FDB5-4EB8-8207-03260524C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58012-13AC-428A-94AC-D9735109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6B4B9-D0F8-41BA-ABCC-149E1FC9A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57AD7-65DF-49E2-B6A3-D04AA86D6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25D03-4A17-4446-B53E-5D4C8C307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0EB00-3B47-4BAA-9670-66A77FEFA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73A7A-F47D-466D-B15F-CAB31F983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7EB70-7156-497A-B58E-19FA6AD76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9E6C3-718B-4D4A-89B1-919F21BF8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97143-7819-428C-90A4-7C7F34C7F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B669-9C7A-4ADC-99FD-C0EE719DF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1822C-B06E-4F06-B999-6A07037D0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79B5D-2322-4061-A51D-926069E3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0350B-234A-4E08-8FFB-B9EE4A98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446A7-DA49-425A-96CC-92B310499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7B277-FAC4-4346-BEBB-599185B4C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4AE85-23FF-455C-8F13-3D95E998B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1688E-EB08-4073-B711-AD6DBB35C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5320F-D3AD-41CB-8D73-929C45C16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2A17E-44AD-413E-9A28-4FACF69E3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F9D1E-705D-4A91-A0E9-D1FC7930A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1E86-825B-4C4F-8920-53B322E4C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6D6BC-4545-4ABA-8DE9-B289EE25E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D15BF-2A47-4827-90DB-622AF337C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917BF-F3AE-4498-94AD-1A7D47967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885C1-B3EC-4723-8074-1382248EB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5550A-2C50-4195-A972-6D27325EB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A7BC3-B101-434B-A8BE-53716FD58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5376E-4363-4111-A68B-B4006981F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B9D4C-4242-4E72-B491-25454CD67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BFD8B-725A-4B5E-968B-761CC1F1F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DC7B2-FE31-4C4D-A734-D7EC47530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CDEE-AE00-413F-AF02-E5E127268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572788-D33C-4145-A0B9-C28B6D8A6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DFFDA-B7A8-4BDE-BFEF-0EAF8E673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F93A7-9AA4-402E-8337-DBF1DB20A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1B0021-B35D-49FC-BFFC-FB8A38771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A02652-C931-4E83-A6C6-1FF40CC6C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F8C2D-5D43-4D09-A7B1-2BCC0550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095BF6-6273-4964-9323-8D4C7BBB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A74AE1-0232-40C1-A450-046A411D9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A31272-0F53-49AF-B908-46583CC22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112D1-59AD-4D4E-B208-606D1156B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E260-804B-470A-97EF-960E8E911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46245-944D-4149-94EE-639C548AC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B9D9-C12E-4F54-A56B-CEB054C78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DE4A-9D7D-41B3-91C9-50B18429E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0E40-FAB7-4732-A1E6-4274B6041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D68EC-A00E-4A70-BE64-54EE35E5053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182F0-CF88-4330-B6E7-BEAC42EF2C4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FB6DA-DEF2-4F9C-B4EE-D678A216712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D7D80-D3E8-4CC0-98A8-26876E254EB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7ED2F-84FA-4AB2-9FE4-4850C77E69C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wiredkids.org/ktt_universal/games/javascript/cyberbullying_quiz_1/index.html" TargetMode="External"/><Relationship Id="rId2" Type="http://schemas.openxmlformats.org/officeDocument/2006/relationships/image" Target="../media/image10.png"/><Relationship Id="rId3" Type="http://schemas.openxmlformats.org/officeDocument/2006/relationships/image" Target="../media/image4.wmf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2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3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hyperlink" Target="http://www.stopcyberbullying.org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stopcyberbullying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6.png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9.png"/><Relationship Id="rId3" Type="http://schemas.openxmlformats.org/officeDocument/2006/relationships/slide" Target="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Rectangle 5" descr=""/>
          <p:cNvPicPr/>
          <p:nvPr/>
        </p:nvPicPr>
        <p:blipFill>
          <a:blip r:embed="rId1"/>
          <a:stretch/>
        </p:blipFill>
        <p:spPr>
          <a:xfrm>
            <a:off x="1006560" y="347760"/>
            <a:ext cx="6960960" cy="2030400"/>
          </a:xfrm>
          <a:prstGeom prst="rect">
            <a:avLst/>
          </a:prstGeom>
          <a:ln w="0">
            <a:noFill/>
          </a:ln>
        </p:spPr>
      </p:pic>
      <p:sp>
        <p:nvSpPr>
          <p:cNvPr id="236" name="TextBox 6"/>
          <p:cNvSpPr/>
          <p:nvPr/>
        </p:nvSpPr>
        <p:spPr>
          <a:xfrm>
            <a:off x="3980520" y="3056040"/>
            <a:ext cx="4211640" cy="119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ras Demi ITC"/>
              </a:rPr>
              <a:t>Ms. Cool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ras Demi ITC"/>
              </a:rPr>
              <a:t>Lake Olympia Middle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ras Demi ITC"/>
              </a:rPr>
              <a:t>Fort Bend I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5" descr="C:\Users\mary beth\AppData\Local\Microsoft\Windows\Temporary Internet Files\Content.IE5\OFMNSCOL\MC900293876[1].wmf"/>
          <p:cNvPicPr/>
          <p:nvPr/>
        </p:nvPicPr>
        <p:blipFill>
          <a:blip r:embed="rId2"/>
          <a:stretch/>
        </p:blipFill>
        <p:spPr>
          <a:xfrm>
            <a:off x="533520" y="3124080"/>
            <a:ext cx="282240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38" name="Action Button: Forward or Next 4">
            <a:hlinkClick r:id="" action="ppaction://hlinkshowjump?jump=nextslide"/>
          </p:cNvPr>
          <p:cNvSpPr/>
          <p:nvPr/>
        </p:nvSpPr>
        <p:spPr>
          <a:xfrm>
            <a:off x="7924680" y="5791320"/>
            <a:ext cx="762120" cy="76176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1610" h="21600">
                <a:moveTo>
                  <a:pt x="0" y="0"/>
                </a:moveTo>
                <a:lnTo>
                  <a:pt x="21610" y="0"/>
                </a:lnTo>
                <a:lnTo>
                  <a:pt x="21610" y="21600"/>
                </a:lnTo>
                <a:lnTo>
                  <a:pt x="0" y="21600"/>
                </a:lnTo>
                <a:close/>
              </a:path>
              <a:path fill="lightenLess" w="21610" h="21600">
                <a:moveTo>
                  <a:pt x="0" y="0"/>
                </a:moveTo>
                <a:lnTo>
                  <a:pt x="21610" y="0"/>
                </a:lnTo>
                <a:lnTo>
                  <a:pt x="20210" y="1400"/>
                </a:lnTo>
                <a:lnTo>
                  <a:pt x="1400" y="1400"/>
                </a:lnTo>
                <a:close/>
              </a:path>
              <a:path fill="darken" w="21610" h="21600">
                <a:moveTo>
                  <a:pt x="21610" y="0"/>
                </a:moveTo>
                <a:lnTo>
                  <a:pt x="21610" y="21600"/>
                </a:lnTo>
                <a:lnTo>
                  <a:pt x="20210" y="20200"/>
                </a:lnTo>
                <a:lnTo>
                  <a:pt x="20210" y="1400"/>
                </a:lnTo>
                <a:close/>
              </a:path>
              <a:path fill="darkenLess" w="21610" h="21600">
                <a:moveTo>
                  <a:pt x="21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0" y="20200"/>
                </a:lnTo>
                <a:close/>
              </a:path>
              <a:path fill="lighten" w="21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0" h="21600">
                <a:moveTo>
                  <a:pt x="3799" y="3794"/>
                </a:moveTo>
                <a:lnTo>
                  <a:pt x="17812" y="10800"/>
                </a:lnTo>
                <a:lnTo>
                  <a:pt x="3799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"/>
          <p:cNvSpPr/>
          <p:nvPr/>
        </p:nvSpPr>
        <p:spPr>
          <a:xfrm>
            <a:off x="304920" y="4811760"/>
            <a:ext cx="8458200" cy="679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Perpetua"/>
                <a:hlinkClick r:id="rId1"/>
              </a:rPr>
              <a:t>http://www.wiredkids.org/ktt_universal/games/javascript/cyberbullying_quiz_1/index.html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2"/>
          <p:cNvSpPr/>
          <p:nvPr/>
        </p:nvSpPr>
        <p:spPr>
          <a:xfrm>
            <a:off x="353520" y="990720"/>
            <a:ext cx="4730040" cy="10688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Eurostile"/>
              </a:rPr>
              <a:t>HAVE  YOU EVER BE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Eurostile"/>
              </a:rPr>
              <a:t>CYBERBULLI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TextBox 3"/>
          <p:cNvGrpSpPr/>
          <p:nvPr/>
        </p:nvGrpSpPr>
        <p:grpSpPr>
          <a:xfrm>
            <a:off x="235080" y="2743200"/>
            <a:ext cx="3407040" cy="987480"/>
            <a:chOff x="235080" y="2743200"/>
            <a:chExt cx="3407040" cy="987480"/>
          </a:xfrm>
        </p:grpSpPr>
        <p:pic>
          <p:nvPicPr>
            <p:cNvPr id="290" name="TextBox 3" descr=""/>
            <p:cNvPicPr/>
            <p:nvPr/>
          </p:nvPicPr>
          <p:blipFill>
            <a:blip r:embed="rId2"/>
            <a:stretch/>
          </p:blipFill>
          <p:spPr>
            <a:xfrm>
              <a:off x="317520" y="2743200"/>
              <a:ext cx="320688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235080" y="2819520"/>
              <a:ext cx="3407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Eurostile"/>
                </a:rPr>
                <a:t>Try a qui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Eurostile"/>
                </a:rPr>
                <a:t>Click the link below . .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2" name="Picture 3" descr="C:\Users\mary beth\AppData\Local\Microsoft\Windows\Temporary Internet Files\Content.IE5\9W7UX5WD\MC900293876[1].wmf"/>
          <p:cNvPicPr/>
          <p:nvPr/>
        </p:nvPicPr>
        <p:blipFill>
          <a:blip r:embed="rId3"/>
          <a:stretch/>
        </p:blipFill>
        <p:spPr>
          <a:xfrm>
            <a:off x="5943600" y="762120"/>
            <a:ext cx="2208240" cy="2200320"/>
          </a:xfrm>
          <a:prstGeom prst="rect">
            <a:avLst/>
          </a:prstGeom>
          <a:ln w="0">
            <a:noFill/>
          </a:ln>
        </p:spPr>
      </p:pic>
      <p:grpSp>
        <p:nvGrpSpPr>
          <p:cNvPr id="293" name="TextBox 6"/>
          <p:cNvGrpSpPr/>
          <p:nvPr/>
        </p:nvGrpSpPr>
        <p:grpSpPr>
          <a:xfrm>
            <a:off x="474480" y="4151160"/>
            <a:ext cx="7733520" cy="500040"/>
            <a:chOff x="474480" y="4151160"/>
            <a:chExt cx="7733520" cy="500040"/>
          </a:xfrm>
        </p:grpSpPr>
        <p:pic>
          <p:nvPicPr>
            <p:cNvPr id="294" name="TextBox 6" descr=""/>
            <p:cNvPicPr/>
            <p:nvPr/>
          </p:nvPicPr>
          <p:blipFill>
            <a:blip r:embed="rId4"/>
            <a:stretch/>
          </p:blipFill>
          <p:spPr>
            <a:xfrm>
              <a:off x="895320" y="4151160"/>
              <a:ext cx="685332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474480" y="4202280"/>
              <a:ext cx="77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Eurostile"/>
                </a:rPr>
                <a:t>When finished just close the window and continue with the less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Action Button: Back or Previous 7">
            <a:hlinkClick r:id="" action="ppaction://hlinkshowjump?jump=previousslide"/>
          </p:cNvPr>
          <p:cNvSpPr/>
          <p:nvPr/>
        </p:nvSpPr>
        <p:spPr>
          <a:xfrm>
            <a:off x="380880" y="59436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ction Button: Forward or Next 8">
            <a:hlinkClick r:id="" action="ppaction://hlinkshowjump?jump=nextslide"/>
          </p:cNvPr>
          <p:cNvSpPr/>
          <p:nvPr/>
        </p:nvSpPr>
        <p:spPr>
          <a:xfrm>
            <a:off x="8153280" y="594360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3794"/>
                </a:moveTo>
                <a:lnTo>
                  <a:pt x="19158" y="10800"/>
                </a:lnTo>
                <a:lnTo>
                  <a:pt x="5145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Eurostile"/>
              </a:rPr>
              <a:t>IDEAS TO PREVENT </a:t>
            </a:r>
            <a:br>
              <a:rPr sz="3600"/>
            </a:br>
            <a:r>
              <a:rPr b="1" lang="en-US" sz="3600" spc="-1" strike="noStrike">
                <a:solidFill>
                  <a:srgbClr val="1f497d"/>
                </a:solidFill>
                <a:latin typeface="Eurostile"/>
              </a:rPr>
              <a:t>CYBERBULLYING . . .</a:t>
            </a:r>
            <a:endParaRPr b="0" lang="en-US" sz="36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90360" y="1447920"/>
            <a:ext cx="373356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8000"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Franklin Gothic Book"/>
              </a:rPr>
              <a:t>Through Technology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95288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Franklin Gothic Book"/>
              </a:rPr>
              <a:t>Through Education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914400" y="1828440"/>
            <a:ext cx="3733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Eurostile"/>
              </a:rPr>
              <a:t>Setting software controls to limit acces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Eurostile"/>
              </a:rPr>
              <a:t>Adding filter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Eurostile"/>
              </a:rPr>
              <a:t>Add kid-safe web browser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Eurostile"/>
              </a:rPr>
              <a:t>Add monitoring softwar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952880" y="2247480"/>
            <a:ext cx="3733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Eurostile"/>
              </a:rPr>
              <a:t>Learn and practice online safet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Eurostile"/>
              </a:rPr>
              <a:t>Use good Netiquett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Eurostile"/>
              </a:rPr>
              <a:t>Have computers in public places where monitors are visibl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Eurostile"/>
              </a:rPr>
              <a:t>Report incidents immediatel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03" name="Picture 2" descr="C:\Users\mary beth\AppData\Local\Microsoft\Windows\Temporary Internet Files\Content.IE5\9W7UX5WD\MC900293876[1].wmf"/>
          <p:cNvPicPr/>
          <p:nvPr/>
        </p:nvPicPr>
        <p:blipFill>
          <a:blip r:embed="rId1"/>
          <a:stretch/>
        </p:blipFill>
        <p:spPr>
          <a:xfrm>
            <a:off x="7086600" y="158760"/>
            <a:ext cx="1370160" cy="1365120"/>
          </a:xfrm>
          <a:prstGeom prst="rect">
            <a:avLst/>
          </a:prstGeom>
          <a:ln w="0">
            <a:noFill/>
          </a:ln>
        </p:spPr>
      </p:pic>
      <p:sp>
        <p:nvSpPr>
          <p:cNvPr id="304" name="TextBox 8"/>
          <p:cNvSpPr/>
          <p:nvPr/>
        </p:nvSpPr>
        <p:spPr>
          <a:xfrm>
            <a:off x="1356120" y="6172200"/>
            <a:ext cx="632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urostile"/>
              </a:rPr>
              <a:t>Suggestions retrieved from cyberbullyingprevention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ction Button: Back or Previous 9">
            <a:hlinkClick r:id="" action="ppaction://hlinkshowjump?jump=previousslide"/>
          </p:cNvPr>
          <p:cNvSpPr/>
          <p:nvPr/>
        </p:nvSpPr>
        <p:spPr>
          <a:xfrm>
            <a:off x="304920" y="5943600"/>
            <a:ext cx="814320" cy="609480"/>
          </a:xfrm>
          <a:custGeom>
            <a:avLst/>
            <a:gdLst>
              <a:gd name="textAreaLeft" fmla="*/ 39240 w 814320"/>
              <a:gd name="textAreaRight" fmla="*/ 775080 w 814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8855" h="21600">
                <a:moveTo>
                  <a:pt x="0" y="0"/>
                </a:moveTo>
                <a:lnTo>
                  <a:pt x="28855" y="0"/>
                </a:lnTo>
                <a:lnTo>
                  <a:pt x="28855" y="21600"/>
                </a:lnTo>
                <a:lnTo>
                  <a:pt x="0" y="21600"/>
                </a:lnTo>
                <a:close/>
              </a:path>
              <a:path fill="lightenLess" w="28855" h="21600">
                <a:moveTo>
                  <a:pt x="0" y="0"/>
                </a:moveTo>
                <a:lnTo>
                  <a:pt x="28855" y="0"/>
                </a:lnTo>
                <a:lnTo>
                  <a:pt x="27455" y="1400"/>
                </a:lnTo>
                <a:lnTo>
                  <a:pt x="1400" y="1400"/>
                </a:lnTo>
                <a:close/>
              </a:path>
              <a:path fill="darken" w="28855" h="21600">
                <a:moveTo>
                  <a:pt x="28855" y="0"/>
                </a:moveTo>
                <a:lnTo>
                  <a:pt x="28855" y="21600"/>
                </a:lnTo>
                <a:lnTo>
                  <a:pt x="27455" y="20200"/>
                </a:lnTo>
                <a:lnTo>
                  <a:pt x="27455" y="1400"/>
                </a:lnTo>
                <a:close/>
              </a:path>
              <a:path fill="darkenLess" w="28855" h="21600">
                <a:moveTo>
                  <a:pt x="288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55" y="20200"/>
                </a:lnTo>
                <a:close/>
              </a:path>
              <a:path fill="lighten" w="288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55" h="21600">
                <a:moveTo>
                  <a:pt x="7421" y="10800"/>
                </a:moveTo>
                <a:lnTo>
                  <a:pt x="21434" y="3794"/>
                </a:lnTo>
                <a:lnTo>
                  <a:pt x="21434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ction Button: Forward or Next 10">
            <a:hlinkClick r:id="" action="ppaction://hlinkshowjump?jump=nextslide"/>
          </p:cNvPr>
          <p:cNvSpPr/>
          <p:nvPr/>
        </p:nvSpPr>
        <p:spPr>
          <a:xfrm>
            <a:off x="80010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3794"/>
                </a:moveTo>
                <a:lnTo>
                  <a:pt x="21855" y="10800"/>
                </a:lnTo>
                <a:lnTo>
                  <a:pt x="7842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" dur="20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" dur="20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20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" dur="200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20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" dur="20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20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" dur="2000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Box 6"/>
          <p:cNvSpPr/>
          <p:nvPr/>
        </p:nvSpPr>
        <p:spPr>
          <a:xfrm>
            <a:off x="833760" y="609480"/>
            <a:ext cx="3425400" cy="5205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Eurostile"/>
              </a:rPr>
              <a:t>QUICK QUIZ #3 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2" descr="C:\Users\mary beth\AppData\Local\Microsoft\Windows\Temporary Internet Files\Content.IE5\B8764PSK\MC900293876[1].wmf"/>
          <p:cNvPicPr/>
          <p:nvPr/>
        </p:nvPicPr>
        <p:blipFill>
          <a:blip r:embed="rId1"/>
          <a:stretch/>
        </p:blipFill>
        <p:spPr>
          <a:xfrm>
            <a:off x="6853320" y="457200"/>
            <a:ext cx="1298520" cy="1295280"/>
          </a:xfrm>
          <a:prstGeom prst="rect">
            <a:avLst/>
          </a:prstGeom>
          <a:ln w="0">
            <a:noFill/>
          </a:ln>
        </p:spPr>
      </p:pic>
      <p:grpSp>
        <p:nvGrpSpPr>
          <p:cNvPr id="309" name="TextBox 3"/>
          <p:cNvGrpSpPr/>
          <p:nvPr/>
        </p:nvGrpSpPr>
        <p:grpSpPr>
          <a:xfrm>
            <a:off x="62640" y="1749600"/>
            <a:ext cx="7639200" cy="1116000"/>
            <a:chOff x="62640" y="1749600"/>
            <a:chExt cx="7639200" cy="1116000"/>
          </a:xfrm>
        </p:grpSpPr>
        <p:pic>
          <p:nvPicPr>
            <p:cNvPr id="310" name="TextBox 3" descr=""/>
            <p:cNvPicPr/>
            <p:nvPr/>
          </p:nvPicPr>
          <p:blipFill>
            <a:blip r:embed="rId2"/>
            <a:stretch/>
          </p:blipFill>
          <p:spPr>
            <a:xfrm>
              <a:off x="365040" y="1749600"/>
              <a:ext cx="695016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62640" y="1828800"/>
              <a:ext cx="7639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Eurostile"/>
                </a:rPr>
                <a:t>Which is NOT a good way to prevent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Eurostile"/>
                </a:rPr>
                <a:t>Cyberbullying through technology at school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TextBox 4">
            <a:hlinkClick r:id="rId3" action="ppaction://hlinksldjump"/>
          </p:cNvPr>
          <p:cNvSpPr/>
          <p:nvPr/>
        </p:nvSpPr>
        <p:spPr>
          <a:xfrm>
            <a:off x="670320" y="3352680"/>
            <a:ext cx="262512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A. Adding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5">
            <a:hlinkClick r:id="rId4" action="ppaction://hlinksldjump"/>
          </p:cNvPr>
          <p:cNvSpPr/>
          <p:nvPr/>
        </p:nvSpPr>
        <p:spPr>
          <a:xfrm>
            <a:off x="515160" y="4267080"/>
            <a:ext cx="618516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B. Allowing students access to My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7">
            <a:hlinkClick r:id="rId5" action="ppaction://hlinksldjump"/>
          </p:cNvPr>
          <p:cNvSpPr/>
          <p:nvPr/>
        </p:nvSpPr>
        <p:spPr>
          <a:xfrm>
            <a:off x="567360" y="5105520"/>
            <a:ext cx="469620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C. Add kid-safe web brows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ction Button: Back or Previous 8">
            <a:hlinkClick r:id="" action="ppaction://hlinkshowjump?jump=previousslide"/>
          </p:cNvPr>
          <p:cNvSpPr/>
          <p:nvPr/>
        </p:nvSpPr>
        <p:spPr>
          <a:xfrm>
            <a:off x="304920" y="5867280"/>
            <a:ext cx="738000" cy="762120"/>
          </a:xfrm>
          <a:custGeom>
            <a:avLst/>
            <a:gdLst>
              <a:gd name="textAreaLeft" fmla="*/ 47520 w 738000"/>
              <a:gd name="textAreaRight" fmla="*/ 690480 w 738000"/>
              <a:gd name="textAreaTop" fmla="*/ 47520 h 762120"/>
              <a:gd name="textAreaBottom" fmla="*/ 714600 h 762120"/>
            </a:gdLst>
            <a:ahLst/>
            <a:rect l="textAreaLeft" t="textAreaTop" r="textAreaRight" b="textAreaBottom"/>
            <a:pathLst>
              <a:path w="21600" h="22306">
                <a:moveTo>
                  <a:pt x="0" y="0"/>
                </a:moveTo>
                <a:lnTo>
                  <a:pt x="21600" y="0"/>
                </a:lnTo>
                <a:lnTo>
                  <a:pt x="21600" y="22306"/>
                </a:lnTo>
                <a:lnTo>
                  <a:pt x="0" y="22306"/>
                </a:lnTo>
                <a:close/>
              </a:path>
              <a:path fill="lightenLess" w="21600" h="223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306">
                <a:moveTo>
                  <a:pt x="21600" y="0"/>
                </a:moveTo>
                <a:lnTo>
                  <a:pt x="21600" y="22306"/>
                </a:lnTo>
                <a:lnTo>
                  <a:pt x="20200" y="20906"/>
                </a:lnTo>
                <a:lnTo>
                  <a:pt x="20200" y="1400"/>
                </a:lnTo>
                <a:close/>
              </a:path>
              <a:path fill="darkenLess" w="21600" h="22306">
                <a:moveTo>
                  <a:pt x="21600" y="22306"/>
                </a:moveTo>
                <a:lnTo>
                  <a:pt x="0" y="22306"/>
                </a:lnTo>
                <a:lnTo>
                  <a:pt x="1400" y="20906"/>
                </a:lnTo>
                <a:lnTo>
                  <a:pt x="20200" y="20906"/>
                </a:lnTo>
                <a:close/>
              </a:path>
              <a:path fill="lighten" w="21600" h="22306">
                <a:moveTo>
                  <a:pt x="0" y="223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906"/>
                </a:lnTo>
                <a:close/>
              </a:path>
              <a:path fill="darken" w="21600" h="22306">
                <a:moveTo>
                  <a:pt x="3794" y="11153"/>
                </a:moveTo>
                <a:lnTo>
                  <a:pt x="17806" y="4146"/>
                </a:lnTo>
                <a:lnTo>
                  <a:pt x="17806" y="18159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ction Button: Forward or Next 9">
            <a:hlinkClick r:id="" action="ppaction://hlinkshowjump?jump=nextslide"/>
          </p:cNvPr>
          <p:cNvSpPr/>
          <p:nvPr/>
        </p:nvSpPr>
        <p:spPr>
          <a:xfrm>
            <a:off x="8001000" y="579132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  <a:path fill="darken" w="21600" h="23752">
                <a:moveTo>
                  <a:pt x="3794" y="4869"/>
                </a:moveTo>
                <a:lnTo>
                  <a:pt x="17806" y="11876"/>
                </a:lnTo>
                <a:lnTo>
                  <a:pt x="3794" y="18882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" descr="C:\Users\mary beth\AppData\Local\Microsoft\Windows\Temporary Internet Files\Content.IE5\4ZXUCO1Y\MC900293876[1].wmf"/>
          <p:cNvPicPr/>
          <p:nvPr/>
        </p:nvPicPr>
        <p:blipFill>
          <a:blip r:embed="rId1"/>
          <a:stretch/>
        </p:blipFill>
        <p:spPr>
          <a:xfrm>
            <a:off x="3200400" y="2819520"/>
            <a:ext cx="2514600" cy="2506680"/>
          </a:xfrm>
          <a:prstGeom prst="rect">
            <a:avLst/>
          </a:prstGeom>
          <a:ln w="0">
            <a:noFill/>
          </a:ln>
        </p:spPr>
      </p:pic>
      <p:pic>
        <p:nvPicPr>
          <p:cNvPr id="318" name="TextBox 2" descr=""/>
          <p:cNvPicPr/>
          <p:nvPr/>
        </p:nvPicPr>
        <p:blipFill>
          <a:blip r:embed="rId2"/>
          <a:stretch/>
        </p:blipFill>
        <p:spPr>
          <a:xfrm>
            <a:off x="554040" y="865080"/>
            <a:ext cx="8163000" cy="1335240"/>
          </a:xfrm>
          <a:prstGeom prst="rect">
            <a:avLst/>
          </a:prstGeom>
          <a:ln w="0">
            <a:noFill/>
          </a:ln>
        </p:spPr>
      </p:pic>
      <p:sp>
        <p:nvSpPr>
          <p:cNvPr id="319" name="Action Button: Back or Previous 3">
            <a:hlinkClick r:id="" action="ppaction://hlinkshowjump?jump=previousslide"/>
          </p:cNvPr>
          <p:cNvSpPr/>
          <p:nvPr/>
        </p:nvSpPr>
        <p:spPr>
          <a:xfrm>
            <a:off x="380880" y="5715000"/>
            <a:ext cx="685800" cy="7621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762120"/>
              <a:gd name="textAreaBottom" fmla="*/ 717840 h 762120"/>
            </a:gdLst>
            <a:ahLst/>
            <a:rect l="textAreaLeft" t="textAreaTop" r="textAreaRight" b="textAreaBottom"/>
            <a:pathLst>
              <a:path w="21600" h="24003">
                <a:moveTo>
                  <a:pt x="0" y="0"/>
                </a:moveTo>
                <a:lnTo>
                  <a:pt x="21600" y="0"/>
                </a:lnTo>
                <a:lnTo>
                  <a:pt x="21600" y="24003"/>
                </a:lnTo>
                <a:lnTo>
                  <a:pt x="0" y="24003"/>
                </a:lnTo>
                <a:close/>
              </a:path>
              <a:path fill="lightenLess" w="21600" h="240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03">
                <a:moveTo>
                  <a:pt x="21600" y="0"/>
                </a:moveTo>
                <a:lnTo>
                  <a:pt x="21600" y="24003"/>
                </a:lnTo>
                <a:lnTo>
                  <a:pt x="20200" y="22603"/>
                </a:lnTo>
                <a:lnTo>
                  <a:pt x="20200" y="1400"/>
                </a:lnTo>
                <a:close/>
              </a:path>
              <a:path fill="darkenLess" w="21600" h="24003">
                <a:moveTo>
                  <a:pt x="21600" y="24003"/>
                </a:moveTo>
                <a:lnTo>
                  <a:pt x="0" y="24003"/>
                </a:lnTo>
                <a:lnTo>
                  <a:pt x="1400" y="22603"/>
                </a:lnTo>
                <a:lnTo>
                  <a:pt x="20200" y="22603"/>
                </a:lnTo>
                <a:close/>
              </a:path>
              <a:path fill="lighten" w="21600" h="24003">
                <a:moveTo>
                  <a:pt x="0" y="240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03"/>
                </a:lnTo>
                <a:close/>
              </a:path>
              <a:path fill="darken" w="21600" h="24003">
                <a:moveTo>
                  <a:pt x="3794" y="12001"/>
                </a:moveTo>
                <a:lnTo>
                  <a:pt x="17806" y="4995"/>
                </a:lnTo>
                <a:lnTo>
                  <a:pt x="17806" y="19008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2" descr="C:\Users\mary beth\AppData\Local\Microsoft\Windows\Temporary Internet Files\Content.IE5\4ZXUCO1Y\MC900293876[1].wmf"/>
          <p:cNvPicPr/>
          <p:nvPr/>
        </p:nvPicPr>
        <p:blipFill>
          <a:blip r:embed="rId1"/>
          <a:stretch/>
        </p:blipFill>
        <p:spPr>
          <a:xfrm>
            <a:off x="3200400" y="3048120"/>
            <a:ext cx="2514600" cy="2506680"/>
          </a:xfrm>
          <a:prstGeom prst="rect">
            <a:avLst/>
          </a:prstGeom>
          <a:ln w="0">
            <a:noFill/>
          </a:ln>
        </p:spPr>
      </p:pic>
      <p:pic>
        <p:nvPicPr>
          <p:cNvPr id="321" name="TextBox 2" descr=""/>
          <p:cNvPicPr/>
          <p:nvPr/>
        </p:nvPicPr>
        <p:blipFill>
          <a:blip r:embed="rId2"/>
          <a:stretch/>
        </p:blipFill>
        <p:spPr>
          <a:xfrm>
            <a:off x="1096920" y="1170000"/>
            <a:ext cx="6553080" cy="1335240"/>
          </a:xfrm>
          <a:prstGeom prst="rect">
            <a:avLst/>
          </a:prstGeom>
          <a:ln w="0">
            <a:noFill/>
          </a:ln>
        </p:spPr>
      </p:pic>
      <p:sp>
        <p:nvSpPr>
          <p:cNvPr id="322" name="Action Button: Forward or Next 3">
            <a:hlinkClick r:id="" action="ppaction://hlinkshowjump?jump=nextslide"/>
          </p:cNvPr>
          <p:cNvSpPr/>
          <p:nvPr/>
        </p:nvSpPr>
        <p:spPr>
          <a:xfrm>
            <a:off x="7772400" y="5867280"/>
            <a:ext cx="838080" cy="738360"/>
          </a:xfrm>
          <a:custGeom>
            <a:avLst/>
            <a:gdLst>
              <a:gd name="textAreaLeft" fmla="*/ 47520 w 838080"/>
              <a:gd name="textAreaRight" fmla="*/ 790560 w 838080"/>
              <a:gd name="textAreaTop" fmla="*/ 47880 h 738360"/>
              <a:gd name="textAreaBottom" fmla="*/ 690840 h 738360"/>
            </a:gdLst>
            <a:ahLst/>
            <a:rect l="textAreaLeft" t="textAreaTop" r="textAreaRight" b="textAreaBottom"/>
            <a:pathLst>
              <a:path w="24516" h="21600">
                <a:moveTo>
                  <a:pt x="0" y="0"/>
                </a:moveTo>
                <a:lnTo>
                  <a:pt x="24516" y="0"/>
                </a:lnTo>
                <a:lnTo>
                  <a:pt x="24516" y="21600"/>
                </a:lnTo>
                <a:lnTo>
                  <a:pt x="0" y="21600"/>
                </a:lnTo>
                <a:close/>
              </a:path>
              <a:path fill="lightenLess" w="24516" h="21600">
                <a:moveTo>
                  <a:pt x="0" y="0"/>
                </a:moveTo>
                <a:lnTo>
                  <a:pt x="24516" y="0"/>
                </a:lnTo>
                <a:lnTo>
                  <a:pt x="23116" y="1400"/>
                </a:lnTo>
                <a:lnTo>
                  <a:pt x="1400" y="1400"/>
                </a:lnTo>
                <a:close/>
              </a:path>
              <a:path fill="darken" w="24516" h="21600">
                <a:moveTo>
                  <a:pt x="24516" y="0"/>
                </a:moveTo>
                <a:lnTo>
                  <a:pt x="24516" y="21600"/>
                </a:lnTo>
                <a:lnTo>
                  <a:pt x="23116" y="20200"/>
                </a:lnTo>
                <a:lnTo>
                  <a:pt x="23116" y="1400"/>
                </a:lnTo>
                <a:close/>
              </a:path>
              <a:path fill="darkenLess" w="24516" h="21600">
                <a:moveTo>
                  <a:pt x="245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16" y="20200"/>
                </a:lnTo>
                <a:close/>
              </a:path>
              <a:path fill="lighten" w="245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516" h="21600">
                <a:moveTo>
                  <a:pt x="5251" y="3794"/>
                </a:moveTo>
                <a:lnTo>
                  <a:pt x="19264" y="10800"/>
                </a:lnTo>
                <a:lnTo>
                  <a:pt x="5251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7480440" y="548640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Box 1"/>
          <p:cNvSpPr/>
          <p:nvPr/>
        </p:nvSpPr>
        <p:spPr>
          <a:xfrm>
            <a:off x="779760" y="685800"/>
            <a:ext cx="296352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Eurostile"/>
              </a:rPr>
              <a:t>QUICK QUIZ #4 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2" descr="C:\Users\mary beth\AppData\Local\Microsoft\Windows\Temporary Internet Files\Content.IE5\B8764PSK\MC900293876[1].wmf"/>
          <p:cNvPicPr/>
          <p:nvPr/>
        </p:nvPicPr>
        <p:blipFill>
          <a:blip r:embed="rId1"/>
          <a:stretch/>
        </p:blipFill>
        <p:spPr>
          <a:xfrm>
            <a:off x="6775560" y="380880"/>
            <a:ext cx="137628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26" name="TextBox 3"/>
          <p:cNvGrpSpPr/>
          <p:nvPr/>
        </p:nvGrpSpPr>
        <p:grpSpPr>
          <a:xfrm>
            <a:off x="1440" y="1749600"/>
            <a:ext cx="7826760" cy="1116000"/>
            <a:chOff x="1440" y="1749600"/>
            <a:chExt cx="7826760" cy="1116000"/>
          </a:xfrm>
        </p:grpSpPr>
        <p:pic>
          <p:nvPicPr>
            <p:cNvPr id="327" name="TextBox 3" descr=""/>
            <p:cNvPicPr/>
            <p:nvPr/>
          </p:nvPicPr>
          <p:blipFill>
            <a:blip r:embed="rId2"/>
            <a:stretch/>
          </p:blipFill>
          <p:spPr>
            <a:xfrm>
              <a:off x="285840" y="1749600"/>
              <a:ext cx="716904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1440" y="1828800"/>
              <a:ext cx="78267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Eurostile"/>
                </a:rPr>
                <a:t>What is a good way for students to preven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Eurostile"/>
                </a:rPr>
                <a:t>Cyberbullying through education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TextBox 4">
            <a:hlinkClick r:id="rId3" action="ppaction://hlinksldjump"/>
          </p:cNvPr>
          <p:cNvSpPr/>
          <p:nvPr/>
        </p:nvSpPr>
        <p:spPr>
          <a:xfrm>
            <a:off x="263520" y="3429000"/>
            <a:ext cx="622656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Eurostil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Give out personal information onl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5">
            <a:hlinkClick r:id="rId4" action="ppaction://hlinksldjump"/>
          </p:cNvPr>
          <p:cNvSpPr/>
          <p:nvPr/>
        </p:nvSpPr>
        <p:spPr>
          <a:xfrm>
            <a:off x="225720" y="4267080"/>
            <a:ext cx="788472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B. Start rumors using Gaggle electronic mess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6">
            <a:hlinkClick r:id="rId5" action="ppaction://hlinksldjump"/>
          </p:cNvPr>
          <p:cNvSpPr/>
          <p:nvPr/>
        </p:nvSpPr>
        <p:spPr>
          <a:xfrm>
            <a:off x="209160" y="5105520"/>
            <a:ext cx="704340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C. Learn and be informed about online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ction Button: Back or Previous 7">
            <a:hlinkClick r:id="" action="ppaction://hlinkshowjump?jump=previousslide"/>
          </p:cNvPr>
          <p:cNvSpPr/>
          <p:nvPr/>
        </p:nvSpPr>
        <p:spPr>
          <a:xfrm>
            <a:off x="380880" y="6019920"/>
            <a:ext cx="814680" cy="533160"/>
          </a:xfrm>
          <a:custGeom>
            <a:avLst/>
            <a:gdLst>
              <a:gd name="textAreaLeft" fmla="*/ 34560 w 814680"/>
              <a:gd name="textAreaRight" fmla="*/ 780120 w 8146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2998" h="21600">
                <a:moveTo>
                  <a:pt x="0" y="0"/>
                </a:moveTo>
                <a:lnTo>
                  <a:pt x="32998" y="0"/>
                </a:lnTo>
                <a:lnTo>
                  <a:pt x="32998" y="21600"/>
                </a:lnTo>
                <a:lnTo>
                  <a:pt x="0" y="21600"/>
                </a:lnTo>
                <a:close/>
              </a:path>
              <a:path fill="lightenLess" w="32998" h="21600">
                <a:moveTo>
                  <a:pt x="0" y="0"/>
                </a:moveTo>
                <a:lnTo>
                  <a:pt x="32998" y="0"/>
                </a:lnTo>
                <a:lnTo>
                  <a:pt x="31598" y="1400"/>
                </a:lnTo>
                <a:lnTo>
                  <a:pt x="1400" y="1400"/>
                </a:lnTo>
                <a:close/>
              </a:path>
              <a:path fill="darken" w="32998" h="21600">
                <a:moveTo>
                  <a:pt x="32998" y="0"/>
                </a:moveTo>
                <a:lnTo>
                  <a:pt x="32998" y="21600"/>
                </a:lnTo>
                <a:lnTo>
                  <a:pt x="31598" y="20200"/>
                </a:lnTo>
                <a:lnTo>
                  <a:pt x="31598" y="1400"/>
                </a:lnTo>
                <a:close/>
              </a:path>
              <a:path fill="darkenLess" w="32998" h="21600">
                <a:moveTo>
                  <a:pt x="32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598" y="20200"/>
                </a:lnTo>
                <a:close/>
              </a:path>
              <a:path fill="lighten" w="32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998" h="21600">
                <a:moveTo>
                  <a:pt x="9492" y="10800"/>
                </a:moveTo>
                <a:lnTo>
                  <a:pt x="23505" y="3794"/>
                </a:lnTo>
                <a:lnTo>
                  <a:pt x="23505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ction Button: Forward or Next 8">
            <a:hlinkClick r:id="" action="ppaction://hlinkshowjump?jump=nextslide"/>
          </p:cNvPr>
          <p:cNvSpPr/>
          <p:nvPr/>
        </p:nvSpPr>
        <p:spPr>
          <a:xfrm>
            <a:off x="7848720" y="6019920"/>
            <a:ext cx="890640" cy="533160"/>
          </a:xfrm>
          <a:custGeom>
            <a:avLst/>
            <a:gdLst>
              <a:gd name="textAreaLeft" fmla="*/ 34560 w 890640"/>
              <a:gd name="textAreaRight" fmla="*/ 856080 w 8906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6073" h="21600">
                <a:moveTo>
                  <a:pt x="0" y="0"/>
                </a:moveTo>
                <a:lnTo>
                  <a:pt x="36073" y="0"/>
                </a:lnTo>
                <a:lnTo>
                  <a:pt x="36073" y="21600"/>
                </a:lnTo>
                <a:lnTo>
                  <a:pt x="0" y="21600"/>
                </a:lnTo>
                <a:close/>
              </a:path>
              <a:path fill="lightenLess" w="36073" h="21600">
                <a:moveTo>
                  <a:pt x="0" y="0"/>
                </a:moveTo>
                <a:lnTo>
                  <a:pt x="36073" y="0"/>
                </a:lnTo>
                <a:lnTo>
                  <a:pt x="34673" y="1400"/>
                </a:lnTo>
                <a:lnTo>
                  <a:pt x="1400" y="1400"/>
                </a:lnTo>
                <a:close/>
              </a:path>
              <a:path fill="darken" w="36073" h="21600">
                <a:moveTo>
                  <a:pt x="36073" y="0"/>
                </a:moveTo>
                <a:lnTo>
                  <a:pt x="36073" y="21600"/>
                </a:lnTo>
                <a:lnTo>
                  <a:pt x="34673" y="20200"/>
                </a:lnTo>
                <a:lnTo>
                  <a:pt x="34673" y="1400"/>
                </a:lnTo>
                <a:close/>
              </a:path>
              <a:path fill="darkenLess" w="36073" h="21600">
                <a:moveTo>
                  <a:pt x="360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73" y="20200"/>
                </a:lnTo>
                <a:close/>
              </a:path>
              <a:path fill="lighten" w="360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73" h="21600">
                <a:moveTo>
                  <a:pt x="11030" y="3794"/>
                </a:moveTo>
                <a:lnTo>
                  <a:pt x="25043" y="10800"/>
                </a:lnTo>
                <a:lnTo>
                  <a:pt x="11030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2" descr="C:\Users\mary beth\AppData\Local\Microsoft\Windows\Temporary Internet Files\Content.IE5\4ZXUCO1Y\MC900293876[1].wmf"/>
          <p:cNvPicPr/>
          <p:nvPr/>
        </p:nvPicPr>
        <p:blipFill>
          <a:blip r:embed="rId1"/>
          <a:stretch/>
        </p:blipFill>
        <p:spPr>
          <a:xfrm>
            <a:off x="3200400" y="2819520"/>
            <a:ext cx="2514600" cy="2506680"/>
          </a:xfrm>
          <a:prstGeom prst="rect">
            <a:avLst/>
          </a:prstGeom>
          <a:ln w="0">
            <a:noFill/>
          </a:ln>
        </p:spPr>
      </p:pic>
      <p:pic>
        <p:nvPicPr>
          <p:cNvPr id="335" name="TextBox 2" descr=""/>
          <p:cNvPicPr/>
          <p:nvPr/>
        </p:nvPicPr>
        <p:blipFill>
          <a:blip r:embed="rId2"/>
          <a:stretch/>
        </p:blipFill>
        <p:spPr>
          <a:xfrm>
            <a:off x="554040" y="865080"/>
            <a:ext cx="8163000" cy="1335240"/>
          </a:xfrm>
          <a:prstGeom prst="rect">
            <a:avLst/>
          </a:prstGeom>
          <a:ln w="0">
            <a:noFill/>
          </a:ln>
        </p:spPr>
      </p:pic>
      <p:sp>
        <p:nvSpPr>
          <p:cNvPr id="336" name="Action Button: Back or Previous 3">
            <a:hlinkClick r:id="" action="ppaction://hlinkshowjump?jump=previousslide"/>
          </p:cNvPr>
          <p:cNvSpPr/>
          <p:nvPr/>
        </p:nvSpPr>
        <p:spPr>
          <a:xfrm>
            <a:off x="380880" y="5715000"/>
            <a:ext cx="685800" cy="7621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762120"/>
              <a:gd name="textAreaBottom" fmla="*/ 717840 h 762120"/>
            </a:gdLst>
            <a:ahLst/>
            <a:rect l="textAreaLeft" t="textAreaTop" r="textAreaRight" b="textAreaBottom"/>
            <a:pathLst>
              <a:path w="21600" h="24003">
                <a:moveTo>
                  <a:pt x="0" y="0"/>
                </a:moveTo>
                <a:lnTo>
                  <a:pt x="21600" y="0"/>
                </a:lnTo>
                <a:lnTo>
                  <a:pt x="21600" y="24003"/>
                </a:lnTo>
                <a:lnTo>
                  <a:pt x="0" y="24003"/>
                </a:lnTo>
                <a:close/>
              </a:path>
              <a:path fill="lightenLess" w="21600" h="240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03">
                <a:moveTo>
                  <a:pt x="21600" y="0"/>
                </a:moveTo>
                <a:lnTo>
                  <a:pt x="21600" y="24003"/>
                </a:lnTo>
                <a:lnTo>
                  <a:pt x="20200" y="22603"/>
                </a:lnTo>
                <a:lnTo>
                  <a:pt x="20200" y="1400"/>
                </a:lnTo>
                <a:close/>
              </a:path>
              <a:path fill="darkenLess" w="21600" h="24003">
                <a:moveTo>
                  <a:pt x="21600" y="24003"/>
                </a:moveTo>
                <a:lnTo>
                  <a:pt x="0" y="24003"/>
                </a:lnTo>
                <a:lnTo>
                  <a:pt x="1400" y="22603"/>
                </a:lnTo>
                <a:lnTo>
                  <a:pt x="20200" y="22603"/>
                </a:lnTo>
                <a:close/>
              </a:path>
              <a:path fill="lighten" w="21600" h="24003">
                <a:moveTo>
                  <a:pt x="0" y="240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03"/>
                </a:lnTo>
                <a:close/>
              </a:path>
              <a:path fill="darken" w="21600" h="24003">
                <a:moveTo>
                  <a:pt x="3794" y="12001"/>
                </a:moveTo>
                <a:lnTo>
                  <a:pt x="17806" y="4995"/>
                </a:lnTo>
                <a:lnTo>
                  <a:pt x="17806" y="19008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2" descr="C:\Users\mary beth\AppData\Local\Microsoft\Windows\Temporary Internet Files\Content.IE5\4ZXUCO1Y\MC900293876[1].wmf"/>
          <p:cNvPicPr/>
          <p:nvPr/>
        </p:nvPicPr>
        <p:blipFill>
          <a:blip r:embed="rId1"/>
          <a:stretch/>
        </p:blipFill>
        <p:spPr>
          <a:xfrm>
            <a:off x="3200400" y="3048120"/>
            <a:ext cx="2514600" cy="2506680"/>
          </a:xfrm>
          <a:prstGeom prst="rect">
            <a:avLst/>
          </a:prstGeom>
          <a:ln w="0">
            <a:noFill/>
          </a:ln>
        </p:spPr>
      </p:pic>
      <p:pic>
        <p:nvPicPr>
          <p:cNvPr id="338" name="TextBox 2" descr=""/>
          <p:cNvPicPr/>
          <p:nvPr/>
        </p:nvPicPr>
        <p:blipFill>
          <a:blip r:embed="rId2"/>
          <a:stretch/>
        </p:blipFill>
        <p:spPr>
          <a:xfrm>
            <a:off x="1096920" y="1170000"/>
            <a:ext cx="6553080" cy="1335240"/>
          </a:xfrm>
          <a:prstGeom prst="rect">
            <a:avLst/>
          </a:prstGeom>
          <a:ln w="0">
            <a:noFill/>
          </a:ln>
        </p:spPr>
      </p:pic>
      <p:sp>
        <p:nvSpPr>
          <p:cNvPr id="339" name="Action Button: Forward or Next 3">
            <a:hlinkClick r:id="" action="ppaction://hlinkshowjump?jump=nextslide"/>
          </p:cNvPr>
          <p:cNvSpPr/>
          <p:nvPr/>
        </p:nvSpPr>
        <p:spPr>
          <a:xfrm>
            <a:off x="7772400" y="5867280"/>
            <a:ext cx="838080" cy="738360"/>
          </a:xfrm>
          <a:custGeom>
            <a:avLst/>
            <a:gdLst>
              <a:gd name="textAreaLeft" fmla="*/ 47520 w 838080"/>
              <a:gd name="textAreaRight" fmla="*/ 790560 w 838080"/>
              <a:gd name="textAreaTop" fmla="*/ 47880 h 738360"/>
              <a:gd name="textAreaBottom" fmla="*/ 690840 h 738360"/>
            </a:gdLst>
            <a:ahLst/>
            <a:rect l="textAreaLeft" t="textAreaTop" r="textAreaRight" b="textAreaBottom"/>
            <a:pathLst>
              <a:path w="24516" h="21600">
                <a:moveTo>
                  <a:pt x="0" y="0"/>
                </a:moveTo>
                <a:lnTo>
                  <a:pt x="24516" y="0"/>
                </a:lnTo>
                <a:lnTo>
                  <a:pt x="24516" y="21600"/>
                </a:lnTo>
                <a:lnTo>
                  <a:pt x="0" y="21600"/>
                </a:lnTo>
                <a:close/>
              </a:path>
              <a:path fill="lightenLess" w="24516" h="21600">
                <a:moveTo>
                  <a:pt x="0" y="0"/>
                </a:moveTo>
                <a:lnTo>
                  <a:pt x="24516" y="0"/>
                </a:lnTo>
                <a:lnTo>
                  <a:pt x="23116" y="1400"/>
                </a:lnTo>
                <a:lnTo>
                  <a:pt x="1400" y="1400"/>
                </a:lnTo>
                <a:close/>
              </a:path>
              <a:path fill="darken" w="24516" h="21600">
                <a:moveTo>
                  <a:pt x="24516" y="0"/>
                </a:moveTo>
                <a:lnTo>
                  <a:pt x="24516" y="21600"/>
                </a:lnTo>
                <a:lnTo>
                  <a:pt x="23116" y="20200"/>
                </a:lnTo>
                <a:lnTo>
                  <a:pt x="23116" y="1400"/>
                </a:lnTo>
                <a:close/>
              </a:path>
              <a:path fill="darkenLess" w="24516" h="21600">
                <a:moveTo>
                  <a:pt x="245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16" y="20200"/>
                </a:lnTo>
                <a:close/>
              </a:path>
              <a:path fill="lighten" w="245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516" h="21600">
                <a:moveTo>
                  <a:pt x="5251" y="3794"/>
                </a:moveTo>
                <a:lnTo>
                  <a:pt x="19264" y="10800"/>
                </a:lnTo>
                <a:lnTo>
                  <a:pt x="5251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4"/>
          <p:cNvSpPr/>
          <p:nvPr/>
        </p:nvSpPr>
        <p:spPr>
          <a:xfrm>
            <a:off x="7480440" y="548640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Box 1"/>
          <p:cNvSpPr/>
          <p:nvPr/>
        </p:nvSpPr>
        <p:spPr>
          <a:xfrm>
            <a:off x="459720" y="685800"/>
            <a:ext cx="596736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Eurostile"/>
              </a:rPr>
              <a:t>QUESTIONS USED FOR DISCUSSION 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2"/>
          <p:cNvSpPr/>
          <p:nvPr/>
        </p:nvSpPr>
        <p:spPr>
          <a:xfrm>
            <a:off x="685800" y="1633680"/>
            <a:ext cx="6934320" cy="3660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Use Gaggle to e-mail me your answers to the following ques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Eurosti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If someone posted false information or rumors about you on a social networking site (facebook), wha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Eurostile"/>
              </a:rPr>
              <a:t>should </a:t>
            </a: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you d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Eurostile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How does Lake O handle cyberbullying incidents? Do you agree or disagree with campus procedures? Expl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3)  Do you share your passwords with others? Why or why no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3"/>
          <p:cNvSpPr/>
          <p:nvPr/>
        </p:nvSpPr>
        <p:spPr>
          <a:xfrm>
            <a:off x="570960" y="4876920"/>
            <a:ext cx="8003520" cy="70380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Eurostile"/>
              </a:rPr>
              <a:t>You may also use your Gaggle account to send me com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Eurostile"/>
              </a:rPr>
              <a:t>And/or concerns about Cyberbullying . . . I will listen </a:t>
            </a: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2" descr="C:\Users\mary beth\AppData\Local\Microsoft\Windows\Temporary Internet Files\Content.IE5\B8764PSK\MC900293876[1].wmf"/>
          <p:cNvPicPr/>
          <p:nvPr/>
        </p:nvPicPr>
        <p:blipFill>
          <a:blip r:embed="rId1"/>
          <a:stretch/>
        </p:blipFill>
        <p:spPr>
          <a:xfrm>
            <a:off x="7010280" y="228600"/>
            <a:ext cx="1528920" cy="1523880"/>
          </a:xfrm>
          <a:prstGeom prst="rect">
            <a:avLst/>
          </a:prstGeom>
          <a:ln w="0">
            <a:noFill/>
          </a:ln>
        </p:spPr>
      </p:pic>
      <p:sp>
        <p:nvSpPr>
          <p:cNvPr id="345" name="Action Button: Back or Previous 5">
            <a:hlinkClick r:id="" action="ppaction://hlinkshowjump?jump=previousslide"/>
          </p:cNvPr>
          <p:cNvSpPr/>
          <p:nvPr/>
        </p:nvSpPr>
        <p:spPr>
          <a:xfrm>
            <a:off x="380880" y="5943600"/>
            <a:ext cx="738360" cy="685800"/>
          </a:xfrm>
          <a:custGeom>
            <a:avLst/>
            <a:gdLst>
              <a:gd name="textAreaLeft" fmla="*/ 44280 w 738360"/>
              <a:gd name="textAreaRight" fmla="*/ 694080 w 7383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255" h="21600">
                <a:moveTo>
                  <a:pt x="0" y="0"/>
                </a:moveTo>
                <a:lnTo>
                  <a:pt x="23255" y="0"/>
                </a:lnTo>
                <a:lnTo>
                  <a:pt x="23255" y="21600"/>
                </a:lnTo>
                <a:lnTo>
                  <a:pt x="0" y="21600"/>
                </a:lnTo>
                <a:close/>
              </a:path>
              <a:path fill="lightenLess" w="23255" h="21600">
                <a:moveTo>
                  <a:pt x="0" y="0"/>
                </a:moveTo>
                <a:lnTo>
                  <a:pt x="23255" y="0"/>
                </a:lnTo>
                <a:lnTo>
                  <a:pt x="21855" y="1400"/>
                </a:lnTo>
                <a:lnTo>
                  <a:pt x="1400" y="1400"/>
                </a:lnTo>
                <a:close/>
              </a:path>
              <a:path fill="darken" w="23255" h="21600">
                <a:moveTo>
                  <a:pt x="23255" y="0"/>
                </a:moveTo>
                <a:lnTo>
                  <a:pt x="23255" y="21600"/>
                </a:lnTo>
                <a:lnTo>
                  <a:pt x="21855" y="20200"/>
                </a:lnTo>
                <a:lnTo>
                  <a:pt x="21855" y="1400"/>
                </a:lnTo>
                <a:close/>
              </a:path>
              <a:path fill="darkenLess" w="23255" h="21600">
                <a:moveTo>
                  <a:pt x="232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55" y="20200"/>
                </a:lnTo>
                <a:close/>
              </a:path>
              <a:path fill="lighten" w="232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55" h="21600">
                <a:moveTo>
                  <a:pt x="4621" y="10800"/>
                </a:moveTo>
                <a:lnTo>
                  <a:pt x="18634" y="3794"/>
                </a:lnTo>
                <a:lnTo>
                  <a:pt x="18634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ction Button: Forward or Next 6">
            <a:hlinkClick r:id="" action="ppaction://hlinkshowjump?jump=nextslide"/>
          </p:cNvPr>
          <p:cNvSpPr/>
          <p:nvPr/>
        </p:nvSpPr>
        <p:spPr>
          <a:xfrm>
            <a:off x="8001000" y="5943600"/>
            <a:ext cx="814320" cy="685800"/>
          </a:xfrm>
          <a:custGeom>
            <a:avLst/>
            <a:gdLst>
              <a:gd name="textAreaLeft" fmla="*/ 44280 w 814320"/>
              <a:gd name="textAreaRight" fmla="*/ 770040 w 8143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5646" h="21600">
                <a:moveTo>
                  <a:pt x="0" y="0"/>
                </a:moveTo>
                <a:lnTo>
                  <a:pt x="25646" y="0"/>
                </a:lnTo>
                <a:lnTo>
                  <a:pt x="25646" y="21600"/>
                </a:lnTo>
                <a:lnTo>
                  <a:pt x="0" y="21600"/>
                </a:lnTo>
                <a:close/>
              </a:path>
              <a:path fill="lightenLess" w="25646" h="21600">
                <a:moveTo>
                  <a:pt x="0" y="0"/>
                </a:moveTo>
                <a:lnTo>
                  <a:pt x="25646" y="0"/>
                </a:lnTo>
                <a:lnTo>
                  <a:pt x="24246" y="1400"/>
                </a:lnTo>
                <a:lnTo>
                  <a:pt x="1400" y="1400"/>
                </a:lnTo>
                <a:close/>
              </a:path>
              <a:path fill="darken" w="25646" h="21600">
                <a:moveTo>
                  <a:pt x="25646" y="0"/>
                </a:moveTo>
                <a:lnTo>
                  <a:pt x="25646" y="21600"/>
                </a:lnTo>
                <a:lnTo>
                  <a:pt x="24246" y="20200"/>
                </a:lnTo>
                <a:lnTo>
                  <a:pt x="24246" y="1400"/>
                </a:lnTo>
                <a:close/>
              </a:path>
              <a:path fill="darkenLess" w="25646" h="21600">
                <a:moveTo>
                  <a:pt x="256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46" y="20200"/>
                </a:lnTo>
                <a:close/>
              </a:path>
              <a:path fill="lighten" w="256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46" h="21600">
                <a:moveTo>
                  <a:pt x="5816" y="3794"/>
                </a:moveTo>
                <a:lnTo>
                  <a:pt x="19829" y="10800"/>
                </a:lnTo>
                <a:lnTo>
                  <a:pt x="5816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7"/>
          <p:cNvSpPr/>
          <p:nvPr/>
        </p:nvSpPr>
        <p:spPr>
          <a:xfrm>
            <a:off x="2678040" y="6019920"/>
            <a:ext cx="315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y.cooley@fortbend.k12.tx.u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Box 1"/>
          <p:cNvSpPr/>
          <p:nvPr/>
        </p:nvSpPr>
        <p:spPr>
          <a:xfrm>
            <a:off x="1295280" y="6094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2"/>
          <p:cNvSpPr/>
          <p:nvPr/>
        </p:nvSpPr>
        <p:spPr>
          <a:xfrm>
            <a:off x="778320" y="757080"/>
            <a:ext cx="486684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81bd"/>
                </a:solidFill>
                <a:latin typeface="Eurostile"/>
              </a:rPr>
              <a:t>SOURCES FOR INFORMATION . .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2" descr="C:\Users\mary beth\AppData\Local\Microsoft\Windows\Temporary Internet Files\Content.IE5\B8764PSK\MC900293876[1].wmf"/>
          <p:cNvPicPr/>
          <p:nvPr/>
        </p:nvPicPr>
        <p:blipFill>
          <a:blip r:embed="rId1"/>
          <a:stretch/>
        </p:blipFill>
        <p:spPr>
          <a:xfrm>
            <a:off x="5943600" y="1219320"/>
            <a:ext cx="2436840" cy="2428920"/>
          </a:xfrm>
          <a:prstGeom prst="rect">
            <a:avLst/>
          </a:prstGeom>
          <a:ln w="0">
            <a:noFill/>
          </a:ln>
        </p:spPr>
      </p:pic>
      <p:grpSp>
        <p:nvGrpSpPr>
          <p:cNvPr id="351" name="TextBox 4"/>
          <p:cNvGrpSpPr/>
          <p:nvPr/>
        </p:nvGrpSpPr>
        <p:grpSpPr>
          <a:xfrm>
            <a:off x="717120" y="1951200"/>
            <a:ext cx="5098680" cy="2938320"/>
            <a:chOff x="717120" y="1951200"/>
            <a:chExt cx="5098680" cy="2938320"/>
          </a:xfrm>
        </p:grpSpPr>
        <p:pic>
          <p:nvPicPr>
            <p:cNvPr id="352" name="TextBox 4" descr=""/>
            <p:cNvPicPr/>
            <p:nvPr/>
          </p:nvPicPr>
          <p:blipFill>
            <a:blip r:embed="rId2"/>
            <a:stretch/>
          </p:blipFill>
          <p:spPr>
            <a:xfrm>
              <a:off x="884160" y="1951200"/>
              <a:ext cx="4735440" cy="29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717120" y="1981080"/>
              <a:ext cx="5098680" cy="28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Eurostile"/>
                </a:rPr>
                <a:t>http://www.wiredkids.or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Eurostile"/>
                </a:rPr>
                <a:t>http://wwwstopcyberbullying.or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Eurostile"/>
                </a:rPr>
                <a:t>http://www.cyberbullyingprevention.co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4" name="TextBox 5" descr=""/>
          <p:cNvPicPr/>
          <p:nvPr/>
        </p:nvPicPr>
        <p:blipFill>
          <a:blip r:embed="rId3"/>
          <a:stretch/>
        </p:blipFill>
        <p:spPr>
          <a:xfrm>
            <a:off x="2822400" y="5132520"/>
            <a:ext cx="4956480" cy="950760"/>
          </a:xfrm>
          <a:prstGeom prst="rect">
            <a:avLst/>
          </a:prstGeom>
          <a:ln w="0">
            <a:noFill/>
          </a:ln>
        </p:spPr>
      </p:pic>
      <p:sp>
        <p:nvSpPr>
          <p:cNvPr id="355" name="Action Button: Back or Previous 6">
            <a:hlinkClick r:id="" action="ppaction://hlinkshowjump?jump=previousslide"/>
          </p:cNvPr>
          <p:cNvSpPr/>
          <p:nvPr/>
        </p:nvSpPr>
        <p:spPr>
          <a:xfrm>
            <a:off x="380880" y="6019920"/>
            <a:ext cx="814680" cy="457200"/>
          </a:xfrm>
          <a:custGeom>
            <a:avLst/>
            <a:gdLst>
              <a:gd name="textAreaLeft" fmla="*/ 29520 w 814680"/>
              <a:gd name="textAreaRight" fmla="*/ 785160 w 8146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8476" h="21600">
                <a:moveTo>
                  <a:pt x="0" y="0"/>
                </a:moveTo>
                <a:lnTo>
                  <a:pt x="38476" y="0"/>
                </a:lnTo>
                <a:lnTo>
                  <a:pt x="38476" y="21600"/>
                </a:lnTo>
                <a:lnTo>
                  <a:pt x="0" y="21600"/>
                </a:lnTo>
                <a:close/>
              </a:path>
              <a:path fill="lightenLess" w="38476" h="21600">
                <a:moveTo>
                  <a:pt x="0" y="0"/>
                </a:moveTo>
                <a:lnTo>
                  <a:pt x="38476" y="0"/>
                </a:lnTo>
                <a:lnTo>
                  <a:pt x="37076" y="1400"/>
                </a:lnTo>
                <a:lnTo>
                  <a:pt x="1400" y="1400"/>
                </a:lnTo>
                <a:close/>
              </a:path>
              <a:path fill="darken" w="38476" h="21600">
                <a:moveTo>
                  <a:pt x="38476" y="0"/>
                </a:moveTo>
                <a:lnTo>
                  <a:pt x="38476" y="21600"/>
                </a:lnTo>
                <a:lnTo>
                  <a:pt x="37076" y="20200"/>
                </a:lnTo>
                <a:lnTo>
                  <a:pt x="37076" y="1400"/>
                </a:lnTo>
                <a:close/>
              </a:path>
              <a:path fill="darkenLess" w="38476" h="21600">
                <a:moveTo>
                  <a:pt x="384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76" y="20200"/>
                </a:lnTo>
                <a:close/>
              </a:path>
              <a:path fill="lighten" w="384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76" h="21600">
                <a:moveTo>
                  <a:pt x="12231" y="10800"/>
                </a:moveTo>
                <a:lnTo>
                  <a:pt x="26244" y="3794"/>
                </a:lnTo>
                <a:lnTo>
                  <a:pt x="26244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Box 1"/>
          <p:cNvSpPr/>
          <p:nvPr/>
        </p:nvSpPr>
        <p:spPr>
          <a:xfrm>
            <a:off x="594000" y="635040"/>
            <a:ext cx="5356080" cy="581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58ed5"/>
                </a:solidFill>
                <a:latin typeface="Eurostile"/>
              </a:rPr>
              <a:t>WHAT IS CYBERBULL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2" descr="C:\Users\mary beth\AppData\Local\Microsoft\Windows\Temporary Internet Files\Content.IE5\4ZXUCO1Y\MC900293876[1].wmf"/>
          <p:cNvPicPr/>
          <p:nvPr/>
        </p:nvPicPr>
        <p:blipFill>
          <a:blip r:embed="rId1"/>
          <a:stretch/>
        </p:blipFill>
        <p:spPr>
          <a:xfrm>
            <a:off x="6629400" y="380880"/>
            <a:ext cx="1827360" cy="1820880"/>
          </a:xfrm>
          <a:prstGeom prst="rect">
            <a:avLst/>
          </a:prstGeom>
          <a:ln w="0">
            <a:noFill/>
          </a:ln>
        </p:spPr>
      </p:pic>
      <p:grpSp>
        <p:nvGrpSpPr>
          <p:cNvPr id="241" name="TextBox 3"/>
          <p:cNvGrpSpPr/>
          <p:nvPr/>
        </p:nvGrpSpPr>
        <p:grpSpPr>
          <a:xfrm>
            <a:off x="48240" y="1908000"/>
            <a:ext cx="7248960" cy="2829240"/>
            <a:chOff x="48240" y="1908000"/>
            <a:chExt cx="7248960" cy="2829240"/>
          </a:xfrm>
        </p:grpSpPr>
        <p:pic>
          <p:nvPicPr>
            <p:cNvPr id="242" name="TextBox 3" descr=""/>
            <p:cNvPicPr/>
            <p:nvPr/>
          </p:nvPicPr>
          <p:blipFill>
            <a:blip r:embed="rId2"/>
            <a:stretch/>
          </p:blipFill>
          <p:spPr>
            <a:xfrm>
              <a:off x="328680" y="1908000"/>
              <a:ext cx="6615000" cy="282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48240" y="1981080"/>
              <a:ext cx="724896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Eurostile"/>
                </a:rPr>
                <a:t>“</a:t>
              </a:r>
              <a:r>
                <a:rPr b="1" lang="en-US" sz="2400" spc="-1" strike="noStrike">
                  <a:solidFill>
                    <a:srgbClr val="000000"/>
                  </a:solidFill>
                  <a:latin typeface="Eurostile"/>
                </a:rPr>
                <a:t>Cyberbullying” is when a teen is threaten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Eurostile"/>
                </a:rPr>
                <a:t>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Eurostile"/>
                </a:rPr>
                <a:t>and harassed by another teen using th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Eurostile"/>
                </a:rPr>
                <a:t>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Eurostile"/>
                </a:rPr>
                <a:t>Internet or other digital technologie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Eurostile"/>
                </a:rPr>
                <a:t> “</a:t>
              </a:r>
              <a:r>
                <a:rPr b="1" lang="en-US" sz="2400" spc="-1" strike="noStrike">
                  <a:solidFill>
                    <a:srgbClr val="000000"/>
                  </a:solidFill>
                  <a:latin typeface="Eurostile"/>
                </a:rPr>
                <a:t>Cyberbullying” is usually not a one ti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Eurostile"/>
                </a:rPr>
                <a:t>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Eurostile"/>
                </a:rPr>
                <a:t>communication and children know it whe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Eurostile"/>
                </a:rPr>
                <a:t>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Eurostile"/>
                </a:rPr>
                <a:t>when they see it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TextBox 4"/>
          <p:cNvSpPr/>
          <p:nvPr/>
        </p:nvSpPr>
        <p:spPr>
          <a:xfrm>
            <a:off x="-45360" y="5105520"/>
            <a:ext cx="66121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Definition retrieved from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Perpetua"/>
                <a:hlinkClick r:id="rId3"/>
              </a:rPr>
              <a:t>http://www.stopcyberbullying.org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ction Button: Forward or Next 5">
            <a:hlinkClick r:id="" action="ppaction://hlinkshowjump?jump=nextslide"/>
          </p:cNvPr>
          <p:cNvSpPr/>
          <p:nvPr/>
        </p:nvSpPr>
        <p:spPr>
          <a:xfrm>
            <a:off x="8077320" y="6043680"/>
            <a:ext cx="761760" cy="585720"/>
          </a:xfrm>
          <a:custGeom>
            <a:avLst/>
            <a:gdLst>
              <a:gd name="textAreaLeft" fmla="*/ 37800 w 761760"/>
              <a:gd name="textAreaRight" fmla="*/ 723960 w 76176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28088" h="21600">
                <a:moveTo>
                  <a:pt x="0" y="0"/>
                </a:moveTo>
                <a:lnTo>
                  <a:pt x="28088" y="0"/>
                </a:lnTo>
                <a:lnTo>
                  <a:pt x="28088" y="21600"/>
                </a:lnTo>
                <a:lnTo>
                  <a:pt x="0" y="21600"/>
                </a:lnTo>
                <a:close/>
              </a:path>
              <a:path fill="lightenLess" w="28088" h="21600">
                <a:moveTo>
                  <a:pt x="0" y="0"/>
                </a:moveTo>
                <a:lnTo>
                  <a:pt x="28088" y="0"/>
                </a:lnTo>
                <a:lnTo>
                  <a:pt x="26688" y="1400"/>
                </a:lnTo>
                <a:lnTo>
                  <a:pt x="1400" y="1400"/>
                </a:lnTo>
                <a:close/>
              </a:path>
              <a:path fill="darken" w="28088" h="21600">
                <a:moveTo>
                  <a:pt x="28088" y="0"/>
                </a:moveTo>
                <a:lnTo>
                  <a:pt x="28088" y="21600"/>
                </a:lnTo>
                <a:lnTo>
                  <a:pt x="26688" y="20200"/>
                </a:lnTo>
                <a:lnTo>
                  <a:pt x="26688" y="1400"/>
                </a:lnTo>
                <a:close/>
              </a:path>
              <a:path fill="darkenLess" w="28088" h="21600">
                <a:moveTo>
                  <a:pt x="28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88" y="20200"/>
                </a:lnTo>
                <a:close/>
              </a:path>
              <a:path fill="lighten" w="28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88" h="21600">
                <a:moveTo>
                  <a:pt x="7037" y="3794"/>
                </a:moveTo>
                <a:lnTo>
                  <a:pt x="21050" y="10800"/>
                </a:lnTo>
                <a:lnTo>
                  <a:pt x="7037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ction Button: Back or Previous 6">
            <a:hlinkClick r:id="" action="ppaction://hlinkshowjump?jump=previousslide"/>
          </p:cNvPr>
          <p:cNvSpPr/>
          <p:nvPr/>
        </p:nvSpPr>
        <p:spPr>
          <a:xfrm>
            <a:off x="38088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10800"/>
                </a:moveTo>
                <a:lnTo>
                  <a:pt x="20510" y="3794"/>
                </a:lnTo>
                <a:lnTo>
                  <a:pt x="20510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Eurostile"/>
              </a:rPr>
              <a:t>Two Kinds of Cyberbullying</a:t>
            </a: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: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4f81bd"/>
                </a:solidFill>
                <a:uFillTx/>
                <a:latin typeface="Eurostile"/>
              </a:rPr>
              <a:t>Direct Attack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914400" y="2247480"/>
            <a:ext cx="3733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essages sent directly to the victim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xamples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stant Messag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teractive Gam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ternet Poll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5288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3000"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f81bd"/>
                </a:solidFill>
                <a:uFillTx/>
                <a:latin typeface="Eurostile"/>
              </a:rPr>
              <a:t>Cyberbullying by Proxy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952880" y="2247480"/>
            <a:ext cx="3733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28960" indent="-2289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essages are sent through others to the victim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28960" indent="-2289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xample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28960" indent="-2289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cyberbully gets control of the victim’s account and sends out messages trying to cause problems between the victim and her friend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2" name="Picture 2" descr="C:\Users\mary beth\AppData\Local\Microsoft\Windows\Temporary Internet Files\Content.IE5\4ZXUCO1Y\MC900293876[1].wmf"/>
          <p:cNvPicPr/>
          <p:nvPr/>
        </p:nvPicPr>
        <p:blipFill>
          <a:blip r:embed="rId1"/>
          <a:stretch/>
        </p:blipFill>
        <p:spPr>
          <a:xfrm>
            <a:off x="7467480" y="228600"/>
            <a:ext cx="1370160" cy="1365120"/>
          </a:xfrm>
          <a:prstGeom prst="rect">
            <a:avLst/>
          </a:prstGeom>
          <a:ln w="0">
            <a:noFill/>
          </a:ln>
        </p:spPr>
      </p:pic>
      <p:sp>
        <p:nvSpPr>
          <p:cNvPr id="253" name="TextBox 12"/>
          <p:cNvSpPr/>
          <p:nvPr/>
        </p:nvSpPr>
        <p:spPr>
          <a:xfrm>
            <a:off x="1164240" y="5943600"/>
            <a:ext cx="6642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Examples retrieved from: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Perpetua"/>
                <a:hlinkClick r:id="rId2"/>
              </a:rPr>
              <a:t>http://www.stopcyberbullying.org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ction Button: Back or Previous 11">
            <a:hlinkClick r:id="" action="ppaction://hlinkshowjump?jump=previousslide"/>
          </p:cNvPr>
          <p:cNvSpPr/>
          <p:nvPr/>
        </p:nvSpPr>
        <p:spPr>
          <a:xfrm>
            <a:off x="304920" y="6095880"/>
            <a:ext cx="662040" cy="533520"/>
          </a:xfrm>
          <a:custGeom>
            <a:avLst/>
            <a:gdLst>
              <a:gd name="textAreaLeft" fmla="*/ 34560 w 662040"/>
              <a:gd name="textAreaRight" fmla="*/ 627480 w 6620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6800" h="21600">
                <a:moveTo>
                  <a:pt x="0" y="0"/>
                </a:moveTo>
                <a:lnTo>
                  <a:pt x="26800" y="0"/>
                </a:lnTo>
                <a:lnTo>
                  <a:pt x="26800" y="21600"/>
                </a:lnTo>
                <a:lnTo>
                  <a:pt x="0" y="21600"/>
                </a:lnTo>
                <a:close/>
              </a:path>
              <a:path fill="lightenLess" w="26800" h="21600">
                <a:moveTo>
                  <a:pt x="0" y="0"/>
                </a:moveTo>
                <a:lnTo>
                  <a:pt x="26800" y="0"/>
                </a:lnTo>
                <a:lnTo>
                  <a:pt x="25400" y="1400"/>
                </a:lnTo>
                <a:lnTo>
                  <a:pt x="1400" y="1400"/>
                </a:lnTo>
                <a:close/>
              </a:path>
              <a:path fill="darken" w="26800" h="21600">
                <a:moveTo>
                  <a:pt x="26800" y="0"/>
                </a:moveTo>
                <a:lnTo>
                  <a:pt x="26800" y="21600"/>
                </a:lnTo>
                <a:lnTo>
                  <a:pt x="25400" y="20200"/>
                </a:lnTo>
                <a:lnTo>
                  <a:pt x="25400" y="1400"/>
                </a:lnTo>
                <a:close/>
              </a:path>
              <a:path fill="darkenLess" w="26800" h="21600">
                <a:moveTo>
                  <a:pt x="26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00" y="20200"/>
                </a:lnTo>
                <a:close/>
              </a:path>
              <a:path fill="lighten" w="26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00" h="21600">
                <a:moveTo>
                  <a:pt x="6393" y="10800"/>
                </a:moveTo>
                <a:lnTo>
                  <a:pt x="20406" y="3794"/>
                </a:lnTo>
                <a:lnTo>
                  <a:pt x="20406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ction Button: Forward or Next 12">
            <a:hlinkClick r:id="" action="ppaction://hlinkshowjump?jump=nextslide"/>
          </p:cNvPr>
          <p:cNvSpPr/>
          <p:nvPr/>
        </p:nvSpPr>
        <p:spPr>
          <a:xfrm>
            <a:off x="8229600" y="60958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3794"/>
                </a:moveTo>
                <a:lnTo>
                  <a:pt x="19343" y="10800"/>
                </a:lnTo>
                <a:lnTo>
                  <a:pt x="5330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Box 1"/>
          <p:cNvSpPr/>
          <p:nvPr/>
        </p:nvSpPr>
        <p:spPr>
          <a:xfrm>
            <a:off x="931320" y="909720"/>
            <a:ext cx="3042720" cy="4597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Eurostile"/>
              </a:rPr>
              <a:t>QUICK QUIZ  #1 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2" descr="C:\Users\mary beth\AppData\Local\Microsoft\Windows\Temporary Internet Files\Content.IE5\4ZXUCO1Y\MC900293876[1].wmf"/>
          <p:cNvPicPr/>
          <p:nvPr/>
        </p:nvPicPr>
        <p:blipFill>
          <a:blip r:embed="rId1"/>
          <a:stretch/>
        </p:blipFill>
        <p:spPr>
          <a:xfrm>
            <a:off x="5715000" y="3733920"/>
            <a:ext cx="1992240" cy="2057400"/>
          </a:xfrm>
          <a:prstGeom prst="rect">
            <a:avLst/>
          </a:prstGeom>
          <a:ln w="0">
            <a:noFill/>
          </a:ln>
        </p:spPr>
      </p:pic>
      <p:grpSp>
        <p:nvGrpSpPr>
          <p:cNvPr id="258" name="TextBox 4"/>
          <p:cNvGrpSpPr/>
          <p:nvPr/>
        </p:nvGrpSpPr>
        <p:grpSpPr>
          <a:xfrm>
            <a:off x="-171720" y="1908000"/>
            <a:ext cx="7931880" cy="1352880"/>
            <a:chOff x="-171720" y="1908000"/>
            <a:chExt cx="7931880" cy="1352880"/>
          </a:xfrm>
        </p:grpSpPr>
        <p:pic>
          <p:nvPicPr>
            <p:cNvPr id="259" name="TextBox 4" descr=""/>
            <p:cNvPicPr/>
            <p:nvPr/>
          </p:nvPicPr>
          <p:blipFill>
            <a:blip r:embed="rId2"/>
            <a:stretch/>
          </p:blipFill>
          <p:spPr>
            <a:xfrm>
              <a:off x="244440" y="1908000"/>
              <a:ext cx="7034400" cy="135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-171720" y="1981080"/>
              <a:ext cx="7931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Eurostile"/>
                </a:rPr>
                <a:t>True or Fal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Eurostile"/>
                </a:rPr>
                <a:t>Cyberbulling is usually a one time communication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TextBox 5"/>
          <p:cNvSpPr/>
          <p:nvPr/>
        </p:nvSpPr>
        <p:spPr>
          <a:xfrm>
            <a:off x="2300760" y="3962520"/>
            <a:ext cx="1349640" cy="1136160"/>
          </a:xfrm>
          <a:prstGeom prst="rect">
            <a:avLst/>
          </a:prstGeom>
          <a:solidFill>
            <a:srgbClr val="ffffff"/>
          </a:solidFill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Eurostil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Eurostile"/>
                <a:hlinkClick r:id="rId3" action="ppaction://hlinksldjump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Eurostil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Eurostil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Eurostile"/>
                <a:hlinkClick r:id="rId4" action="ppaction://hlinksldjump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ction Button: Back or Previous 7">
            <a:hlinkClick r:id="" action="ppaction://hlinkshowjump?jump=previousslide"/>
          </p:cNvPr>
          <p:cNvSpPr/>
          <p:nvPr/>
        </p:nvSpPr>
        <p:spPr>
          <a:xfrm>
            <a:off x="304920" y="6019920"/>
            <a:ext cx="761760" cy="609480"/>
          </a:xfrm>
          <a:custGeom>
            <a:avLst/>
            <a:gdLst>
              <a:gd name="textAreaLeft" fmla="*/ 39240 w 761760"/>
              <a:gd name="textAreaRight" fmla="*/ 722520 w 7617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994" h="21600">
                <a:moveTo>
                  <a:pt x="0" y="0"/>
                </a:moveTo>
                <a:lnTo>
                  <a:pt x="26994" y="0"/>
                </a:lnTo>
                <a:lnTo>
                  <a:pt x="26994" y="21600"/>
                </a:lnTo>
                <a:lnTo>
                  <a:pt x="0" y="21600"/>
                </a:lnTo>
                <a:close/>
              </a:path>
              <a:path fill="lightenLess" w="26994" h="21600">
                <a:moveTo>
                  <a:pt x="0" y="0"/>
                </a:moveTo>
                <a:lnTo>
                  <a:pt x="26994" y="0"/>
                </a:lnTo>
                <a:lnTo>
                  <a:pt x="25594" y="1400"/>
                </a:lnTo>
                <a:lnTo>
                  <a:pt x="1400" y="1400"/>
                </a:lnTo>
                <a:close/>
              </a:path>
              <a:path fill="darken" w="26994" h="21600">
                <a:moveTo>
                  <a:pt x="26994" y="0"/>
                </a:moveTo>
                <a:lnTo>
                  <a:pt x="26994" y="21600"/>
                </a:lnTo>
                <a:lnTo>
                  <a:pt x="25594" y="20200"/>
                </a:lnTo>
                <a:lnTo>
                  <a:pt x="25594" y="1400"/>
                </a:lnTo>
                <a:close/>
              </a:path>
              <a:path fill="darkenLess" w="26994" h="21600">
                <a:moveTo>
                  <a:pt x="26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4" y="20200"/>
                </a:lnTo>
                <a:close/>
              </a:path>
              <a:path fill="lighten" w="26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4" h="21600">
                <a:moveTo>
                  <a:pt x="6490" y="10800"/>
                </a:moveTo>
                <a:lnTo>
                  <a:pt x="20503" y="3794"/>
                </a:lnTo>
                <a:lnTo>
                  <a:pt x="20503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ction Button: Forward or Next 8">
            <a:hlinkClick r:id="" action="ppaction://hlinkshowjump?jump=nextslide"/>
          </p:cNvPr>
          <p:cNvSpPr/>
          <p:nvPr/>
        </p:nvSpPr>
        <p:spPr>
          <a:xfrm>
            <a:off x="8229600" y="60199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C:\Users\mary beth\AppData\Local\Microsoft\Windows\Temporary Internet Files\Content.IE5\4ZXUCO1Y\MC900293876[1].wmf"/>
          <p:cNvPicPr/>
          <p:nvPr/>
        </p:nvPicPr>
        <p:blipFill>
          <a:blip r:embed="rId1"/>
          <a:stretch/>
        </p:blipFill>
        <p:spPr>
          <a:xfrm>
            <a:off x="3200400" y="2819520"/>
            <a:ext cx="2514600" cy="2506680"/>
          </a:xfrm>
          <a:prstGeom prst="rect">
            <a:avLst/>
          </a:prstGeom>
          <a:ln w="0">
            <a:noFill/>
          </a:ln>
        </p:spPr>
      </p:pic>
      <p:pic>
        <p:nvPicPr>
          <p:cNvPr id="265" name="TextBox 2" descr=""/>
          <p:cNvPicPr/>
          <p:nvPr/>
        </p:nvPicPr>
        <p:blipFill>
          <a:blip r:embed="rId2"/>
          <a:stretch/>
        </p:blipFill>
        <p:spPr>
          <a:xfrm>
            <a:off x="554040" y="865080"/>
            <a:ext cx="8163000" cy="1335240"/>
          </a:xfrm>
          <a:prstGeom prst="rect">
            <a:avLst/>
          </a:prstGeom>
          <a:ln w="0">
            <a:noFill/>
          </a:ln>
        </p:spPr>
      </p:pic>
      <p:sp>
        <p:nvSpPr>
          <p:cNvPr id="266" name="Action Button: Back or Previous 3">
            <a:hlinkClick r:id="" action="ppaction://hlinkshowjump?jump=previousslide"/>
          </p:cNvPr>
          <p:cNvSpPr/>
          <p:nvPr/>
        </p:nvSpPr>
        <p:spPr>
          <a:xfrm>
            <a:off x="380880" y="5715000"/>
            <a:ext cx="685800" cy="7621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762120"/>
              <a:gd name="textAreaBottom" fmla="*/ 717840 h 762120"/>
            </a:gdLst>
            <a:ahLst/>
            <a:rect l="textAreaLeft" t="textAreaTop" r="textAreaRight" b="textAreaBottom"/>
            <a:pathLst>
              <a:path w="21600" h="24003">
                <a:moveTo>
                  <a:pt x="0" y="0"/>
                </a:moveTo>
                <a:lnTo>
                  <a:pt x="21600" y="0"/>
                </a:lnTo>
                <a:lnTo>
                  <a:pt x="21600" y="24003"/>
                </a:lnTo>
                <a:lnTo>
                  <a:pt x="0" y="24003"/>
                </a:lnTo>
                <a:close/>
              </a:path>
              <a:path fill="lightenLess" w="21600" h="240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03">
                <a:moveTo>
                  <a:pt x="21600" y="0"/>
                </a:moveTo>
                <a:lnTo>
                  <a:pt x="21600" y="24003"/>
                </a:lnTo>
                <a:lnTo>
                  <a:pt x="20200" y="22603"/>
                </a:lnTo>
                <a:lnTo>
                  <a:pt x="20200" y="1400"/>
                </a:lnTo>
                <a:close/>
              </a:path>
              <a:path fill="darkenLess" w="21600" h="24003">
                <a:moveTo>
                  <a:pt x="21600" y="24003"/>
                </a:moveTo>
                <a:lnTo>
                  <a:pt x="0" y="24003"/>
                </a:lnTo>
                <a:lnTo>
                  <a:pt x="1400" y="22603"/>
                </a:lnTo>
                <a:lnTo>
                  <a:pt x="20200" y="22603"/>
                </a:lnTo>
                <a:close/>
              </a:path>
              <a:path fill="lighten" w="21600" h="24003">
                <a:moveTo>
                  <a:pt x="0" y="240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03"/>
                </a:lnTo>
                <a:close/>
              </a:path>
              <a:path fill="darken" w="21600" h="24003">
                <a:moveTo>
                  <a:pt x="3794" y="12001"/>
                </a:moveTo>
                <a:lnTo>
                  <a:pt x="17806" y="4995"/>
                </a:lnTo>
                <a:lnTo>
                  <a:pt x="17806" y="19008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C:\Users\mary beth\AppData\Local\Microsoft\Windows\Temporary Internet Files\Content.IE5\4ZXUCO1Y\MC900293876[1].wmf"/>
          <p:cNvPicPr/>
          <p:nvPr/>
        </p:nvPicPr>
        <p:blipFill>
          <a:blip r:embed="rId1"/>
          <a:stretch/>
        </p:blipFill>
        <p:spPr>
          <a:xfrm>
            <a:off x="3200400" y="3048120"/>
            <a:ext cx="2514600" cy="2506680"/>
          </a:xfrm>
          <a:prstGeom prst="rect">
            <a:avLst/>
          </a:prstGeom>
          <a:ln w="0">
            <a:noFill/>
          </a:ln>
        </p:spPr>
      </p:pic>
      <p:pic>
        <p:nvPicPr>
          <p:cNvPr id="268" name="TextBox 2" descr=""/>
          <p:cNvPicPr/>
          <p:nvPr/>
        </p:nvPicPr>
        <p:blipFill>
          <a:blip r:embed="rId2"/>
          <a:stretch/>
        </p:blipFill>
        <p:spPr>
          <a:xfrm>
            <a:off x="1096920" y="1170000"/>
            <a:ext cx="6553080" cy="1335240"/>
          </a:xfrm>
          <a:prstGeom prst="rect">
            <a:avLst/>
          </a:prstGeom>
          <a:ln w="0">
            <a:noFill/>
          </a:ln>
        </p:spPr>
      </p:pic>
      <p:sp>
        <p:nvSpPr>
          <p:cNvPr id="269" name="Action Button: Forward or Next 3">
            <a:hlinkClick r:id="" action="ppaction://hlinkshowjump?jump=nextslide"/>
          </p:cNvPr>
          <p:cNvSpPr/>
          <p:nvPr/>
        </p:nvSpPr>
        <p:spPr>
          <a:xfrm>
            <a:off x="7772400" y="5867280"/>
            <a:ext cx="838080" cy="738360"/>
          </a:xfrm>
          <a:custGeom>
            <a:avLst/>
            <a:gdLst>
              <a:gd name="textAreaLeft" fmla="*/ 47520 w 838080"/>
              <a:gd name="textAreaRight" fmla="*/ 790560 w 838080"/>
              <a:gd name="textAreaTop" fmla="*/ 47880 h 738360"/>
              <a:gd name="textAreaBottom" fmla="*/ 690840 h 738360"/>
            </a:gdLst>
            <a:ahLst/>
            <a:rect l="textAreaLeft" t="textAreaTop" r="textAreaRight" b="textAreaBottom"/>
            <a:pathLst>
              <a:path w="24516" h="21600">
                <a:moveTo>
                  <a:pt x="0" y="0"/>
                </a:moveTo>
                <a:lnTo>
                  <a:pt x="24516" y="0"/>
                </a:lnTo>
                <a:lnTo>
                  <a:pt x="24516" y="21600"/>
                </a:lnTo>
                <a:lnTo>
                  <a:pt x="0" y="21600"/>
                </a:lnTo>
                <a:close/>
              </a:path>
              <a:path fill="lightenLess" w="24516" h="21600">
                <a:moveTo>
                  <a:pt x="0" y="0"/>
                </a:moveTo>
                <a:lnTo>
                  <a:pt x="24516" y="0"/>
                </a:lnTo>
                <a:lnTo>
                  <a:pt x="23116" y="1400"/>
                </a:lnTo>
                <a:lnTo>
                  <a:pt x="1400" y="1400"/>
                </a:lnTo>
                <a:close/>
              </a:path>
              <a:path fill="darken" w="24516" h="21600">
                <a:moveTo>
                  <a:pt x="24516" y="0"/>
                </a:moveTo>
                <a:lnTo>
                  <a:pt x="24516" y="21600"/>
                </a:lnTo>
                <a:lnTo>
                  <a:pt x="23116" y="20200"/>
                </a:lnTo>
                <a:lnTo>
                  <a:pt x="23116" y="1400"/>
                </a:lnTo>
                <a:close/>
              </a:path>
              <a:path fill="darkenLess" w="24516" h="21600">
                <a:moveTo>
                  <a:pt x="245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16" y="20200"/>
                </a:lnTo>
                <a:close/>
              </a:path>
              <a:path fill="lighten" w="245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516" h="21600">
                <a:moveTo>
                  <a:pt x="5251" y="3794"/>
                </a:moveTo>
                <a:lnTo>
                  <a:pt x="19264" y="10800"/>
                </a:lnTo>
                <a:lnTo>
                  <a:pt x="5251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4"/>
          <p:cNvSpPr/>
          <p:nvPr/>
        </p:nvSpPr>
        <p:spPr>
          <a:xfrm>
            <a:off x="7480440" y="548640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Box 1"/>
          <p:cNvSpPr/>
          <p:nvPr/>
        </p:nvSpPr>
        <p:spPr>
          <a:xfrm>
            <a:off x="1006920" y="762120"/>
            <a:ext cx="3042720" cy="4597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Eurostile"/>
                <a:ea typeface="Aharoni"/>
              </a:rPr>
              <a:t>QUICK QUIZ  #2 . . </a:t>
            </a:r>
            <a:r>
              <a:rPr b="1" lang="en-US" sz="2400" spc="-1" strike="noStrike">
                <a:solidFill>
                  <a:srgbClr val="000000"/>
                </a:solidFill>
                <a:latin typeface="Eurostile"/>
                <a:ea typeface="Aharon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2" descr="C:\Users\mary beth\AppData\Local\Microsoft\Windows\Temporary Internet Files\Content.IE5\4ZXUCO1Y\MC900293876[1].wmf"/>
          <p:cNvPicPr/>
          <p:nvPr/>
        </p:nvPicPr>
        <p:blipFill>
          <a:blip r:embed="rId1"/>
          <a:stretch/>
        </p:blipFill>
        <p:spPr>
          <a:xfrm>
            <a:off x="5867280" y="3581280"/>
            <a:ext cx="1827360" cy="1820880"/>
          </a:xfrm>
          <a:prstGeom prst="rect">
            <a:avLst/>
          </a:prstGeom>
          <a:ln w="0">
            <a:noFill/>
          </a:ln>
        </p:spPr>
      </p:pic>
      <p:grpSp>
        <p:nvGrpSpPr>
          <p:cNvPr id="273" name="TextBox 3"/>
          <p:cNvGrpSpPr/>
          <p:nvPr/>
        </p:nvGrpSpPr>
        <p:grpSpPr>
          <a:xfrm>
            <a:off x="-26640" y="1603440"/>
            <a:ext cx="8309880" cy="1352520"/>
            <a:chOff x="-26640" y="1603440"/>
            <a:chExt cx="8309880" cy="1352520"/>
          </a:xfrm>
        </p:grpSpPr>
        <p:pic>
          <p:nvPicPr>
            <p:cNvPr id="274" name="TextBox 3" descr=""/>
            <p:cNvPicPr/>
            <p:nvPr/>
          </p:nvPicPr>
          <p:blipFill>
            <a:blip r:embed="rId2"/>
            <a:stretch/>
          </p:blipFill>
          <p:spPr>
            <a:xfrm>
              <a:off x="317520" y="1603440"/>
              <a:ext cx="7551720" cy="13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-26640" y="1676520"/>
              <a:ext cx="8309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Eurostile"/>
                </a:rPr>
                <a:t>When a cyberbully steals a victim’s account passwor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Eurostile"/>
                </a:rPr>
                <a:t>And posts false messages to cause problems is 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Eurostile"/>
                </a:rPr>
                <a:t>Example of . .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TextBox 5"/>
          <p:cNvSpPr/>
          <p:nvPr/>
        </p:nvSpPr>
        <p:spPr>
          <a:xfrm>
            <a:off x="483120" y="3505320"/>
            <a:ext cx="256896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A. Direct At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6">
            <a:hlinkClick r:id="rId3" action="ppaction://hlinksldjump"/>
          </p:cNvPr>
          <p:cNvSpPr/>
          <p:nvPr/>
        </p:nvSpPr>
        <p:spPr>
          <a:xfrm>
            <a:off x="318240" y="4419720"/>
            <a:ext cx="406548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B. Cyberbullying by Prox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ction Button: Back or Previous 7">
            <a:hlinkClick r:id="" action="ppaction://hlinkshowjump?jump=previousslide"/>
          </p:cNvPr>
          <p:cNvSpPr/>
          <p:nvPr/>
        </p:nvSpPr>
        <p:spPr>
          <a:xfrm>
            <a:off x="380880" y="5815080"/>
            <a:ext cx="762120" cy="662040"/>
          </a:xfrm>
          <a:custGeom>
            <a:avLst/>
            <a:gdLst>
              <a:gd name="textAreaLeft" fmla="*/ 42840 w 762120"/>
              <a:gd name="textAreaRight" fmla="*/ 719280 w 76212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4863" h="21600">
                <a:moveTo>
                  <a:pt x="0" y="0"/>
                </a:moveTo>
                <a:lnTo>
                  <a:pt x="24863" y="0"/>
                </a:lnTo>
                <a:lnTo>
                  <a:pt x="24863" y="21600"/>
                </a:lnTo>
                <a:lnTo>
                  <a:pt x="0" y="21600"/>
                </a:lnTo>
                <a:close/>
              </a:path>
              <a:path fill="lightenLess" w="24863" h="21600">
                <a:moveTo>
                  <a:pt x="0" y="0"/>
                </a:moveTo>
                <a:lnTo>
                  <a:pt x="24863" y="0"/>
                </a:lnTo>
                <a:lnTo>
                  <a:pt x="23463" y="1400"/>
                </a:lnTo>
                <a:lnTo>
                  <a:pt x="1400" y="1400"/>
                </a:lnTo>
                <a:close/>
              </a:path>
              <a:path fill="darken" w="24863" h="21600">
                <a:moveTo>
                  <a:pt x="24863" y="0"/>
                </a:moveTo>
                <a:lnTo>
                  <a:pt x="24863" y="21600"/>
                </a:lnTo>
                <a:lnTo>
                  <a:pt x="23463" y="20200"/>
                </a:lnTo>
                <a:lnTo>
                  <a:pt x="23463" y="1400"/>
                </a:lnTo>
                <a:close/>
              </a:path>
              <a:path fill="darkenLess" w="24863" h="21600">
                <a:moveTo>
                  <a:pt x="248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63" y="20200"/>
                </a:lnTo>
                <a:close/>
              </a:path>
              <a:path fill="lighten" w="248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63" h="21600">
                <a:moveTo>
                  <a:pt x="5425" y="10800"/>
                </a:moveTo>
                <a:lnTo>
                  <a:pt x="19438" y="3794"/>
                </a:lnTo>
                <a:lnTo>
                  <a:pt x="19438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ction Button: Forward or Next 8">
            <a:hlinkClick r:id="" action="ppaction://hlinkshowjump?jump=nextslide"/>
          </p:cNvPr>
          <p:cNvSpPr/>
          <p:nvPr/>
        </p:nvSpPr>
        <p:spPr>
          <a:xfrm>
            <a:off x="8077320" y="5943600"/>
            <a:ext cx="761760" cy="609480"/>
          </a:xfrm>
          <a:custGeom>
            <a:avLst/>
            <a:gdLst>
              <a:gd name="textAreaLeft" fmla="*/ 39240 w 761760"/>
              <a:gd name="textAreaRight" fmla="*/ 722520 w 7617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994" h="21600">
                <a:moveTo>
                  <a:pt x="0" y="0"/>
                </a:moveTo>
                <a:lnTo>
                  <a:pt x="26994" y="0"/>
                </a:lnTo>
                <a:lnTo>
                  <a:pt x="26994" y="21600"/>
                </a:lnTo>
                <a:lnTo>
                  <a:pt x="0" y="21600"/>
                </a:lnTo>
                <a:close/>
              </a:path>
              <a:path fill="lightenLess" w="26994" h="21600">
                <a:moveTo>
                  <a:pt x="0" y="0"/>
                </a:moveTo>
                <a:lnTo>
                  <a:pt x="26994" y="0"/>
                </a:lnTo>
                <a:lnTo>
                  <a:pt x="25594" y="1400"/>
                </a:lnTo>
                <a:lnTo>
                  <a:pt x="1400" y="1400"/>
                </a:lnTo>
                <a:close/>
              </a:path>
              <a:path fill="darken" w="26994" h="21600">
                <a:moveTo>
                  <a:pt x="26994" y="0"/>
                </a:moveTo>
                <a:lnTo>
                  <a:pt x="26994" y="21600"/>
                </a:lnTo>
                <a:lnTo>
                  <a:pt x="25594" y="20200"/>
                </a:lnTo>
                <a:lnTo>
                  <a:pt x="25594" y="1400"/>
                </a:lnTo>
                <a:close/>
              </a:path>
              <a:path fill="darkenLess" w="26994" h="21600">
                <a:moveTo>
                  <a:pt x="26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4" y="20200"/>
                </a:lnTo>
                <a:close/>
              </a:path>
              <a:path fill="lighten" w="26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4" h="21600">
                <a:moveTo>
                  <a:pt x="6490" y="3794"/>
                </a:moveTo>
                <a:lnTo>
                  <a:pt x="20503" y="10800"/>
                </a:lnTo>
                <a:lnTo>
                  <a:pt x="6490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C:\Users\mary beth\AppData\Local\Microsoft\Windows\Temporary Internet Files\Content.IE5\4ZXUCO1Y\MC900293876[1].wmf"/>
          <p:cNvPicPr/>
          <p:nvPr/>
        </p:nvPicPr>
        <p:blipFill>
          <a:blip r:embed="rId1"/>
          <a:stretch/>
        </p:blipFill>
        <p:spPr>
          <a:xfrm>
            <a:off x="3200400" y="2819520"/>
            <a:ext cx="2514600" cy="2506680"/>
          </a:xfrm>
          <a:prstGeom prst="rect">
            <a:avLst/>
          </a:prstGeom>
          <a:ln w="0">
            <a:noFill/>
          </a:ln>
        </p:spPr>
      </p:pic>
      <p:pic>
        <p:nvPicPr>
          <p:cNvPr id="281" name="TextBox 2" descr=""/>
          <p:cNvPicPr/>
          <p:nvPr/>
        </p:nvPicPr>
        <p:blipFill>
          <a:blip r:embed="rId2"/>
          <a:stretch/>
        </p:blipFill>
        <p:spPr>
          <a:xfrm>
            <a:off x="554040" y="865080"/>
            <a:ext cx="8163000" cy="1335240"/>
          </a:xfrm>
          <a:prstGeom prst="rect">
            <a:avLst/>
          </a:prstGeom>
          <a:ln w="0">
            <a:noFill/>
          </a:ln>
        </p:spPr>
      </p:pic>
      <p:sp>
        <p:nvSpPr>
          <p:cNvPr id="282" name="Action Button: Back or Previous 3">
            <a:hlinkClick r:id="" action="ppaction://hlinkshowjump?jump=previousslide"/>
          </p:cNvPr>
          <p:cNvSpPr/>
          <p:nvPr/>
        </p:nvSpPr>
        <p:spPr>
          <a:xfrm>
            <a:off x="380880" y="5715000"/>
            <a:ext cx="685800" cy="7621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762120"/>
              <a:gd name="textAreaBottom" fmla="*/ 717840 h 762120"/>
            </a:gdLst>
            <a:ahLst/>
            <a:rect l="textAreaLeft" t="textAreaTop" r="textAreaRight" b="textAreaBottom"/>
            <a:pathLst>
              <a:path w="21600" h="24003">
                <a:moveTo>
                  <a:pt x="0" y="0"/>
                </a:moveTo>
                <a:lnTo>
                  <a:pt x="21600" y="0"/>
                </a:lnTo>
                <a:lnTo>
                  <a:pt x="21600" y="24003"/>
                </a:lnTo>
                <a:lnTo>
                  <a:pt x="0" y="24003"/>
                </a:lnTo>
                <a:close/>
              </a:path>
              <a:path fill="lightenLess" w="21600" h="240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03">
                <a:moveTo>
                  <a:pt x="21600" y="0"/>
                </a:moveTo>
                <a:lnTo>
                  <a:pt x="21600" y="24003"/>
                </a:lnTo>
                <a:lnTo>
                  <a:pt x="20200" y="22603"/>
                </a:lnTo>
                <a:lnTo>
                  <a:pt x="20200" y="1400"/>
                </a:lnTo>
                <a:close/>
              </a:path>
              <a:path fill="darkenLess" w="21600" h="24003">
                <a:moveTo>
                  <a:pt x="21600" y="24003"/>
                </a:moveTo>
                <a:lnTo>
                  <a:pt x="0" y="24003"/>
                </a:lnTo>
                <a:lnTo>
                  <a:pt x="1400" y="22603"/>
                </a:lnTo>
                <a:lnTo>
                  <a:pt x="20200" y="22603"/>
                </a:lnTo>
                <a:close/>
              </a:path>
              <a:path fill="lighten" w="21600" h="24003">
                <a:moveTo>
                  <a:pt x="0" y="240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03"/>
                </a:lnTo>
                <a:close/>
              </a:path>
              <a:path fill="darken" w="21600" h="24003">
                <a:moveTo>
                  <a:pt x="3794" y="12001"/>
                </a:moveTo>
                <a:lnTo>
                  <a:pt x="17806" y="4995"/>
                </a:lnTo>
                <a:lnTo>
                  <a:pt x="17806" y="19008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C:\Users\mary beth\AppData\Local\Microsoft\Windows\Temporary Internet Files\Content.IE5\4ZXUCO1Y\MC900293876[1].wmf"/>
          <p:cNvPicPr/>
          <p:nvPr/>
        </p:nvPicPr>
        <p:blipFill>
          <a:blip r:embed="rId1"/>
          <a:stretch/>
        </p:blipFill>
        <p:spPr>
          <a:xfrm>
            <a:off x="3200400" y="3048120"/>
            <a:ext cx="2514600" cy="2506680"/>
          </a:xfrm>
          <a:prstGeom prst="rect">
            <a:avLst/>
          </a:prstGeom>
          <a:ln w="0">
            <a:noFill/>
          </a:ln>
        </p:spPr>
      </p:pic>
      <p:pic>
        <p:nvPicPr>
          <p:cNvPr id="284" name="TextBox 2" descr=""/>
          <p:cNvPicPr/>
          <p:nvPr/>
        </p:nvPicPr>
        <p:blipFill>
          <a:blip r:embed="rId2"/>
          <a:stretch/>
        </p:blipFill>
        <p:spPr>
          <a:xfrm>
            <a:off x="1096920" y="1170000"/>
            <a:ext cx="6553080" cy="1335240"/>
          </a:xfrm>
          <a:prstGeom prst="rect">
            <a:avLst/>
          </a:prstGeom>
          <a:ln w="0">
            <a:noFill/>
          </a:ln>
        </p:spPr>
      </p:pic>
      <p:sp>
        <p:nvSpPr>
          <p:cNvPr id="285" name="Action Button: Forward or Next 3">
            <a:hlinkClick r:id="" action="ppaction://hlinkshowjump?jump=nextslide"/>
          </p:cNvPr>
          <p:cNvSpPr/>
          <p:nvPr/>
        </p:nvSpPr>
        <p:spPr>
          <a:xfrm>
            <a:off x="7772400" y="5867280"/>
            <a:ext cx="838080" cy="738360"/>
          </a:xfrm>
          <a:custGeom>
            <a:avLst/>
            <a:gdLst>
              <a:gd name="textAreaLeft" fmla="*/ 47520 w 838080"/>
              <a:gd name="textAreaRight" fmla="*/ 790560 w 838080"/>
              <a:gd name="textAreaTop" fmla="*/ 47880 h 738360"/>
              <a:gd name="textAreaBottom" fmla="*/ 690840 h 738360"/>
            </a:gdLst>
            <a:ahLst/>
            <a:rect l="textAreaLeft" t="textAreaTop" r="textAreaRight" b="textAreaBottom"/>
            <a:pathLst>
              <a:path w="24516" h="21600">
                <a:moveTo>
                  <a:pt x="0" y="0"/>
                </a:moveTo>
                <a:lnTo>
                  <a:pt x="24516" y="0"/>
                </a:lnTo>
                <a:lnTo>
                  <a:pt x="24516" y="21600"/>
                </a:lnTo>
                <a:lnTo>
                  <a:pt x="0" y="21600"/>
                </a:lnTo>
                <a:close/>
              </a:path>
              <a:path fill="lightenLess" w="24516" h="21600">
                <a:moveTo>
                  <a:pt x="0" y="0"/>
                </a:moveTo>
                <a:lnTo>
                  <a:pt x="24516" y="0"/>
                </a:lnTo>
                <a:lnTo>
                  <a:pt x="23116" y="1400"/>
                </a:lnTo>
                <a:lnTo>
                  <a:pt x="1400" y="1400"/>
                </a:lnTo>
                <a:close/>
              </a:path>
              <a:path fill="darken" w="24516" h="21600">
                <a:moveTo>
                  <a:pt x="24516" y="0"/>
                </a:moveTo>
                <a:lnTo>
                  <a:pt x="24516" y="21600"/>
                </a:lnTo>
                <a:lnTo>
                  <a:pt x="23116" y="20200"/>
                </a:lnTo>
                <a:lnTo>
                  <a:pt x="23116" y="1400"/>
                </a:lnTo>
                <a:close/>
              </a:path>
              <a:path fill="darkenLess" w="24516" h="21600">
                <a:moveTo>
                  <a:pt x="245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16" y="20200"/>
                </a:lnTo>
                <a:close/>
              </a:path>
              <a:path fill="lighten" w="245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516" h="21600">
                <a:moveTo>
                  <a:pt x="5251" y="3794"/>
                </a:moveTo>
                <a:lnTo>
                  <a:pt x="19264" y="10800"/>
                </a:lnTo>
                <a:lnTo>
                  <a:pt x="5251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7543800" y="5497560"/>
            <a:ext cx="12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01:23:17Z</dcterms:created>
  <dc:creator>mary beth</dc:creator>
  <dc:description/>
  <dc:language>en-US</dc:language>
  <cp:lastModifiedBy>mary beth</cp:lastModifiedBy>
  <dcterms:modified xsi:type="dcterms:W3CDTF">2010-07-27T01:49:09Z</dcterms:modified>
  <cp:revision>33</cp:revision>
  <dc:subject/>
  <dc:title>Slide 1</dc:title>
</cp:coreProperties>
</file>