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2ECA-4A20-4CD0-8A9A-38111B01E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BE13-09B4-41F4-A9B3-6A29EA687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16CF-611A-460A-AB83-2DF1C36E0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B1DD-8099-4174-8A28-ED7C017CC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03C8-C916-4A79-AE65-265323013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B35E-AB46-4756-9D3C-9A070832C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02BA-CC9B-4A1B-B4F8-6D84EC422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332A-1B71-4EC0-BF96-C07FCB198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0C96-6583-484A-94A1-1F559E845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0ED5-CA4C-4AD8-916F-188FFFDF0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650-5FED-4C23-9003-FC20D739C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E33-0BCD-4FF4-9416-A57EE886E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84F5-7645-4519-9136-9396C5298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D153-DD20-4A3A-8E68-28D6835A8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CC53-97FD-4A25-8CBF-A47F2609A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C68-AC2C-4EDF-9227-4AA2AD3F3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7B3F-E70D-4603-9C62-B5522CCC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5F12-EA0E-43BC-AA8A-073B9F04B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AA15-BD3A-42DF-9F0D-D3E8CAEB3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E7E-DF55-468E-B33F-5AA78EA16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CC3-EBE4-4B2E-8768-D19355CF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BAD-AEC6-4AB4-87D4-A1FB667A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D2E-BAB9-46D8-BE67-AE1457D6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352-1A1B-44A2-8BB1-29C80EEF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EAAD-A916-4505-A321-0EAF8928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C76F-3962-4F0F-BE49-4516D387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E2A3-BCFD-457E-929B-C572A37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B169-5B07-406F-A4F3-4F1AF76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6C9D-B947-4CB3-9D3D-AC9BD256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A59E-9F09-40B8-B983-E6CC0F1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B3DC-0944-497C-B8D5-234A625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4F9-0E8C-40F7-BF7B-437445E6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1CD-8904-4569-BE2D-C6AFA4A6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969C-864F-4B60-8320-0BB9A916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9AAD-579F-4E55-A813-6E884336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EB07-3193-4FEF-9652-86E2449A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E189-7AD2-47FA-975D-5B1EC7F0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95C42-72F4-4241-8DFC-B2AE730A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4F99-F0AA-4539-B112-DD2C76FD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31EA-090C-4D47-81D3-88B67E32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EE08-746A-49B8-A9F1-23FE3A2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9168-37A5-44EB-B3B5-8903E0F5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370-DDE5-451C-99A3-9A780E03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0FC7-649D-4EB1-BE6B-4FAD407F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D71D-7653-4CEC-879F-EDE133A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910A-C47C-43FF-8E21-87221B8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9024-8554-4C8F-81D2-EF877A3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B689-66C0-42A1-B992-C4C908D1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4130-5BB6-4D97-8604-297822C2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A7BE-6CB0-4136-9DC9-5D53EB3A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D364-3581-4B12-89B5-A21D24FC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0302-2CBB-4E90-93D6-28E1B1D7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8EF6-43A0-4DBC-B197-3CADEBE7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7DA-8B4F-4DA1-AE8F-9202A45D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2081-D570-4C49-A607-5B6B79D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CA79-21DF-4527-A5F8-0BC10C64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FF5E-6897-4DD5-A4A0-96223E5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943B-5D0E-4B3F-91BA-E659287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6286-EBD9-4296-A6C2-F61A206E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3052-B3D2-4D63-B470-CDACEDA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06F7-EEB4-4435-BB8D-E15B0BC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9801-8E69-4D86-ADDA-AD655ED2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B1021-E567-4125-A4B6-3CAC037F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D57E-899E-44A7-B603-A91022D5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398-03C4-438F-AFE4-C68E801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CB86-E6D3-4DB3-8FF5-66789B14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9B77-5D58-47FB-861E-5E98927E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F0A9-11F4-4003-A41A-3DC03A27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8A35-04D5-463A-8331-34CF4457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59088-9023-4642-AC8E-9CD1F50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9CFE-0FEF-42B4-9927-996F995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50CD-9E9C-4657-B63D-1B4DDFF7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2A49-16E1-4025-91AA-B578758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9A0F-0040-4179-B620-DD22F06D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EC21-617A-45B4-AF41-07F48B9A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D9B-22DB-4796-908A-F15F760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C7FF-983C-433A-9DA4-B8BCB54E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FE9-1FEF-4676-9B14-A45EADB2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287-2328-426E-9493-BC46269E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F7C-B7EE-4950-A332-271EB7BA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4604-4B15-413A-8D3F-0638C86B2F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7665-030E-4D13-BE2D-694DA7E87F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87E6-766A-414A-9AEB-2C3EE40674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7304-4483-4819-A8C3-C6949DA1E3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A86B-9BE5-4FE8-AA6B-BB565F22B6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redkids.org/ktt_universal/games/javascript/cyberbullying_quiz_1/index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stopcyberbullying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stopcyberbullying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5" descr=""/>
          <p:cNvPicPr/>
          <p:nvPr/>
        </p:nvPicPr>
        <p:blipFill>
          <a:blip r:embed="rId1"/>
          <a:stretch/>
        </p:blipFill>
        <p:spPr>
          <a:xfrm>
            <a:off x="1006560" y="347760"/>
            <a:ext cx="6960960" cy="2030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980520" y="3056040"/>
            <a:ext cx="42116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s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ake Olympia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rt Bend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mary beth\AppData\Local\Microsoft\Windows\Temporary Internet Files\Content.IE5\OFMNSCOL\MC900293876[1].wmf"/>
          <p:cNvPicPr/>
          <p:nvPr/>
        </p:nvPicPr>
        <p:blipFill>
          <a:blip r:embed="rId2"/>
          <a:stretch/>
        </p:blipFill>
        <p:spPr>
          <a:xfrm>
            <a:off x="533520" y="3124080"/>
            <a:ext cx="282240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7924680" y="57913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04920" y="4811760"/>
            <a:ext cx="8458200" cy="67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http://www.wiredkids.org/ktt_universal/games/javascript/cyberbullying_quiz_1/index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353520" y="990720"/>
            <a:ext cx="47300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HAVE  YOU EVER B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Eurostile"/>
              </a:rPr>
              <a:t>CYBER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TextBox 3"/>
          <p:cNvGrpSpPr/>
          <p:nvPr/>
        </p:nvGrpSpPr>
        <p:grpSpPr>
          <a:xfrm>
            <a:off x="235080" y="2743200"/>
            <a:ext cx="3407040" cy="987480"/>
            <a:chOff x="235080" y="2743200"/>
            <a:chExt cx="3407040" cy="987480"/>
          </a:xfrm>
        </p:grpSpPr>
        <p:pic>
          <p:nvPicPr>
            <p:cNvPr id="290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2743200"/>
              <a:ext cx="3206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5080" y="2819520"/>
              <a:ext cx="340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Try a qui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Eurostile"/>
                </a:rPr>
                <a:t>Click the link below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3" descr="C:\Users\mary beth\AppData\Local\Microsoft\Windows\Temporary Internet Files\Content.IE5\9W7UX5WD\MC900293876[1].wmf"/>
          <p:cNvPicPr/>
          <p:nvPr/>
        </p:nvPicPr>
        <p:blipFill>
          <a:blip r:embed="rId3"/>
          <a:stretch/>
        </p:blipFill>
        <p:spPr>
          <a:xfrm>
            <a:off x="5943600" y="762120"/>
            <a:ext cx="22082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6"/>
          <p:cNvGrpSpPr/>
          <p:nvPr/>
        </p:nvGrpSpPr>
        <p:grpSpPr>
          <a:xfrm>
            <a:off x="474480" y="4151160"/>
            <a:ext cx="7733520" cy="500040"/>
            <a:chOff x="474480" y="4151160"/>
            <a:chExt cx="7733520" cy="500040"/>
          </a:xfrm>
        </p:grpSpPr>
        <p:pic>
          <p:nvPicPr>
            <p:cNvPr id="294" name="TextBox 6" descr=""/>
            <p:cNvPicPr/>
            <p:nvPr/>
          </p:nvPicPr>
          <p:blipFill>
            <a:blip r:embed="rId4"/>
            <a:stretch/>
          </p:blipFill>
          <p:spPr>
            <a:xfrm>
              <a:off x="895320" y="4151160"/>
              <a:ext cx="68533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74480" y="420228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Eurostile"/>
                </a:rPr>
                <a:t>When finished just close the window and continue with the les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ction Button: Forward or Next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IDEAS TO PREVENT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Eurostile"/>
              </a:rPr>
              <a:t>CYBERBULLYING . . 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733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Technolog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Franklin Gothic Book"/>
              </a:rPr>
              <a:t>Through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Setting software controls to limit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ing fil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kid-safe web brows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Add monitor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Learn and practice online safe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Use good Netiquet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Have computers in public places where monitors are visi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urostile"/>
              </a:rPr>
              <a:t>Report incidents immediat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:\Users\mary beth\AppData\Local\Microsoft\Windows\Temporary Internet Files\Content.IE5\9W7UX5WD\MC900293876[1].wmf"/>
          <p:cNvPicPr/>
          <p:nvPr/>
        </p:nvPicPr>
        <p:blipFill>
          <a:blip r:embed="rId1"/>
          <a:stretch/>
        </p:blipFill>
        <p:spPr>
          <a:xfrm>
            <a:off x="7086600" y="15876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1356120" y="6172200"/>
            <a:ext cx="63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uggestions retrieved from cyberbullyingpreventi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ction Button: Back or Previous 9">
            <a:hlinkClick r:id="" action="ppaction://hlinkshowjump?jump=previousslide"/>
          </p:cNvPr>
          <p:cNvSpPr/>
          <p:nvPr/>
        </p:nvSpPr>
        <p:spPr>
          <a:xfrm>
            <a:off x="304920" y="5943600"/>
            <a:ext cx="814320" cy="609480"/>
          </a:xfrm>
          <a:custGeom>
            <a:avLst/>
            <a:gdLst>
              <a:gd name="textAreaLeft" fmla="*/ 39240 w 814320"/>
              <a:gd name="textAreaRight" fmla="*/ 775080 w 814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8855" h="21600">
                <a:moveTo>
                  <a:pt x="0" y="0"/>
                </a:moveTo>
                <a:lnTo>
                  <a:pt x="28855" y="0"/>
                </a:lnTo>
                <a:lnTo>
                  <a:pt x="28855" y="21600"/>
                </a:lnTo>
                <a:lnTo>
                  <a:pt x="0" y="21600"/>
                </a:lnTo>
                <a:close/>
              </a:path>
              <a:path fill="lightenLess" w="28855" h="21600">
                <a:moveTo>
                  <a:pt x="0" y="0"/>
                </a:moveTo>
                <a:lnTo>
                  <a:pt x="28855" y="0"/>
                </a:lnTo>
                <a:lnTo>
                  <a:pt x="27455" y="1400"/>
                </a:lnTo>
                <a:lnTo>
                  <a:pt x="1400" y="1400"/>
                </a:lnTo>
                <a:close/>
              </a:path>
              <a:path fill="darken" w="28855" h="21600">
                <a:moveTo>
                  <a:pt x="28855" y="0"/>
                </a:moveTo>
                <a:lnTo>
                  <a:pt x="28855" y="21600"/>
                </a:lnTo>
                <a:lnTo>
                  <a:pt x="27455" y="20200"/>
                </a:lnTo>
                <a:lnTo>
                  <a:pt x="27455" y="1400"/>
                </a:lnTo>
                <a:close/>
              </a:path>
              <a:path fill="darkenLess" w="28855" h="21600">
                <a:moveTo>
                  <a:pt x="28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55" y="20200"/>
                </a:lnTo>
                <a:close/>
              </a:path>
              <a:path fill="lighten" w="28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55" h="21600">
                <a:moveTo>
                  <a:pt x="7421" y="10800"/>
                </a:moveTo>
                <a:lnTo>
                  <a:pt x="21434" y="3794"/>
                </a:lnTo>
                <a:lnTo>
                  <a:pt x="214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ction Button: Forward or Next 10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833760" y="609480"/>
            <a:ext cx="342540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Eurostile"/>
              </a:rPr>
              <a:t>QUICK QUIZ #3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853320" y="457200"/>
            <a:ext cx="1298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09" name="TextBox 3"/>
          <p:cNvGrpSpPr/>
          <p:nvPr/>
        </p:nvGrpSpPr>
        <p:grpSpPr>
          <a:xfrm>
            <a:off x="62640" y="1749600"/>
            <a:ext cx="7639200" cy="1116000"/>
            <a:chOff x="62640" y="1749600"/>
            <a:chExt cx="7639200" cy="1116000"/>
          </a:xfrm>
        </p:grpSpPr>
        <p:pic>
          <p:nvPicPr>
            <p:cNvPr id="310" name="TextBox 3" descr=""/>
            <p:cNvPicPr/>
            <p:nvPr/>
          </p:nvPicPr>
          <p:blipFill>
            <a:blip r:embed="rId2"/>
            <a:stretch/>
          </p:blipFill>
          <p:spPr>
            <a:xfrm>
              <a:off x="365040" y="1749600"/>
              <a:ext cx="695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2640" y="1828800"/>
              <a:ext cx="7639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Which is NOT a good way to prev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technology at schoo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4">
            <a:hlinkClick r:id="rId3" action="ppaction://hlinksldjump"/>
          </p:cNvPr>
          <p:cNvSpPr/>
          <p:nvPr/>
        </p:nvSpPr>
        <p:spPr>
          <a:xfrm>
            <a:off x="670320" y="3352680"/>
            <a:ext cx="26251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Adding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>
            <a:hlinkClick r:id="rId4" action="ppaction://hlinksldjump"/>
          </p:cNvPr>
          <p:cNvSpPr/>
          <p:nvPr/>
        </p:nvSpPr>
        <p:spPr>
          <a:xfrm>
            <a:off x="515160" y="4267080"/>
            <a:ext cx="61851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Allowing students access to My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>
            <a:hlinkClick r:id="rId5" action="ppaction://hlinksldjump"/>
          </p:cNvPr>
          <p:cNvSpPr/>
          <p:nvPr/>
        </p:nvSpPr>
        <p:spPr>
          <a:xfrm>
            <a:off x="567360" y="5105520"/>
            <a:ext cx="469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Add kid-safe web brow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ction Button: Back or Previous 8">
            <a:hlinkClick r:id="" action="ppaction://hlinkshowjump?jump=previousslide"/>
          </p:cNvPr>
          <p:cNvSpPr/>
          <p:nvPr/>
        </p:nvSpPr>
        <p:spPr>
          <a:xfrm>
            <a:off x="304920" y="5867280"/>
            <a:ext cx="738000" cy="7621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1600" h="22306">
                <a:moveTo>
                  <a:pt x="0" y="0"/>
                </a:moveTo>
                <a:lnTo>
                  <a:pt x="21600" y="0"/>
                </a:lnTo>
                <a:lnTo>
                  <a:pt x="21600" y="22306"/>
                </a:lnTo>
                <a:lnTo>
                  <a:pt x="0" y="22306"/>
                </a:lnTo>
                <a:close/>
              </a:path>
              <a:path fill="lightenLess" w="21600" h="223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06">
                <a:moveTo>
                  <a:pt x="21600" y="0"/>
                </a:moveTo>
                <a:lnTo>
                  <a:pt x="21600" y="22306"/>
                </a:lnTo>
                <a:lnTo>
                  <a:pt x="20200" y="20906"/>
                </a:lnTo>
                <a:lnTo>
                  <a:pt x="20200" y="1400"/>
                </a:lnTo>
                <a:close/>
              </a:path>
              <a:path fill="darkenLess" w="21600" h="22306">
                <a:moveTo>
                  <a:pt x="21600" y="22306"/>
                </a:moveTo>
                <a:lnTo>
                  <a:pt x="0" y="22306"/>
                </a:lnTo>
                <a:lnTo>
                  <a:pt x="1400" y="20906"/>
                </a:lnTo>
                <a:lnTo>
                  <a:pt x="20200" y="20906"/>
                </a:lnTo>
                <a:close/>
              </a:path>
              <a:path fill="lighten" w="21600" h="22306">
                <a:moveTo>
                  <a:pt x="0" y="223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06"/>
                </a:lnTo>
                <a:close/>
              </a:path>
              <a:path fill="darken" w="21600" h="22306">
                <a:moveTo>
                  <a:pt x="3794" y="11153"/>
                </a:moveTo>
                <a:lnTo>
                  <a:pt x="17806" y="4146"/>
                </a:lnTo>
                <a:lnTo>
                  <a:pt x="17806" y="18159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ction Button: Forward or Next 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19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779760" y="685800"/>
            <a:ext cx="29635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#4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6775560" y="380880"/>
            <a:ext cx="13762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6" name="TextBox 3"/>
          <p:cNvGrpSpPr/>
          <p:nvPr/>
        </p:nvGrpSpPr>
        <p:grpSpPr>
          <a:xfrm>
            <a:off x="1440" y="1749600"/>
            <a:ext cx="7826760" cy="1116000"/>
            <a:chOff x="1440" y="1749600"/>
            <a:chExt cx="7826760" cy="1116000"/>
          </a:xfrm>
        </p:grpSpPr>
        <p:pic>
          <p:nvPicPr>
            <p:cNvPr id="327" name="TextBox 3" descr=""/>
            <p:cNvPicPr/>
            <p:nvPr/>
          </p:nvPicPr>
          <p:blipFill>
            <a:blip r:embed="rId2"/>
            <a:stretch/>
          </p:blipFill>
          <p:spPr>
            <a:xfrm>
              <a:off x="285840" y="1749600"/>
              <a:ext cx="7169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40" y="1828800"/>
              <a:ext cx="782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What is a good way for students to prev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Eurostile"/>
                </a:rPr>
                <a:t>Cyberbullying through educatio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4">
            <a:hlinkClick r:id="rId3" action="ppaction://hlinksldjump"/>
          </p:cNvPr>
          <p:cNvSpPr/>
          <p:nvPr/>
        </p:nvSpPr>
        <p:spPr>
          <a:xfrm>
            <a:off x="263520" y="3429000"/>
            <a:ext cx="6226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Give out personal information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>
            <a:hlinkClick r:id="rId4" action="ppaction://hlinksldjump"/>
          </p:cNvPr>
          <p:cNvSpPr/>
          <p:nvPr/>
        </p:nvSpPr>
        <p:spPr>
          <a:xfrm>
            <a:off x="225720" y="4267080"/>
            <a:ext cx="7884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Start rumors using Gaggle electronic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>
            <a:hlinkClick r:id="rId5" action="ppaction://hlinksldjump"/>
          </p:cNvPr>
          <p:cNvSpPr/>
          <p:nvPr/>
        </p:nvSpPr>
        <p:spPr>
          <a:xfrm>
            <a:off x="209160" y="5105520"/>
            <a:ext cx="70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. Learn and be informed about onlin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533160"/>
          </a:xfrm>
          <a:custGeom>
            <a:avLst/>
            <a:gdLst>
              <a:gd name="textAreaLeft" fmla="*/ 34560 w 814680"/>
              <a:gd name="textAreaRight" fmla="*/ 780120 w 814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10800"/>
                </a:moveTo>
                <a:lnTo>
                  <a:pt x="23505" y="3794"/>
                </a:lnTo>
                <a:lnTo>
                  <a:pt x="23505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ction Button: Forward or Next 8">
            <a:hlinkClick r:id="" action="ppaction://hlinkshowjump?jump=nextslide"/>
          </p:cNvPr>
          <p:cNvSpPr/>
          <p:nvPr/>
        </p:nvSpPr>
        <p:spPr>
          <a:xfrm>
            <a:off x="7848720" y="6019920"/>
            <a:ext cx="890640" cy="53316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6073" h="21600">
                <a:moveTo>
                  <a:pt x="0" y="0"/>
                </a:moveTo>
                <a:lnTo>
                  <a:pt x="36073" y="0"/>
                </a:lnTo>
                <a:lnTo>
                  <a:pt x="36073" y="21600"/>
                </a:lnTo>
                <a:lnTo>
                  <a:pt x="0" y="21600"/>
                </a:lnTo>
                <a:close/>
              </a:path>
              <a:path fill="lightenLess" w="36073" h="21600">
                <a:moveTo>
                  <a:pt x="0" y="0"/>
                </a:moveTo>
                <a:lnTo>
                  <a:pt x="36073" y="0"/>
                </a:lnTo>
                <a:lnTo>
                  <a:pt x="34673" y="1400"/>
                </a:lnTo>
                <a:lnTo>
                  <a:pt x="1400" y="1400"/>
                </a:lnTo>
                <a:close/>
              </a:path>
              <a:path fill="darken" w="36073" h="21600">
                <a:moveTo>
                  <a:pt x="36073" y="0"/>
                </a:moveTo>
                <a:lnTo>
                  <a:pt x="36073" y="21600"/>
                </a:lnTo>
                <a:lnTo>
                  <a:pt x="34673" y="20200"/>
                </a:lnTo>
                <a:lnTo>
                  <a:pt x="34673" y="1400"/>
                </a:lnTo>
                <a:close/>
              </a:path>
              <a:path fill="darkenLess" w="36073" h="21600">
                <a:moveTo>
                  <a:pt x="3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3" y="20200"/>
                </a:lnTo>
                <a:close/>
              </a:path>
              <a:path fill="lighten" w="3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3" h="21600">
                <a:moveTo>
                  <a:pt x="11030" y="3794"/>
                </a:moveTo>
                <a:lnTo>
                  <a:pt x="25043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459720" y="685800"/>
            <a:ext cx="59673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Eurostile"/>
              </a:rPr>
              <a:t>QUESTIONS USED FOR DISCUSSION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685800" y="1633680"/>
            <a:ext cx="6934320" cy="366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Use Gaggle to e-mail me your answers to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If someone posted false information or rumors about you on a social networking site (facebook), w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urostile"/>
              </a:rPr>
              <a:t>should </a:t>
            </a: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urosti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How does Lake O handle cyberbullying incidents? Do you agree or disagree with campus procedures? Ex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3)  Do you share your passwords with other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570960" y="4876920"/>
            <a:ext cx="8003520" cy="7038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You may also use your Gaggle account to send me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urostile"/>
              </a:rPr>
              <a:t>And/or concerns about Cyberbullying . . . I will listen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7010280" y="228600"/>
            <a:ext cx="1528920" cy="1523880"/>
          </a:xfrm>
          <a:prstGeom prst="rect">
            <a:avLst/>
          </a:prstGeom>
          <a:ln w="0">
            <a:noFill/>
          </a:ln>
        </p:spPr>
      </p:pic>
      <p:sp>
        <p:nvSpPr>
          <p:cNvPr id="345" name="Action Button: Back or Previous 5">
            <a:hlinkClick r:id="" action="ppaction://hlinkshowjump?jump=previousslide"/>
          </p:cNvPr>
          <p:cNvSpPr/>
          <p:nvPr/>
        </p:nvSpPr>
        <p:spPr>
          <a:xfrm>
            <a:off x="380880" y="59436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ction Button: Forward or Next 6">
            <a:hlinkClick r:id="" action="ppaction://hlinkshowjump?jump=nextslide"/>
          </p:cNvPr>
          <p:cNvSpPr/>
          <p:nvPr/>
        </p:nvSpPr>
        <p:spPr>
          <a:xfrm>
            <a:off x="8001000" y="59436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2678040" y="60199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y.cooley@fortbend.k12.tx.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9528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778320" y="757080"/>
            <a:ext cx="48668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Eurostile"/>
              </a:rPr>
              <a:t>SOURCES FOR INFORMATION . 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C:\Users\mary beth\AppData\Local\Microsoft\Windows\Temporary Internet Files\Content.IE5\B8764PSK\MC900293876[1].wmf"/>
          <p:cNvPicPr/>
          <p:nvPr/>
        </p:nvPicPr>
        <p:blipFill>
          <a:blip r:embed="rId1"/>
          <a:stretch/>
        </p:blipFill>
        <p:spPr>
          <a:xfrm>
            <a:off x="5943600" y="1219320"/>
            <a:ext cx="24368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TextBox 4"/>
          <p:cNvGrpSpPr/>
          <p:nvPr/>
        </p:nvGrpSpPr>
        <p:grpSpPr>
          <a:xfrm>
            <a:off x="717120" y="1951200"/>
            <a:ext cx="5098680" cy="2938320"/>
            <a:chOff x="717120" y="1951200"/>
            <a:chExt cx="5098680" cy="2938320"/>
          </a:xfrm>
        </p:grpSpPr>
        <p:pic>
          <p:nvPicPr>
            <p:cNvPr id="352" name="TextBox 4" descr=""/>
            <p:cNvPicPr/>
            <p:nvPr/>
          </p:nvPicPr>
          <p:blipFill>
            <a:blip r:embed="rId2"/>
            <a:stretch/>
          </p:blipFill>
          <p:spPr>
            <a:xfrm>
              <a:off x="884160" y="1951200"/>
              <a:ext cx="473544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17120" y="1981080"/>
              <a:ext cx="50986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wiredkids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stopcyberbullying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Eurostile"/>
                </a:rPr>
                <a:t>http://www.cyberbullyingpreventio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TextBox 5" descr=""/>
          <p:cNvPicPr/>
          <p:nvPr/>
        </p:nvPicPr>
        <p:blipFill>
          <a:blip r:embed="rId3"/>
          <a:stretch/>
        </p:blipFill>
        <p:spPr>
          <a:xfrm>
            <a:off x="2822400" y="5132520"/>
            <a:ext cx="4956480" cy="950760"/>
          </a:xfrm>
          <a:prstGeom prst="rect">
            <a:avLst/>
          </a:prstGeom>
          <a:ln w="0">
            <a:noFill/>
          </a:ln>
        </p:spPr>
      </p:pic>
      <p:sp>
        <p:nvSpPr>
          <p:cNvPr id="355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14680" cy="457200"/>
          </a:xfrm>
          <a:custGeom>
            <a:avLst/>
            <a:gdLst>
              <a:gd name="textAreaLeft" fmla="*/ 29520 w 814680"/>
              <a:gd name="textAreaRight" fmla="*/ 785160 w 814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76" h="21600">
                <a:moveTo>
                  <a:pt x="0" y="0"/>
                </a:moveTo>
                <a:lnTo>
                  <a:pt x="38476" y="0"/>
                </a:lnTo>
                <a:lnTo>
                  <a:pt x="38476" y="21600"/>
                </a:lnTo>
                <a:lnTo>
                  <a:pt x="0" y="21600"/>
                </a:lnTo>
                <a:close/>
              </a:path>
              <a:path fill="lightenLess" w="38476" h="21600">
                <a:moveTo>
                  <a:pt x="0" y="0"/>
                </a:moveTo>
                <a:lnTo>
                  <a:pt x="38476" y="0"/>
                </a:lnTo>
                <a:lnTo>
                  <a:pt x="37076" y="1400"/>
                </a:lnTo>
                <a:lnTo>
                  <a:pt x="1400" y="1400"/>
                </a:lnTo>
                <a:close/>
              </a:path>
              <a:path fill="darken" w="38476" h="21600">
                <a:moveTo>
                  <a:pt x="38476" y="0"/>
                </a:moveTo>
                <a:lnTo>
                  <a:pt x="38476" y="21600"/>
                </a:lnTo>
                <a:lnTo>
                  <a:pt x="37076" y="20200"/>
                </a:lnTo>
                <a:lnTo>
                  <a:pt x="37076" y="1400"/>
                </a:lnTo>
                <a:close/>
              </a:path>
              <a:path fill="darkenLess" w="38476" h="21600">
                <a:moveTo>
                  <a:pt x="38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76" y="20200"/>
                </a:lnTo>
                <a:close/>
              </a:path>
              <a:path fill="lighten" w="38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76" h="21600">
                <a:moveTo>
                  <a:pt x="12231" y="10800"/>
                </a:moveTo>
                <a:lnTo>
                  <a:pt x="26244" y="3794"/>
                </a:lnTo>
                <a:lnTo>
                  <a:pt x="2624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594000" y="635040"/>
            <a:ext cx="53560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Eurostile"/>
              </a:rPr>
              <a:t>WHAT IS CYBER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6629400" y="3808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41" name="TextBox 3"/>
          <p:cNvGrpSpPr/>
          <p:nvPr/>
        </p:nvGrpSpPr>
        <p:grpSpPr>
          <a:xfrm>
            <a:off x="48240" y="1908000"/>
            <a:ext cx="7248960" cy="2829240"/>
            <a:chOff x="48240" y="1908000"/>
            <a:chExt cx="7248960" cy="2829240"/>
          </a:xfrm>
        </p:grpSpPr>
        <p:pic>
          <p:nvPicPr>
            <p:cNvPr id="242" name="TextBox 3" descr=""/>
            <p:cNvPicPr/>
            <p:nvPr/>
          </p:nvPicPr>
          <p:blipFill>
            <a:blip r:embed="rId2"/>
            <a:stretch/>
          </p:blipFill>
          <p:spPr>
            <a:xfrm>
              <a:off x="328680" y="1908000"/>
              <a:ext cx="6615000" cy="28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8240" y="1981080"/>
              <a:ext cx="72489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when a teen is threate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and harassed by another teen using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Internet or other digital technolog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“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yberbullying” is usually not a one 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communication and children know it wh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Eurostile"/>
                </a:rPr>
                <a:t>when they see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-45360" y="5105520"/>
            <a:ext cx="6612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finition retrieved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3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ction Button: Forward or Next 5">
            <a:hlinkClick r:id="" action="ppaction://hlinkshowjump?jump=nextslide"/>
          </p:cNvPr>
          <p:cNvSpPr/>
          <p:nvPr/>
        </p:nvSpPr>
        <p:spPr>
          <a:xfrm>
            <a:off x="8077320" y="6043680"/>
            <a:ext cx="761760" cy="58572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8088" h="21600">
                <a:moveTo>
                  <a:pt x="0" y="0"/>
                </a:moveTo>
                <a:lnTo>
                  <a:pt x="28088" y="0"/>
                </a:lnTo>
                <a:lnTo>
                  <a:pt x="28088" y="21600"/>
                </a:lnTo>
                <a:lnTo>
                  <a:pt x="0" y="21600"/>
                </a:lnTo>
                <a:close/>
              </a:path>
              <a:path fill="lightenLess" w="28088" h="21600">
                <a:moveTo>
                  <a:pt x="0" y="0"/>
                </a:moveTo>
                <a:lnTo>
                  <a:pt x="28088" y="0"/>
                </a:lnTo>
                <a:lnTo>
                  <a:pt x="26688" y="1400"/>
                </a:lnTo>
                <a:lnTo>
                  <a:pt x="1400" y="1400"/>
                </a:lnTo>
                <a:close/>
              </a:path>
              <a:path fill="darken" w="28088" h="21600">
                <a:moveTo>
                  <a:pt x="28088" y="0"/>
                </a:moveTo>
                <a:lnTo>
                  <a:pt x="28088" y="21600"/>
                </a:lnTo>
                <a:lnTo>
                  <a:pt x="26688" y="20200"/>
                </a:lnTo>
                <a:lnTo>
                  <a:pt x="26688" y="1400"/>
                </a:lnTo>
                <a:close/>
              </a:path>
              <a:path fill="darkenLess" w="28088" h="21600">
                <a:moveTo>
                  <a:pt x="28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8" y="20200"/>
                </a:lnTo>
                <a:close/>
              </a:path>
              <a:path fill="lighten" w="28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8" h="21600">
                <a:moveTo>
                  <a:pt x="7037" y="3794"/>
                </a:moveTo>
                <a:lnTo>
                  <a:pt x="21050" y="10800"/>
                </a:lnTo>
                <a:lnTo>
                  <a:pt x="7037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ction Button: Back or Previous 6">
            <a:hlinkClick r:id="" action="ppaction://hlinkshowjump?jump=previousslide"/>
          </p:cNvPr>
          <p:cNvSpPr/>
          <p:nvPr/>
        </p:nvSpPr>
        <p:spPr>
          <a:xfrm>
            <a:off x="3808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Eurostile"/>
              </a:rPr>
              <a:t>Two Kinds of Cyberbullying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81bd"/>
                </a:solidFill>
                <a:uFillTx/>
                <a:latin typeface="Eurostile"/>
              </a:rPr>
              <a:t>Direct Attack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sent directly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ant Messa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ve Ga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net Pol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Eurostile"/>
              </a:rPr>
              <a:t>Cyberbullying by Prox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ssages are sent through others to the victi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yberbully gets control of the victim’s account and sends out messages trying to cause problems between the victim and her frien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7467480" y="228600"/>
            <a:ext cx="1370160" cy="136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64240" y="5943600"/>
            <a:ext cx="664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xamples retrieved from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Perpetua"/>
                <a:hlinkClick r:id="rId2"/>
              </a:rPr>
              <a:t>http://www.stopcyberbullying.org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ction Button: Back or Previous 11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ction Button: Forward or Next 12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931320" y="9097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</a:rPr>
              <a:t>QUICK QUIZ  #1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715000" y="3733920"/>
            <a:ext cx="19922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Box 4"/>
          <p:cNvGrpSpPr/>
          <p:nvPr/>
        </p:nvGrpSpPr>
        <p:grpSpPr>
          <a:xfrm>
            <a:off x="-171720" y="1908000"/>
            <a:ext cx="7931880" cy="1352880"/>
            <a:chOff x="-171720" y="1908000"/>
            <a:chExt cx="7931880" cy="1352880"/>
          </a:xfrm>
        </p:grpSpPr>
        <p:pic>
          <p:nvPicPr>
            <p:cNvPr id="259" name="TextBox 4" descr=""/>
            <p:cNvPicPr/>
            <p:nvPr/>
          </p:nvPicPr>
          <p:blipFill>
            <a:blip r:embed="rId2"/>
            <a:stretch/>
          </p:blipFill>
          <p:spPr>
            <a:xfrm>
              <a:off x="244440" y="1908000"/>
              <a:ext cx="703440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-171720" y="1981080"/>
              <a:ext cx="79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True or Fa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Cyberbulling is usually a one time communic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5"/>
          <p:cNvSpPr/>
          <p:nvPr/>
        </p:nvSpPr>
        <p:spPr>
          <a:xfrm>
            <a:off x="2300760" y="3962520"/>
            <a:ext cx="1349640" cy="1136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3" action="ppaction://hlinksldjump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rosti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Eurostile"/>
                <a:hlinkClick r:id="rId4" action="ppaction://hlinksldjump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ction Button: Back or Previous 7">
            <a:hlinkClick r:id="" action="ppaction://hlinkshowjump?jump=previousslide"/>
          </p:cNvPr>
          <p:cNvSpPr/>
          <p:nvPr/>
        </p:nvSpPr>
        <p:spPr>
          <a:xfrm>
            <a:off x="304920" y="60199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ction Button: Forward or Next 8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66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48044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006920" y="762120"/>
            <a:ext cx="30427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Eurostile"/>
                <a:ea typeface="Aharoni"/>
              </a:rPr>
              <a:t>QUICK QUIZ  #2 . . </a:t>
            </a: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5867280" y="3581280"/>
            <a:ext cx="1827360" cy="182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3"/>
          <p:cNvGrpSpPr/>
          <p:nvPr/>
        </p:nvGrpSpPr>
        <p:grpSpPr>
          <a:xfrm>
            <a:off x="-26640" y="1603440"/>
            <a:ext cx="8309880" cy="1352520"/>
            <a:chOff x="-26640" y="1603440"/>
            <a:chExt cx="8309880" cy="1352520"/>
          </a:xfrm>
        </p:grpSpPr>
        <p:pic>
          <p:nvPicPr>
            <p:cNvPr id="274" name="TextBox 3" descr=""/>
            <p:cNvPicPr/>
            <p:nvPr/>
          </p:nvPicPr>
          <p:blipFill>
            <a:blip r:embed="rId2"/>
            <a:stretch/>
          </p:blipFill>
          <p:spPr>
            <a:xfrm>
              <a:off x="317520" y="1603440"/>
              <a:ext cx="75517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-26640" y="1676520"/>
              <a:ext cx="83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When a cyberbully steals a victim’s account pass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And posts false messages to cause problems is 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urostile"/>
                </a:rPr>
                <a:t>Example of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5"/>
          <p:cNvSpPr/>
          <p:nvPr/>
        </p:nvSpPr>
        <p:spPr>
          <a:xfrm>
            <a:off x="483120" y="3505320"/>
            <a:ext cx="25689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A. Direc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>
            <a:hlinkClick r:id="rId3" action="ppaction://hlinksldjump"/>
          </p:cNvPr>
          <p:cNvSpPr/>
          <p:nvPr/>
        </p:nvSpPr>
        <p:spPr>
          <a:xfrm>
            <a:off x="318240" y="4419720"/>
            <a:ext cx="406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B. Cyberbullying by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ction Button: Back or Previous 7">
            <a:hlinkClick r:id="" action="ppaction://hlinkshowjump?jump=previousslide"/>
          </p:cNvPr>
          <p:cNvSpPr/>
          <p:nvPr/>
        </p:nvSpPr>
        <p:spPr>
          <a:xfrm>
            <a:off x="380880" y="58150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ction Button: Forward or Next 8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1" name="TextBox 2" descr=""/>
          <p:cNvPicPr/>
          <p:nvPr/>
        </p:nvPicPr>
        <p:blipFill>
          <a:blip r:embed="rId2"/>
          <a:stretch/>
        </p:blipFill>
        <p:spPr>
          <a:xfrm>
            <a:off x="554040" y="865080"/>
            <a:ext cx="8163000" cy="1335240"/>
          </a:xfrm>
          <a:prstGeom prst="rect">
            <a:avLst/>
          </a:prstGeom>
          <a:ln w="0">
            <a:noFill/>
          </a:ln>
        </p:spPr>
      </p:pic>
      <p:sp>
        <p:nvSpPr>
          <p:cNvPr id="282" name="Action Button: Back or Previous 3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mary beth\AppData\Local\Microsoft\Windows\Temporary Internet Files\Content.IE5\4ZXUCO1Y\MC900293876[1].wmf"/>
          <p:cNvPicPr/>
          <p:nvPr/>
        </p:nvPicPr>
        <p:blipFill>
          <a:blip r:embed="rId1"/>
          <a:stretch/>
        </p:blipFill>
        <p:spPr>
          <a:xfrm>
            <a:off x="3200400" y="3048120"/>
            <a:ext cx="2514600" cy="250668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2" descr=""/>
          <p:cNvPicPr/>
          <p:nvPr/>
        </p:nvPicPr>
        <p:blipFill>
          <a:blip r:embed="rId2"/>
          <a:stretch/>
        </p:blipFill>
        <p:spPr>
          <a:xfrm>
            <a:off x="1096920" y="1170000"/>
            <a:ext cx="6553080" cy="133524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Forward or Next 3">
            <a:hlinkClick r:id="" action="ppaction://hlinkshowjump?jump=nextslide"/>
          </p:cNvPr>
          <p:cNvSpPr/>
          <p:nvPr/>
        </p:nvSpPr>
        <p:spPr>
          <a:xfrm>
            <a:off x="7772400" y="5867280"/>
            <a:ext cx="838080" cy="7383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4516" h="21600">
                <a:moveTo>
                  <a:pt x="0" y="0"/>
                </a:moveTo>
                <a:lnTo>
                  <a:pt x="24516" y="0"/>
                </a:lnTo>
                <a:lnTo>
                  <a:pt x="24516" y="21600"/>
                </a:lnTo>
                <a:lnTo>
                  <a:pt x="0" y="21600"/>
                </a:lnTo>
                <a:close/>
              </a:path>
              <a:path fill="lightenLess" w="24516" h="21600">
                <a:moveTo>
                  <a:pt x="0" y="0"/>
                </a:moveTo>
                <a:lnTo>
                  <a:pt x="24516" y="0"/>
                </a:lnTo>
                <a:lnTo>
                  <a:pt x="23116" y="1400"/>
                </a:lnTo>
                <a:lnTo>
                  <a:pt x="1400" y="1400"/>
                </a:lnTo>
                <a:close/>
              </a:path>
              <a:path fill="darken" w="24516" h="21600">
                <a:moveTo>
                  <a:pt x="24516" y="0"/>
                </a:moveTo>
                <a:lnTo>
                  <a:pt x="24516" y="21600"/>
                </a:lnTo>
                <a:lnTo>
                  <a:pt x="23116" y="20200"/>
                </a:lnTo>
                <a:lnTo>
                  <a:pt x="23116" y="1400"/>
                </a:lnTo>
                <a:close/>
              </a:path>
              <a:path fill="darkenLess" w="24516" h="21600">
                <a:moveTo>
                  <a:pt x="24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6" y="20200"/>
                </a:lnTo>
                <a:close/>
              </a:path>
              <a:path fill="lighten" w="24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6" h="21600">
                <a:moveTo>
                  <a:pt x="5251" y="3794"/>
                </a:moveTo>
                <a:lnTo>
                  <a:pt x="19264" y="10800"/>
                </a:lnTo>
                <a:lnTo>
                  <a:pt x="5251" y="17806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43800" y="54975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urostile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1:23:17Z</dcterms:created>
  <dc:creator>mary beth</dc:creator>
  <dc:description/>
  <dc:language>en-US</dc:language>
  <cp:lastModifiedBy>mary beth</cp:lastModifiedBy>
  <dcterms:modified xsi:type="dcterms:W3CDTF">2010-07-27T01:49:09Z</dcterms:modified>
  <cp:revision>33</cp:revision>
  <dc:subject/>
  <dc:title>Slide 1</dc:title>
</cp:coreProperties>
</file>