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9A99-A801-4C78-BFE8-3E4C21F2F9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1ECF-FD64-49BB-8698-4208B208B8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5857-CDCE-489E-A6CD-36E05957A1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9EB2-8B3A-449A-8F48-B6DDA4A86B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2FA2-4978-486D-85E6-CE45BD47FB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D369-9E06-4160-83C3-C1995836D7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D426-8C5F-4CF5-A8FD-B124A376E4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983D-B592-45D7-9B32-791D769975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60B1-421A-4969-B7CF-9CA5D82A98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574F-471E-4B0F-A78A-7326D04686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3EDB-13C8-4E6D-8C60-3F01C97CC6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2C05-E1B5-46B8-9E37-23BEA9BB1A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67B8-0889-403E-9CB9-37658EFFFB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D6C6-A9C8-4A5D-A938-FE8D0BE6E7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240E-FB2E-4EE9-894C-D7B9F797B7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9EE8-768E-42A1-B6BA-8082EFBD83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62A7-3755-4B38-8464-A06127D429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EA57-53B5-4481-BA1C-C865819629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7231-D833-4A4C-9B06-76477413EC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885D-F627-4EF9-BF86-AE3DD2FF9F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EE72-FA03-4703-B35B-1ACCE1CF2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6B96-4EB0-4E66-9499-A59EE169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4D9F-8D85-4B32-9440-0D423B76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0E51-6C46-4814-8EEC-56EF4DB2C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7D01-BF99-4E87-993A-8E3A9B8DB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615D-9784-43EF-9692-E7ECEB6F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AEB9-60DA-4116-A768-D067BE3C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AE57-CB52-408F-8EE8-FB8981FE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708C-E5E8-4B24-B36B-5FCBC980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0B69-C384-4156-9C9E-3C73618F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ADDE-C0DE-42A8-81B0-FAF0A14F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8342-7DE3-4CC8-83A0-D65186FE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AAC9-AFB6-42FA-AEE4-B8FE1C56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993B-D27F-4E73-8B37-F099C1AA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55D5-2BED-489E-AC22-7E789428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5F80-FBA5-4550-80AD-693144C9F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2D4E-938F-466D-AD21-FD6BEC4EB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5060F-9C6C-4F52-BFC8-A85F1D92F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33F97-F4FA-4A5F-926D-FD67A762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3BBF0-91D1-4B82-B372-7E281FF1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CFC6D-3606-4C78-866C-9065AAA5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90D89-5849-4972-AB5C-18A95292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3401-FD32-48D1-88CC-4FDE184B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DAE3D-B09E-4042-98D4-27164B69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10287-D3C8-4B37-8A08-7B47FEB8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04DF7-E58C-41F7-99C3-49FCA1F2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AFD1D-888F-4F45-999B-3B538EC6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BC814-AA16-4209-9BC0-85D48779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D1B85-8B25-4E55-AC6D-1B74B2A43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5DD03-FA66-410F-A3B9-7BD930203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8EB0D-2BF7-4BBA-B649-C8B462EC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A282F-744C-47C8-A35D-E0548A1B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29D9C-6E7F-4959-A67A-D819CD9C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E73C-8DF4-4830-92C0-5C3BBD92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E3602-3FE3-4D65-BF87-D029590D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4C451-C46E-47D2-8484-10CD9E5C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A4254-C8F8-4273-B553-49EA962D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DC199-6A7D-4AAF-B351-1600B4E4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59342-EFB7-463F-A361-4769F1D0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5D122-C286-47E7-9B3E-F5C863C8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D0C42-0256-446F-BF6C-F42CBC5A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0C26A-3815-4804-8AE2-544D7A042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ED403-C15E-41A3-8E39-06C338DE4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A9901-C040-4BC7-872F-725FBAA03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A0C0-2EE5-4EF6-9F80-63C271ED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E9E8C-28B7-4B4D-8C26-10714EC7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1EE60-FD0E-40B6-89FD-4D85C46A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F0308-A55F-4841-A75C-28026F07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E14E4-129B-4E8A-BC8F-EC548A43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6BA33-1C7A-4859-B6AB-8F49F96A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855EE-2ACB-44CB-9605-8E06DDEA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CBA25-8365-40AD-8270-B628433B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CF477-F59F-435E-A334-18D67C00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F9D66-BD32-4E4E-8838-489A1DA1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5D08D-4936-452A-8DD8-503195900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155A-0166-4122-905D-5610297C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08C14-7206-4F2E-8525-9270FA0FC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2E7F-6302-469B-83FC-2CA484D9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908E-24E9-4D10-929C-21F3710F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EFFC-C549-4AA4-B423-756CE5D2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616F-D373-4DA8-B915-5BAC9D8D6EC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BAE2-9140-412E-B043-A3583574935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E464-F02E-49F6-A4C5-419C380FBBF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E26D-7EEB-4291-BCF5-6A693FD4C9E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C5B6-53FB-4C7E-8258-FF92849C776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iredkids.org/ktt_universal/games/javascript/cyberbullying_quiz_1/index.html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4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2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3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hyperlink" Target="http://www.stopcyberbullying.org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stopcyberbullying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9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Rectangle 5" descr=""/>
          <p:cNvPicPr/>
          <p:nvPr/>
        </p:nvPicPr>
        <p:blipFill>
          <a:blip r:embed="rId1"/>
          <a:stretch/>
        </p:blipFill>
        <p:spPr>
          <a:xfrm>
            <a:off x="1006560" y="347760"/>
            <a:ext cx="6960960" cy="2030400"/>
          </a:xfrm>
          <a:prstGeom prst="rect">
            <a:avLst/>
          </a:prstGeom>
          <a:ln w="0">
            <a:noFill/>
          </a:ln>
        </p:spPr>
      </p:pic>
      <p:sp>
        <p:nvSpPr>
          <p:cNvPr id="236" name="TextBox 6"/>
          <p:cNvSpPr/>
          <p:nvPr/>
        </p:nvSpPr>
        <p:spPr>
          <a:xfrm>
            <a:off x="3980520" y="3056040"/>
            <a:ext cx="421164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Ms. Coo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Lake Olympia Middle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Fort Bend I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C:\Users\mary beth\AppData\Local\Microsoft\Windows\Temporary Internet Files\Content.IE5\OFMNSCOL\MC900293876[1].wmf"/>
          <p:cNvPicPr/>
          <p:nvPr/>
        </p:nvPicPr>
        <p:blipFill>
          <a:blip r:embed="rId2"/>
          <a:stretch/>
        </p:blipFill>
        <p:spPr>
          <a:xfrm>
            <a:off x="533520" y="3124080"/>
            <a:ext cx="282240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8" name="Action Button: Forward or Next 4">
            <a:hlinkClick r:id="" action="ppaction://hlinkshowjump?jump=nextslide"/>
          </p:cNvPr>
          <p:cNvSpPr/>
          <p:nvPr/>
        </p:nvSpPr>
        <p:spPr>
          <a:xfrm>
            <a:off x="7924680" y="5791320"/>
            <a:ext cx="762120" cy="7617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0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"/>
          <p:cNvSpPr/>
          <p:nvPr/>
        </p:nvSpPr>
        <p:spPr>
          <a:xfrm>
            <a:off x="304920" y="4811760"/>
            <a:ext cx="8458200" cy="679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Perpetua"/>
                <a:hlinkClick r:id="rId1"/>
              </a:rPr>
              <a:t>http://www.wiredkids.org/ktt_universal/games/javascript/cyberbullying_quiz_1/index.html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"/>
          <p:cNvSpPr/>
          <p:nvPr/>
        </p:nvSpPr>
        <p:spPr>
          <a:xfrm>
            <a:off x="353520" y="990720"/>
            <a:ext cx="4730040" cy="1068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Eurostile"/>
              </a:rPr>
              <a:t>HAVE  YOU EVER B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Eurostile"/>
              </a:rPr>
              <a:t>CYBERBULL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TextBox 3"/>
          <p:cNvGrpSpPr/>
          <p:nvPr/>
        </p:nvGrpSpPr>
        <p:grpSpPr>
          <a:xfrm>
            <a:off x="235080" y="2743200"/>
            <a:ext cx="3407040" cy="987480"/>
            <a:chOff x="235080" y="2743200"/>
            <a:chExt cx="3407040" cy="987480"/>
          </a:xfrm>
        </p:grpSpPr>
        <p:pic>
          <p:nvPicPr>
            <p:cNvPr id="290" name="TextBox 3" descr=""/>
            <p:cNvPicPr/>
            <p:nvPr/>
          </p:nvPicPr>
          <p:blipFill>
            <a:blip r:embed="rId2"/>
            <a:stretch/>
          </p:blipFill>
          <p:spPr>
            <a:xfrm>
              <a:off x="317520" y="2743200"/>
              <a:ext cx="320688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235080" y="2819520"/>
              <a:ext cx="3407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Eurostile"/>
                </a:rPr>
                <a:t>Try a qui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Eurostile"/>
                </a:rPr>
                <a:t>Click the link below . .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2" name="Picture 3" descr="C:\Users\mary beth\AppData\Local\Microsoft\Windows\Temporary Internet Files\Content.IE5\9W7UX5WD\MC900293876[1].wmf"/>
          <p:cNvPicPr/>
          <p:nvPr/>
        </p:nvPicPr>
        <p:blipFill>
          <a:blip r:embed="rId3"/>
          <a:stretch/>
        </p:blipFill>
        <p:spPr>
          <a:xfrm>
            <a:off x="5943600" y="762120"/>
            <a:ext cx="2208240" cy="2200320"/>
          </a:xfrm>
          <a:prstGeom prst="rect">
            <a:avLst/>
          </a:prstGeom>
          <a:ln w="0">
            <a:noFill/>
          </a:ln>
        </p:spPr>
      </p:pic>
      <p:grpSp>
        <p:nvGrpSpPr>
          <p:cNvPr id="293" name="TextBox 6"/>
          <p:cNvGrpSpPr/>
          <p:nvPr/>
        </p:nvGrpSpPr>
        <p:grpSpPr>
          <a:xfrm>
            <a:off x="474480" y="4151160"/>
            <a:ext cx="7733520" cy="500040"/>
            <a:chOff x="474480" y="4151160"/>
            <a:chExt cx="7733520" cy="500040"/>
          </a:xfrm>
        </p:grpSpPr>
        <p:pic>
          <p:nvPicPr>
            <p:cNvPr id="294" name="TextBox 6" descr=""/>
            <p:cNvPicPr/>
            <p:nvPr/>
          </p:nvPicPr>
          <p:blipFill>
            <a:blip r:embed="rId4"/>
            <a:stretch/>
          </p:blipFill>
          <p:spPr>
            <a:xfrm>
              <a:off x="895320" y="4151160"/>
              <a:ext cx="685332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474480" y="4202280"/>
              <a:ext cx="77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Eurostile"/>
                </a:rPr>
                <a:t>When finished just close the window and continue with the les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Action Button: Back or Previous 7">
            <a:hlinkClick r:id="" action="ppaction://hlinkshowjump?jump=previousslide"/>
          </p:cNvPr>
          <p:cNvSpPr/>
          <p:nvPr/>
        </p:nvSpPr>
        <p:spPr>
          <a:xfrm>
            <a:off x="38088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ction Button: Forward or Next 8">
            <a:hlinkClick r:id="" action="ppaction://hlinkshowjump?jump=nextslide"/>
          </p:cNvPr>
          <p:cNvSpPr/>
          <p:nvPr/>
        </p:nvSpPr>
        <p:spPr>
          <a:xfrm>
            <a:off x="8153280" y="59436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Eurostile"/>
              </a:rPr>
              <a:t>IDEAS TO PREVENT </a:t>
            </a:r>
            <a:br>
              <a:rPr sz="3600"/>
            </a:br>
            <a:r>
              <a:rPr b="1" lang="en-US" sz="3600" spc="-1" strike="noStrike">
                <a:solidFill>
                  <a:srgbClr val="1f497d"/>
                </a:solidFill>
                <a:latin typeface="Eurostile"/>
              </a:rPr>
              <a:t>CYBERBULLYING . . .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373356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8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Franklin Gothic Book"/>
              </a:rPr>
              <a:t>Through Technolog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Franklin Gothic Book"/>
              </a:rPr>
              <a:t>Through Educati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14400" y="182844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Setting software controls to limit acc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Adding filt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Add kid-safe web brows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Add monitoring softwa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95288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Learn and practice online safe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Use good Netiquet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Have computers in public places where monitors are visib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Report incidents immediatel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3" name="Picture 2" descr="C:\Users\mary beth\AppData\Local\Microsoft\Windows\Temporary Internet Files\Content.IE5\9W7UX5WD\MC900293876[1].wmf"/>
          <p:cNvPicPr/>
          <p:nvPr/>
        </p:nvPicPr>
        <p:blipFill>
          <a:blip r:embed="rId1"/>
          <a:stretch/>
        </p:blipFill>
        <p:spPr>
          <a:xfrm>
            <a:off x="7086600" y="158760"/>
            <a:ext cx="1370160" cy="1365120"/>
          </a:xfrm>
          <a:prstGeom prst="rect">
            <a:avLst/>
          </a:prstGeom>
          <a:ln w="0">
            <a:noFill/>
          </a:ln>
        </p:spPr>
      </p:pic>
      <p:sp>
        <p:nvSpPr>
          <p:cNvPr id="304" name="TextBox 8"/>
          <p:cNvSpPr/>
          <p:nvPr/>
        </p:nvSpPr>
        <p:spPr>
          <a:xfrm>
            <a:off x="1356120" y="6172200"/>
            <a:ext cx="63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Suggestions retrieved from cyberbullyingpreventio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ction Button: Back or Previous 9">
            <a:hlinkClick r:id="" action="ppaction://hlinkshowjump?jump=previousslide"/>
          </p:cNvPr>
          <p:cNvSpPr/>
          <p:nvPr/>
        </p:nvSpPr>
        <p:spPr>
          <a:xfrm>
            <a:off x="304920" y="5943600"/>
            <a:ext cx="814320" cy="609480"/>
          </a:xfrm>
          <a:custGeom>
            <a:avLst/>
            <a:gdLst>
              <a:gd name="textAreaLeft" fmla="*/ 39240 w 814320"/>
              <a:gd name="textAreaRight" fmla="*/ 775080 w 814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8855" h="21600">
                <a:moveTo>
                  <a:pt x="0" y="0"/>
                </a:moveTo>
                <a:lnTo>
                  <a:pt x="28855" y="0"/>
                </a:lnTo>
                <a:lnTo>
                  <a:pt x="28855" y="21600"/>
                </a:lnTo>
                <a:lnTo>
                  <a:pt x="0" y="21600"/>
                </a:lnTo>
                <a:close/>
              </a:path>
              <a:path fill="lightenLess" w="28855" h="21600">
                <a:moveTo>
                  <a:pt x="0" y="0"/>
                </a:moveTo>
                <a:lnTo>
                  <a:pt x="28855" y="0"/>
                </a:lnTo>
                <a:lnTo>
                  <a:pt x="27455" y="1400"/>
                </a:lnTo>
                <a:lnTo>
                  <a:pt x="1400" y="1400"/>
                </a:lnTo>
                <a:close/>
              </a:path>
              <a:path fill="darken" w="28855" h="21600">
                <a:moveTo>
                  <a:pt x="28855" y="0"/>
                </a:moveTo>
                <a:lnTo>
                  <a:pt x="28855" y="21600"/>
                </a:lnTo>
                <a:lnTo>
                  <a:pt x="27455" y="20200"/>
                </a:lnTo>
                <a:lnTo>
                  <a:pt x="27455" y="1400"/>
                </a:lnTo>
                <a:close/>
              </a:path>
              <a:path fill="darkenLess" w="28855" h="21600">
                <a:moveTo>
                  <a:pt x="28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55" y="20200"/>
                </a:lnTo>
                <a:close/>
              </a:path>
              <a:path fill="lighten" w="28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55" h="21600">
                <a:moveTo>
                  <a:pt x="7421" y="10800"/>
                </a:moveTo>
                <a:lnTo>
                  <a:pt x="21434" y="3794"/>
                </a:lnTo>
                <a:lnTo>
                  <a:pt x="21434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ction Button: Forward or Next 10">
            <a:hlinkClick r:id="" action="ppaction://hlinkshowjump?jump=nextslide"/>
          </p:cNvPr>
          <p:cNvSpPr/>
          <p:nvPr/>
        </p:nvSpPr>
        <p:spPr>
          <a:xfrm>
            <a:off x="80010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6"/>
          <p:cNvSpPr/>
          <p:nvPr/>
        </p:nvSpPr>
        <p:spPr>
          <a:xfrm>
            <a:off x="833760" y="609480"/>
            <a:ext cx="3425400" cy="520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Eurostile"/>
              </a:rPr>
              <a:t>QUICK QUIZ #3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" descr="C:\Users\mary beth\AppData\Local\Microsoft\Windows\Temporary Internet Files\Content.IE5\B8764PSK\MC900293876[1].wmf"/>
          <p:cNvPicPr/>
          <p:nvPr/>
        </p:nvPicPr>
        <p:blipFill>
          <a:blip r:embed="rId1"/>
          <a:stretch/>
        </p:blipFill>
        <p:spPr>
          <a:xfrm>
            <a:off x="6853320" y="457200"/>
            <a:ext cx="1298520" cy="1295280"/>
          </a:xfrm>
          <a:prstGeom prst="rect">
            <a:avLst/>
          </a:prstGeom>
          <a:ln w="0">
            <a:noFill/>
          </a:ln>
        </p:spPr>
      </p:pic>
      <p:grpSp>
        <p:nvGrpSpPr>
          <p:cNvPr id="309" name="TextBox 3"/>
          <p:cNvGrpSpPr/>
          <p:nvPr/>
        </p:nvGrpSpPr>
        <p:grpSpPr>
          <a:xfrm>
            <a:off x="62640" y="1749600"/>
            <a:ext cx="7639200" cy="1116000"/>
            <a:chOff x="62640" y="1749600"/>
            <a:chExt cx="7639200" cy="1116000"/>
          </a:xfrm>
        </p:grpSpPr>
        <p:pic>
          <p:nvPicPr>
            <p:cNvPr id="310" name="TextBox 3" descr=""/>
            <p:cNvPicPr/>
            <p:nvPr/>
          </p:nvPicPr>
          <p:blipFill>
            <a:blip r:embed="rId2"/>
            <a:stretch/>
          </p:blipFill>
          <p:spPr>
            <a:xfrm>
              <a:off x="365040" y="1749600"/>
              <a:ext cx="69501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62640" y="1828800"/>
              <a:ext cx="7639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Eurostile"/>
                </a:rPr>
                <a:t>Which is NOT a good way to prevent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Eurostile"/>
                </a:rPr>
                <a:t>Cyberbullying through technology at school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TextBox 4">
            <a:hlinkClick r:id="rId3" action="ppaction://hlinksldjump"/>
          </p:cNvPr>
          <p:cNvSpPr/>
          <p:nvPr/>
        </p:nvSpPr>
        <p:spPr>
          <a:xfrm>
            <a:off x="670320" y="3352680"/>
            <a:ext cx="262512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A. Adding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5">
            <a:hlinkClick r:id="rId4" action="ppaction://hlinksldjump"/>
          </p:cNvPr>
          <p:cNvSpPr/>
          <p:nvPr/>
        </p:nvSpPr>
        <p:spPr>
          <a:xfrm>
            <a:off x="515160" y="4267080"/>
            <a:ext cx="618516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B. Allowing students access to My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7">
            <a:hlinkClick r:id="rId5" action="ppaction://hlinksldjump"/>
          </p:cNvPr>
          <p:cNvSpPr/>
          <p:nvPr/>
        </p:nvSpPr>
        <p:spPr>
          <a:xfrm>
            <a:off x="567360" y="5105520"/>
            <a:ext cx="469620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. Add kid-safe web brow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ction Button: Back or Previous 8">
            <a:hlinkClick r:id="" action="ppaction://hlinkshowjump?jump=previousslide"/>
          </p:cNvPr>
          <p:cNvSpPr/>
          <p:nvPr/>
        </p:nvSpPr>
        <p:spPr>
          <a:xfrm>
            <a:off x="304920" y="5867280"/>
            <a:ext cx="738000" cy="762120"/>
          </a:xfrm>
          <a:custGeom>
            <a:avLst/>
            <a:gdLst>
              <a:gd name="textAreaLeft" fmla="*/ 47520 w 738000"/>
              <a:gd name="textAreaRight" fmla="*/ 690480 w 738000"/>
              <a:gd name="textAreaTop" fmla="*/ 47520 h 762120"/>
              <a:gd name="textAreaBottom" fmla="*/ 714600 h 762120"/>
            </a:gdLst>
            <a:ahLst/>
            <a:rect l="textAreaLeft" t="textAreaTop" r="textAreaRight" b="textAreaBottom"/>
            <a:pathLst>
              <a:path w="21600" h="22306">
                <a:moveTo>
                  <a:pt x="0" y="0"/>
                </a:moveTo>
                <a:lnTo>
                  <a:pt x="21600" y="0"/>
                </a:lnTo>
                <a:lnTo>
                  <a:pt x="21600" y="22306"/>
                </a:lnTo>
                <a:lnTo>
                  <a:pt x="0" y="22306"/>
                </a:lnTo>
                <a:close/>
              </a:path>
              <a:path fill="lightenLess" w="21600" h="223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06">
                <a:moveTo>
                  <a:pt x="21600" y="0"/>
                </a:moveTo>
                <a:lnTo>
                  <a:pt x="21600" y="22306"/>
                </a:lnTo>
                <a:lnTo>
                  <a:pt x="20200" y="20906"/>
                </a:lnTo>
                <a:lnTo>
                  <a:pt x="20200" y="1400"/>
                </a:lnTo>
                <a:close/>
              </a:path>
              <a:path fill="darkenLess" w="21600" h="22306">
                <a:moveTo>
                  <a:pt x="21600" y="22306"/>
                </a:moveTo>
                <a:lnTo>
                  <a:pt x="0" y="22306"/>
                </a:lnTo>
                <a:lnTo>
                  <a:pt x="1400" y="20906"/>
                </a:lnTo>
                <a:lnTo>
                  <a:pt x="20200" y="20906"/>
                </a:lnTo>
                <a:close/>
              </a:path>
              <a:path fill="lighten" w="21600" h="22306">
                <a:moveTo>
                  <a:pt x="0" y="223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06"/>
                </a:lnTo>
                <a:close/>
              </a:path>
              <a:path fill="darken" w="21600" h="22306">
                <a:moveTo>
                  <a:pt x="3794" y="11153"/>
                </a:moveTo>
                <a:lnTo>
                  <a:pt x="17806" y="4146"/>
                </a:lnTo>
                <a:lnTo>
                  <a:pt x="17806" y="18159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ction Button: Forward or Next 9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28195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318" name="TextBox 2" descr=""/>
          <p:cNvPicPr/>
          <p:nvPr/>
        </p:nvPicPr>
        <p:blipFill>
          <a:blip r:embed="rId2"/>
          <a:stretch/>
        </p:blipFill>
        <p:spPr>
          <a:xfrm>
            <a:off x="554040" y="865080"/>
            <a:ext cx="8163000" cy="1335240"/>
          </a:xfrm>
          <a:prstGeom prst="rect">
            <a:avLst/>
          </a:prstGeom>
          <a:ln w="0">
            <a:noFill/>
          </a:ln>
        </p:spPr>
      </p:pic>
      <p:sp>
        <p:nvSpPr>
          <p:cNvPr id="319" name="Action Button: Back or Previous 3">
            <a:hlinkClick r:id="" action="ppaction://hlinkshowjump?jump=previousslide"/>
          </p:cNvPr>
          <p:cNvSpPr/>
          <p:nvPr/>
        </p:nvSpPr>
        <p:spPr>
          <a:xfrm>
            <a:off x="380880" y="57150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12001"/>
                </a:moveTo>
                <a:lnTo>
                  <a:pt x="17806" y="4995"/>
                </a:lnTo>
                <a:lnTo>
                  <a:pt x="17806" y="19008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30481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321" name="TextBox 2" descr=""/>
          <p:cNvPicPr/>
          <p:nvPr/>
        </p:nvPicPr>
        <p:blipFill>
          <a:blip r:embed="rId2"/>
          <a:stretch/>
        </p:blipFill>
        <p:spPr>
          <a:xfrm>
            <a:off x="1096920" y="1170000"/>
            <a:ext cx="6553080" cy="1335240"/>
          </a:xfrm>
          <a:prstGeom prst="rect">
            <a:avLst/>
          </a:prstGeom>
          <a:ln w="0">
            <a:noFill/>
          </a:ln>
        </p:spPr>
      </p:pic>
      <p:sp>
        <p:nvSpPr>
          <p:cNvPr id="322" name="Action Button: Forward or Next 3">
            <a:hlinkClick r:id="" action="ppaction://hlinkshowjump?jump=nextslide"/>
          </p:cNvPr>
          <p:cNvSpPr/>
          <p:nvPr/>
        </p:nvSpPr>
        <p:spPr>
          <a:xfrm>
            <a:off x="7772400" y="5867280"/>
            <a:ext cx="838080" cy="738360"/>
          </a:xfrm>
          <a:custGeom>
            <a:avLst/>
            <a:gdLst>
              <a:gd name="textAreaLeft" fmla="*/ 47520 w 838080"/>
              <a:gd name="textAreaRight" fmla="*/ 790560 w 83808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4516" h="21600">
                <a:moveTo>
                  <a:pt x="0" y="0"/>
                </a:moveTo>
                <a:lnTo>
                  <a:pt x="24516" y="0"/>
                </a:lnTo>
                <a:lnTo>
                  <a:pt x="24516" y="21600"/>
                </a:lnTo>
                <a:lnTo>
                  <a:pt x="0" y="21600"/>
                </a:lnTo>
                <a:close/>
              </a:path>
              <a:path fill="lightenLess" w="24516" h="21600">
                <a:moveTo>
                  <a:pt x="0" y="0"/>
                </a:moveTo>
                <a:lnTo>
                  <a:pt x="24516" y="0"/>
                </a:lnTo>
                <a:lnTo>
                  <a:pt x="23116" y="1400"/>
                </a:lnTo>
                <a:lnTo>
                  <a:pt x="1400" y="1400"/>
                </a:lnTo>
                <a:close/>
              </a:path>
              <a:path fill="darken" w="24516" h="21600">
                <a:moveTo>
                  <a:pt x="24516" y="0"/>
                </a:moveTo>
                <a:lnTo>
                  <a:pt x="24516" y="21600"/>
                </a:lnTo>
                <a:lnTo>
                  <a:pt x="23116" y="20200"/>
                </a:lnTo>
                <a:lnTo>
                  <a:pt x="23116" y="1400"/>
                </a:lnTo>
                <a:close/>
              </a:path>
              <a:path fill="darkenLess" w="24516" h="21600">
                <a:moveTo>
                  <a:pt x="24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6" y="20200"/>
                </a:lnTo>
                <a:close/>
              </a:path>
              <a:path fill="lighten" w="24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16" h="21600">
                <a:moveTo>
                  <a:pt x="5251" y="3794"/>
                </a:moveTo>
                <a:lnTo>
                  <a:pt x="19264" y="10800"/>
                </a:lnTo>
                <a:lnTo>
                  <a:pt x="5251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7480440" y="54864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1"/>
          <p:cNvSpPr/>
          <p:nvPr/>
        </p:nvSpPr>
        <p:spPr>
          <a:xfrm>
            <a:off x="779760" y="685800"/>
            <a:ext cx="296352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Eurostile"/>
              </a:rPr>
              <a:t>QUICK QUIZ #4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C:\Users\mary beth\AppData\Local\Microsoft\Windows\Temporary Internet Files\Content.IE5\B8764PSK\MC900293876[1].wmf"/>
          <p:cNvPicPr/>
          <p:nvPr/>
        </p:nvPicPr>
        <p:blipFill>
          <a:blip r:embed="rId1"/>
          <a:stretch/>
        </p:blipFill>
        <p:spPr>
          <a:xfrm>
            <a:off x="6775560" y="380880"/>
            <a:ext cx="137628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26" name="TextBox 3"/>
          <p:cNvGrpSpPr/>
          <p:nvPr/>
        </p:nvGrpSpPr>
        <p:grpSpPr>
          <a:xfrm>
            <a:off x="1440" y="1749600"/>
            <a:ext cx="7826760" cy="1116000"/>
            <a:chOff x="1440" y="1749600"/>
            <a:chExt cx="7826760" cy="1116000"/>
          </a:xfrm>
        </p:grpSpPr>
        <p:pic>
          <p:nvPicPr>
            <p:cNvPr id="327" name="TextBox 3" descr=""/>
            <p:cNvPicPr/>
            <p:nvPr/>
          </p:nvPicPr>
          <p:blipFill>
            <a:blip r:embed="rId2"/>
            <a:stretch/>
          </p:blipFill>
          <p:spPr>
            <a:xfrm>
              <a:off x="285840" y="1749600"/>
              <a:ext cx="71690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1440" y="1828800"/>
              <a:ext cx="7826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Eurostile"/>
                </a:rPr>
                <a:t>What is a good way for students to prev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Eurostile"/>
                </a:rPr>
                <a:t>Cyberbullying through education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TextBox 4">
            <a:hlinkClick r:id="rId3" action="ppaction://hlinksldjump"/>
          </p:cNvPr>
          <p:cNvSpPr/>
          <p:nvPr/>
        </p:nvSpPr>
        <p:spPr>
          <a:xfrm>
            <a:off x="263520" y="3429000"/>
            <a:ext cx="62265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Eurostil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Give out personal information onl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">
            <a:hlinkClick r:id="rId4" action="ppaction://hlinksldjump"/>
          </p:cNvPr>
          <p:cNvSpPr/>
          <p:nvPr/>
        </p:nvSpPr>
        <p:spPr>
          <a:xfrm>
            <a:off x="225720" y="4267080"/>
            <a:ext cx="78847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B. Start rumors using Gaggle electronic mess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6">
            <a:hlinkClick r:id="rId5" action="ppaction://hlinksldjump"/>
          </p:cNvPr>
          <p:cNvSpPr/>
          <p:nvPr/>
        </p:nvSpPr>
        <p:spPr>
          <a:xfrm>
            <a:off x="209160" y="5105520"/>
            <a:ext cx="704340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. Learn and be informed about online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ction Button: Back or Previous 7">
            <a:hlinkClick r:id="" action="ppaction://hlinkshowjump?jump=previousslide"/>
          </p:cNvPr>
          <p:cNvSpPr/>
          <p:nvPr/>
        </p:nvSpPr>
        <p:spPr>
          <a:xfrm>
            <a:off x="380880" y="6019920"/>
            <a:ext cx="814680" cy="533160"/>
          </a:xfrm>
          <a:custGeom>
            <a:avLst/>
            <a:gdLst>
              <a:gd name="textAreaLeft" fmla="*/ 34560 w 814680"/>
              <a:gd name="textAreaRight" fmla="*/ 780120 w 8146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2998" h="21600">
                <a:moveTo>
                  <a:pt x="0" y="0"/>
                </a:moveTo>
                <a:lnTo>
                  <a:pt x="32998" y="0"/>
                </a:lnTo>
                <a:lnTo>
                  <a:pt x="32998" y="21600"/>
                </a:lnTo>
                <a:lnTo>
                  <a:pt x="0" y="21600"/>
                </a:lnTo>
                <a:close/>
              </a:path>
              <a:path fill="lightenLess" w="32998" h="21600">
                <a:moveTo>
                  <a:pt x="0" y="0"/>
                </a:moveTo>
                <a:lnTo>
                  <a:pt x="32998" y="0"/>
                </a:lnTo>
                <a:lnTo>
                  <a:pt x="31598" y="1400"/>
                </a:lnTo>
                <a:lnTo>
                  <a:pt x="1400" y="1400"/>
                </a:lnTo>
                <a:close/>
              </a:path>
              <a:path fill="darken" w="32998" h="21600">
                <a:moveTo>
                  <a:pt x="32998" y="0"/>
                </a:moveTo>
                <a:lnTo>
                  <a:pt x="32998" y="21600"/>
                </a:lnTo>
                <a:lnTo>
                  <a:pt x="31598" y="20200"/>
                </a:lnTo>
                <a:lnTo>
                  <a:pt x="31598" y="1400"/>
                </a:lnTo>
                <a:close/>
              </a:path>
              <a:path fill="darkenLess" w="32998" h="21600">
                <a:moveTo>
                  <a:pt x="32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598" y="20200"/>
                </a:lnTo>
                <a:close/>
              </a:path>
              <a:path fill="lighten" w="32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998" h="21600">
                <a:moveTo>
                  <a:pt x="9492" y="10800"/>
                </a:moveTo>
                <a:lnTo>
                  <a:pt x="23505" y="3794"/>
                </a:lnTo>
                <a:lnTo>
                  <a:pt x="23505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ction Button: Forward or Next 8">
            <a:hlinkClick r:id="" action="ppaction://hlinkshowjump?jump=nextslide"/>
          </p:cNvPr>
          <p:cNvSpPr/>
          <p:nvPr/>
        </p:nvSpPr>
        <p:spPr>
          <a:xfrm>
            <a:off x="7848720" y="6019920"/>
            <a:ext cx="890640" cy="533160"/>
          </a:xfrm>
          <a:custGeom>
            <a:avLst/>
            <a:gdLst>
              <a:gd name="textAreaLeft" fmla="*/ 34560 w 890640"/>
              <a:gd name="textAreaRight" fmla="*/ 856080 w 890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6073" h="21600">
                <a:moveTo>
                  <a:pt x="0" y="0"/>
                </a:moveTo>
                <a:lnTo>
                  <a:pt x="36073" y="0"/>
                </a:lnTo>
                <a:lnTo>
                  <a:pt x="36073" y="21600"/>
                </a:lnTo>
                <a:lnTo>
                  <a:pt x="0" y="21600"/>
                </a:lnTo>
                <a:close/>
              </a:path>
              <a:path fill="lightenLess" w="36073" h="21600">
                <a:moveTo>
                  <a:pt x="0" y="0"/>
                </a:moveTo>
                <a:lnTo>
                  <a:pt x="36073" y="0"/>
                </a:lnTo>
                <a:lnTo>
                  <a:pt x="34673" y="1400"/>
                </a:lnTo>
                <a:lnTo>
                  <a:pt x="1400" y="1400"/>
                </a:lnTo>
                <a:close/>
              </a:path>
              <a:path fill="darken" w="36073" h="21600">
                <a:moveTo>
                  <a:pt x="36073" y="0"/>
                </a:moveTo>
                <a:lnTo>
                  <a:pt x="36073" y="21600"/>
                </a:lnTo>
                <a:lnTo>
                  <a:pt x="34673" y="20200"/>
                </a:lnTo>
                <a:lnTo>
                  <a:pt x="34673" y="1400"/>
                </a:lnTo>
                <a:close/>
              </a:path>
              <a:path fill="darkenLess" w="36073" h="21600">
                <a:moveTo>
                  <a:pt x="36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73" y="20200"/>
                </a:lnTo>
                <a:close/>
              </a:path>
              <a:path fill="lighten" w="36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73" h="21600">
                <a:moveTo>
                  <a:pt x="11030" y="3794"/>
                </a:moveTo>
                <a:lnTo>
                  <a:pt x="25043" y="10800"/>
                </a:lnTo>
                <a:lnTo>
                  <a:pt x="11030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28195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335" name="TextBox 2" descr=""/>
          <p:cNvPicPr/>
          <p:nvPr/>
        </p:nvPicPr>
        <p:blipFill>
          <a:blip r:embed="rId2"/>
          <a:stretch/>
        </p:blipFill>
        <p:spPr>
          <a:xfrm>
            <a:off x="554040" y="865080"/>
            <a:ext cx="8163000" cy="1335240"/>
          </a:xfrm>
          <a:prstGeom prst="rect">
            <a:avLst/>
          </a:prstGeom>
          <a:ln w="0">
            <a:noFill/>
          </a:ln>
        </p:spPr>
      </p:pic>
      <p:sp>
        <p:nvSpPr>
          <p:cNvPr id="336" name="Action Button: Back or Previous 3">
            <a:hlinkClick r:id="" action="ppaction://hlinkshowjump?jump=previousslide"/>
          </p:cNvPr>
          <p:cNvSpPr/>
          <p:nvPr/>
        </p:nvSpPr>
        <p:spPr>
          <a:xfrm>
            <a:off x="380880" y="57150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12001"/>
                </a:moveTo>
                <a:lnTo>
                  <a:pt x="17806" y="4995"/>
                </a:lnTo>
                <a:lnTo>
                  <a:pt x="17806" y="19008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30481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338" name="TextBox 2" descr=""/>
          <p:cNvPicPr/>
          <p:nvPr/>
        </p:nvPicPr>
        <p:blipFill>
          <a:blip r:embed="rId2"/>
          <a:stretch/>
        </p:blipFill>
        <p:spPr>
          <a:xfrm>
            <a:off x="1096920" y="1170000"/>
            <a:ext cx="6553080" cy="1335240"/>
          </a:xfrm>
          <a:prstGeom prst="rect">
            <a:avLst/>
          </a:prstGeom>
          <a:ln w="0">
            <a:noFill/>
          </a:ln>
        </p:spPr>
      </p:pic>
      <p:sp>
        <p:nvSpPr>
          <p:cNvPr id="339" name="Action Button: Forward or Next 3">
            <a:hlinkClick r:id="" action="ppaction://hlinkshowjump?jump=nextslide"/>
          </p:cNvPr>
          <p:cNvSpPr/>
          <p:nvPr/>
        </p:nvSpPr>
        <p:spPr>
          <a:xfrm>
            <a:off x="7772400" y="5867280"/>
            <a:ext cx="838080" cy="738360"/>
          </a:xfrm>
          <a:custGeom>
            <a:avLst/>
            <a:gdLst>
              <a:gd name="textAreaLeft" fmla="*/ 47520 w 838080"/>
              <a:gd name="textAreaRight" fmla="*/ 790560 w 83808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4516" h="21600">
                <a:moveTo>
                  <a:pt x="0" y="0"/>
                </a:moveTo>
                <a:lnTo>
                  <a:pt x="24516" y="0"/>
                </a:lnTo>
                <a:lnTo>
                  <a:pt x="24516" y="21600"/>
                </a:lnTo>
                <a:lnTo>
                  <a:pt x="0" y="21600"/>
                </a:lnTo>
                <a:close/>
              </a:path>
              <a:path fill="lightenLess" w="24516" h="21600">
                <a:moveTo>
                  <a:pt x="0" y="0"/>
                </a:moveTo>
                <a:lnTo>
                  <a:pt x="24516" y="0"/>
                </a:lnTo>
                <a:lnTo>
                  <a:pt x="23116" y="1400"/>
                </a:lnTo>
                <a:lnTo>
                  <a:pt x="1400" y="1400"/>
                </a:lnTo>
                <a:close/>
              </a:path>
              <a:path fill="darken" w="24516" h="21600">
                <a:moveTo>
                  <a:pt x="24516" y="0"/>
                </a:moveTo>
                <a:lnTo>
                  <a:pt x="24516" y="21600"/>
                </a:lnTo>
                <a:lnTo>
                  <a:pt x="23116" y="20200"/>
                </a:lnTo>
                <a:lnTo>
                  <a:pt x="23116" y="1400"/>
                </a:lnTo>
                <a:close/>
              </a:path>
              <a:path fill="darkenLess" w="24516" h="21600">
                <a:moveTo>
                  <a:pt x="24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6" y="20200"/>
                </a:lnTo>
                <a:close/>
              </a:path>
              <a:path fill="lighten" w="24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16" h="21600">
                <a:moveTo>
                  <a:pt x="5251" y="3794"/>
                </a:moveTo>
                <a:lnTo>
                  <a:pt x="19264" y="10800"/>
                </a:lnTo>
                <a:lnTo>
                  <a:pt x="5251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7480440" y="54864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1"/>
          <p:cNvSpPr/>
          <p:nvPr/>
        </p:nvSpPr>
        <p:spPr>
          <a:xfrm>
            <a:off x="459720" y="685800"/>
            <a:ext cx="596736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Eurostile"/>
              </a:rPr>
              <a:t>QUESTIONS USED FOR DISCUSSION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"/>
          <p:cNvSpPr/>
          <p:nvPr/>
        </p:nvSpPr>
        <p:spPr>
          <a:xfrm>
            <a:off x="685800" y="1633680"/>
            <a:ext cx="6934320" cy="3660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Use Gaggle to e-mail me your answers to the following 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Eurosti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If someone posted false information or rumors about you on a social networking site (facebook), wh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Eurostile"/>
              </a:rPr>
              <a:t>should </a:t>
            </a: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you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Eurostile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How does Lake O handle cyberbullying incidents? Do you agree or disagree with campus procedures? Expl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3)  Do you share your passwords with others? 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3"/>
          <p:cNvSpPr/>
          <p:nvPr/>
        </p:nvSpPr>
        <p:spPr>
          <a:xfrm>
            <a:off x="570960" y="4876920"/>
            <a:ext cx="8003520" cy="70380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Eurostile"/>
              </a:rPr>
              <a:t>You may also use your Gaggle account to send me com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Eurostile"/>
              </a:rPr>
              <a:t>And/or concerns about Cyberbullying . . . I will listen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C:\Users\mary beth\AppData\Local\Microsoft\Windows\Temporary Internet Files\Content.IE5\B8764PSK\MC900293876[1].wmf"/>
          <p:cNvPicPr/>
          <p:nvPr/>
        </p:nvPicPr>
        <p:blipFill>
          <a:blip r:embed="rId1"/>
          <a:stretch/>
        </p:blipFill>
        <p:spPr>
          <a:xfrm>
            <a:off x="7010280" y="228600"/>
            <a:ext cx="1528920" cy="1523880"/>
          </a:xfrm>
          <a:prstGeom prst="rect">
            <a:avLst/>
          </a:prstGeom>
          <a:ln w="0">
            <a:noFill/>
          </a:ln>
        </p:spPr>
      </p:pic>
      <p:sp>
        <p:nvSpPr>
          <p:cNvPr id="345" name="Action Button: Back or Previous 5">
            <a:hlinkClick r:id="" action="ppaction://hlinkshowjump?jump=previousslide"/>
          </p:cNvPr>
          <p:cNvSpPr/>
          <p:nvPr/>
        </p:nvSpPr>
        <p:spPr>
          <a:xfrm>
            <a:off x="380880" y="5943600"/>
            <a:ext cx="738360" cy="685800"/>
          </a:xfrm>
          <a:custGeom>
            <a:avLst/>
            <a:gdLst>
              <a:gd name="textAreaLeft" fmla="*/ 44280 w 738360"/>
              <a:gd name="textAreaRight" fmla="*/ 694080 w 738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255" h="21600">
                <a:moveTo>
                  <a:pt x="0" y="0"/>
                </a:moveTo>
                <a:lnTo>
                  <a:pt x="23255" y="0"/>
                </a:lnTo>
                <a:lnTo>
                  <a:pt x="23255" y="21600"/>
                </a:lnTo>
                <a:lnTo>
                  <a:pt x="0" y="21600"/>
                </a:lnTo>
                <a:close/>
              </a:path>
              <a:path fill="lightenLess" w="23255" h="21600">
                <a:moveTo>
                  <a:pt x="0" y="0"/>
                </a:moveTo>
                <a:lnTo>
                  <a:pt x="23255" y="0"/>
                </a:lnTo>
                <a:lnTo>
                  <a:pt x="21855" y="1400"/>
                </a:lnTo>
                <a:lnTo>
                  <a:pt x="1400" y="1400"/>
                </a:lnTo>
                <a:close/>
              </a:path>
              <a:path fill="darken" w="23255" h="21600">
                <a:moveTo>
                  <a:pt x="23255" y="0"/>
                </a:moveTo>
                <a:lnTo>
                  <a:pt x="23255" y="21600"/>
                </a:lnTo>
                <a:lnTo>
                  <a:pt x="21855" y="20200"/>
                </a:lnTo>
                <a:lnTo>
                  <a:pt x="21855" y="1400"/>
                </a:lnTo>
                <a:close/>
              </a:path>
              <a:path fill="darkenLess" w="23255" h="21600">
                <a:moveTo>
                  <a:pt x="232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5" y="20200"/>
                </a:lnTo>
                <a:close/>
              </a:path>
              <a:path fill="lighten" w="232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5" h="21600">
                <a:moveTo>
                  <a:pt x="4621" y="10800"/>
                </a:moveTo>
                <a:lnTo>
                  <a:pt x="18634" y="3794"/>
                </a:lnTo>
                <a:lnTo>
                  <a:pt x="18634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ction Button: Forward or Next 6">
            <a:hlinkClick r:id="" action="ppaction://hlinkshowjump?jump=nextslide"/>
          </p:cNvPr>
          <p:cNvSpPr/>
          <p:nvPr/>
        </p:nvSpPr>
        <p:spPr>
          <a:xfrm>
            <a:off x="8001000" y="5943600"/>
            <a:ext cx="814320" cy="685800"/>
          </a:xfrm>
          <a:custGeom>
            <a:avLst/>
            <a:gdLst>
              <a:gd name="textAreaLeft" fmla="*/ 44280 w 814320"/>
              <a:gd name="textAreaRight" fmla="*/ 770040 w 814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5646" h="21600">
                <a:moveTo>
                  <a:pt x="0" y="0"/>
                </a:moveTo>
                <a:lnTo>
                  <a:pt x="25646" y="0"/>
                </a:lnTo>
                <a:lnTo>
                  <a:pt x="25646" y="21600"/>
                </a:lnTo>
                <a:lnTo>
                  <a:pt x="0" y="21600"/>
                </a:lnTo>
                <a:close/>
              </a:path>
              <a:path fill="lightenLess" w="25646" h="21600">
                <a:moveTo>
                  <a:pt x="0" y="0"/>
                </a:moveTo>
                <a:lnTo>
                  <a:pt x="25646" y="0"/>
                </a:lnTo>
                <a:lnTo>
                  <a:pt x="24246" y="1400"/>
                </a:lnTo>
                <a:lnTo>
                  <a:pt x="1400" y="1400"/>
                </a:lnTo>
                <a:close/>
              </a:path>
              <a:path fill="darken" w="25646" h="21600">
                <a:moveTo>
                  <a:pt x="25646" y="0"/>
                </a:moveTo>
                <a:lnTo>
                  <a:pt x="25646" y="21600"/>
                </a:lnTo>
                <a:lnTo>
                  <a:pt x="24246" y="20200"/>
                </a:lnTo>
                <a:lnTo>
                  <a:pt x="24246" y="1400"/>
                </a:lnTo>
                <a:close/>
              </a:path>
              <a:path fill="darkenLess" w="25646" h="21600">
                <a:moveTo>
                  <a:pt x="25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6" y="20200"/>
                </a:lnTo>
                <a:close/>
              </a:path>
              <a:path fill="lighten" w="25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6" h="21600">
                <a:moveTo>
                  <a:pt x="5816" y="3794"/>
                </a:moveTo>
                <a:lnTo>
                  <a:pt x="19829" y="10800"/>
                </a:lnTo>
                <a:lnTo>
                  <a:pt x="5816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7"/>
          <p:cNvSpPr/>
          <p:nvPr/>
        </p:nvSpPr>
        <p:spPr>
          <a:xfrm>
            <a:off x="2678040" y="6019920"/>
            <a:ext cx="31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y.cooley@fortbend.k12.tx.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1"/>
          <p:cNvSpPr/>
          <p:nvPr/>
        </p:nvSpPr>
        <p:spPr>
          <a:xfrm>
            <a:off x="1295280" y="609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2"/>
          <p:cNvSpPr/>
          <p:nvPr/>
        </p:nvSpPr>
        <p:spPr>
          <a:xfrm>
            <a:off x="778320" y="757080"/>
            <a:ext cx="486684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Eurostile"/>
              </a:rPr>
              <a:t>SOURCES FOR INFORMATION . .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C:\Users\mary beth\AppData\Local\Microsoft\Windows\Temporary Internet Files\Content.IE5\B8764PSK\MC900293876[1].wmf"/>
          <p:cNvPicPr/>
          <p:nvPr/>
        </p:nvPicPr>
        <p:blipFill>
          <a:blip r:embed="rId1"/>
          <a:stretch/>
        </p:blipFill>
        <p:spPr>
          <a:xfrm>
            <a:off x="5943600" y="1219320"/>
            <a:ext cx="2436840" cy="2428920"/>
          </a:xfrm>
          <a:prstGeom prst="rect">
            <a:avLst/>
          </a:prstGeom>
          <a:ln w="0">
            <a:noFill/>
          </a:ln>
        </p:spPr>
      </p:pic>
      <p:grpSp>
        <p:nvGrpSpPr>
          <p:cNvPr id="351" name="TextBox 4"/>
          <p:cNvGrpSpPr/>
          <p:nvPr/>
        </p:nvGrpSpPr>
        <p:grpSpPr>
          <a:xfrm>
            <a:off x="717120" y="1951200"/>
            <a:ext cx="5098680" cy="2938320"/>
            <a:chOff x="717120" y="1951200"/>
            <a:chExt cx="5098680" cy="2938320"/>
          </a:xfrm>
        </p:grpSpPr>
        <p:pic>
          <p:nvPicPr>
            <p:cNvPr id="352" name="TextBox 4" descr=""/>
            <p:cNvPicPr/>
            <p:nvPr/>
          </p:nvPicPr>
          <p:blipFill>
            <a:blip r:embed="rId2"/>
            <a:stretch/>
          </p:blipFill>
          <p:spPr>
            <a:xfrm>
              <a:off x="884160" y="1951200"/>
              <a:ext cx="4735440" cy="29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717120" y="1981080"/>
              <a:ext cx="509868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Eurostile"/>
                </a:rPr>
                <a:t>http://www.wiredkids.or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Eurostile"/>
                </a:rPr>
                <a:t>http://wwwstopcyberbullying.or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Eurostile"/>
                </a:rPr>
                <a:t>http://www.cyberbullyingprevention.co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4" name="TextBox 5" descr=""/>
          <p:cNvPicPr/>
          <p:nvPr/>
        </p:nvPicPr>
        <p:blipFill>
          <a:blip r:embed="rId3"/>
          <a:stretch/>
        </p:blipFill>
        <p:spPr>
          <a:xfrm>
            <a:off x="2822400" y="5132520"/>
            <a:ext cx="4956480" cy="950760"/>
          </a:xfrm>
          <a:prstGeom prst="rect">
            <a:avLst/>
          </a:prstGeom>
          <a:ln w="0">
            <a:noFill/>
          </a:ln>
        </p:spPr>
      </p:pic>
      <p:sp>
        <p:nvSpPr>
          <p:cNvPr id="355" name="Action Button: Back or Previous 6">
            <a:hlinkClick r:id="" action="ppaction://hlinkshowjump?jump=previousslide"/>
          </p:cNvPr>
          <p:cNvSpPr/>
          <p:nvPr/>
        </p:nvSpPr>
        <p:spPr>
          <a:xfrm>
            <a:off x="380880" y="6019920"/>
            <a:ext cx="814680" cy="457200"/>
          </a:xfrm>
          <a:custGeom>
            <a:avLst/>
            <a:gdLst>
              <a:gd name="textAreaLeft" fmla="*/ 29520 w 814680"/>
              <a:gd name="textAreaRight" fmla="*/ 785160 w 814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8476" h="21600">
                <a:moveTo>
                  <a:pt x="0" y="0"/>
                </a:moveTo>
                <a:lnTo>
                  <a:pt x="38476" y="0"/>
                </a:lnTo>
                <a:lnTo>
                  <a:pt x="38476" y="21600"/>
                </a:lnTo>
                <a:lnTo>
                  <a:pt x="0" y="21600"/>
                </a:lnTo>
                <a:close/>
              </a:path>
              <a:path fill="lightenLess" w="38476" h="21600">
                <a:moveTo>
                  <a:pt x="0" y="0"/>
                </a:moveTo>
                <a:lnTo>
                  <a:pt x="38476" y="0"/>
                </a:lnTo>
                <a:lnTo>
                  <a:pt x="37076" y="1400"/>
                </a:lnTo>
                <a:lnTo>
                  <a:pt x="1400" y="1400"/>
                </a:lnTo>
                <a:close/>
              </a:path>
              <a:path fill="darken" w="38476" h="21600">
                <a:moveTo>
                  <a:pt x="38476" y="0"/>
                </a:moveTo>
                <a:lnTo>
                  <a:pt x="38476" y="21600"/>
                </a:lnTo>
                <a:lnTo>
                  <a:pt x="37076" y="20200"/>
                </a:lnTo>
                <a:lnTo>
                  <a:pt x="37076" y="1400"/>
                </a:lnTo>
                <a:close/>
              </a:path>
              <a:path fill="darkenLess" w="38476" h="21600">
                <a:moveTo>
                  <a:pt x="38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76" y="20200"/>
                </a:lnTo>
                <a:close/>
              </a:path>
              <a:path fill="lighten" w="38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76" h="21600">
                <a:moveTo>
                  <a:pt x="12231" y="10800"/>
                </a:moveTo>
                <a:lnTo>
                  <a:pt x="26244" y="3794"/>
                </a:lnTo>
                <a:lnTo>
                  <a:pt x="26244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594000" y="635040"/>
            <a:ext cx="5356080" cy="581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8ed5"/>
                </a:solidFill>
                <a:latin typeface="Eurostile"/>
              </a:rPr>
              <a:t>WHAT IS CYBERBULL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6629400" y="380880"/>
            <a:ext cx="1827360" cy="1820880"/>
          </a:xfrm>
          <a:prstGeom prst="rect">
            <a:avLst/>
          </a:prstGeom>
          <a:ln w="0">
            <a:noFill/>
          </a:ln>
        </p:spPr>
      </p:pic>
      <p:grpSp>
        <p:nvGrpSpPr>
          <p:cNvPr id="241" name="TextBox 3"/>
          <p:cNvGrpSpPr/>
          <p:nvPr/>
        </p:nvGrpSpPr>
        <p:grpSpPr>
          <a:xfrm>
            <a:off x="48240" y="1908000"/>
            <a:ext cx="7248960" cy="2829240"/>
            <a:chOff x="48240" y="1908000"/>
            <a:chExt cx="7248960" cy="2829240"/>
          </a:xfrm>
        </p:grpSpPr>
        <p:pic>
          <p:nvPicPr>
            <p:cNvPr id="242" name="TextBox 3" descr=""/>
            <p:cNvPicPr/>
            <p:nvPr/>
          </p:nvPicPr>
          <p:blipFill>
            <a:blip r:embed="rId2"/>
            <a:stretch/>
          </p:blipFill>
          <p:spPr>
            <a:xfrm>
              <a:off x="328680" y="1908000"/>
              <a:ext cx="6615000" cy="282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48240" y="1981080"/>
              <a:ext cx="724896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“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Cyberbullying” is when a teen is threaten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and harassed by another teen using th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Internet or other digital technologi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 “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Cyberbullying” is usually not a one 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communication and children know it whe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when they see i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Box 4"/>
          <p:cNvSpPr/>
          <p:nvPr/>
        </p:nvSpPr>
        <p:spPr>
          <a:xfrm>
            <a:off x="-45360" y="5105520"/>
            <a:ext cx="66121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efinition retrieved from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Perpetua"/>
                <a:hlinkClick r:id="rId3"/>
              </a:rPr>
              <a:t>http://www.stopcyberbullying.org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ction Button: Forward or Next 5">
            <a:hlinkClick r:id="" action="ppaction://hlinkshowjump?jump=nextslide"/>
          </p:cNvPr>
          <p:cNvSpPr/>
          <p:nvPr/>
        </p:nvSpPr>
        <p:spPr>
          <a:xfrm>
            <a:off x="8077320" y="6043680"/>
            <a:ext cx="761760" cy="585720"/>
          </a:xfrm>
          <a:custGeom>
            <a:avLst/>
            <a:gdLst>
              <a:gd name="textAreaLeft" fmla="*/ 37800 w 761760"/>
              <a:gd name="textAreaRight" fmla="*/ 723960 w 76176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8088" h="21600">
                <a:moveTo>
                  <a:pt x="0" y="0"/>
                </a:moveTo>
                <a:lnTo>
                  <a:pt x="28088" y="0"/>
                </a:lnTo>
                <a:lnTo>
                  <a:pt x="28088" y="21600"/>
                </a:lnTo>
                <a:lnTo>
                  <a:pt x="0" y="21600"/>
                </a:lnTo>
                <a:close/>
              </a:path>
              <a:path fill="lightenLess" w="28088" h="21600">
                <a:moveTo>
                  <a:pt x="0" y="0"/>
                </a:moveTo>
                <a:lnTo>
                  <a:pt x="28088" y="0"/>
                </a:lnTo>
                <a:lnTo>
                  <a:pt x="26688" y="1400"/>
                </a:lnTo>
                <a:lnTo>
                  <a:pt x="1400" y="1400"/>
                </a:lnTo>
                <a:close/>
              </a:path>
              <a:path fill="darken" w="28088" h="21600">
                <a:moveTo>
                  <a:pt x="28088" y="0"/>
                </a:moveTo>
                <a:lnTo>
                  <a:pt x="28088" y="21600"/>
                </a:lnTo>
                <a:lnTo>
                  <a:pt x="26688" y="20200"/>
                </a:lnTo>
                <a:lnTo>
                  <a:pt x="26688" y="1400"/>
                </a:lnTo>
                <a:close/>
              </a:path>
              <a:path fill="darkenLess" w="28088" h="21600">
                <a:moveTo>
                  <a:pt x="28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88" y="20200"/>
                </a:lnTo>
                <a:close/>
              </a:path>
              <a:path fill="lighten" w="28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88" h="21600">
                <a:moveTo>
                  <a:pt x="7037" y="3794"/>
                </a:moveTo>
                <a:lnTo>
                  <a:pt x="21050" y="10800"/>
                </a:lnTo>
                <a:lnTo>
                  <a:pt x="7037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ction Button: Back or Previous 6">
            <a:hlinkClick r:id="" action="ppaction://hlinkshowjump?jump=previousslide"/>
          </p:cNvPr>
          <p:cNvSpPr/>
          <p:nvPr/>
        </p:nvSpPr>
        <p:spPr>
          <a:xfrm>
            <a:off x="3808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Eurostile"/>
              </a:rPr>
              <a:t>Two Kinds of Cyberbullying</a:t>
            </a: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: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f81bd"/>
                </a:solidFill>
                <a:uFillTx/>
                <a:latin typeface="Eurostile"/>
              </a:rPr>
              <a:t>Direct Attack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essages sent directly to the victi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stant Messag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eractive Gam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ernet Poll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3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f81bd"/>
                </a:solidFill>
                <a:uFillTx/>
                <a:latin typeface="Eurostile"/>
              </a:rPr>
              <a:t>Cyberbullying by Prox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95288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essages are sent through others to the victi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cyberbully gets control of the victim’s account and sends out messages trying to cause problems between the victim and her friend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7467480" y="228600"/>
            <a:ext cx="1370160" cy="136512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2"/>
          <p:cNvSpPr/>
          <p:nvPr/>
        </p:nvSpPr>
        <p:spPr>
          <a:xfrm>
            <a:off x="1164240" y="5943600"/>
            <a:ext cx="6642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Examples retrieved from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Perpetua"/>
                <a:hlinkClick r:id="rId2"/>
              </a:rPr>
              <a:t>http://www.stopcyberbullying.org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ction Button: Back or Previous 11">
            <a:hlinkClick r:id="" action="ppaction://hlinkshowjump?jump=previousslide"/>
          </p:cNvPr>
          <p:cNvSpPr/>
          <p:nvPr/>
        </p:nvSpPr>
        <p:spPr>
          <a:xfrm>
            <a:off x="304920" y="6095880"/>
            <a:ext cx="662040" cy="533520"/>
          </a:xfrm>
          <a:custGeom>
            <a:avLst/>
            <a:gdLst>
              <a:gd name="textAreaLeft" fmla="*/ 34560 w 662040"/>
              <a:gd name="textAreaRight" fmla="*/ 627480 w 662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6800" h="21600">
                <a:moveTo>
                  <a:pt x="0" y="0"/>
                </a:moveTo>
                <a:lnTo>
                  <a:pt x="26800" y="0"/>
                </a:lnTo>
                <a:lnTo>
                  <a:pt x="26800" y="21600"/>
                </a:lnTo>
                <a:lnTo>
                  <a:pt x="0" y="21600"/>
                </a:lnTo>
                <a:close/>
              </a:path>
              <a:path fill="lightenLess" w="26800" h="21600">
                <a:moveTo>
                  <a:pt x="0" y="0"/>
                </a:moveTo>
                <a:lnTo>
                  <a:pt x="26800" y="0"/>
                </a:lnTo>
                <a:lnTo>
                  <a:pt x="25400" y="1400"/>
                </a:lnTo>
                <a:lnTo>
                  <a:pt x="1400" y="1400"/>
                </a:lnTo>
                <a:close/>
              </a:path>
              <a:path fill="darken" w="26800" h="21600">
                <a:moveTo>
                  <a:pt x="26800" y="0"/>
                </a:moveTo>
                <a:lnTo>
                  <a:pt x="26800" y="21600"/>
                </a:lnTo>
                <a:lnTo>
                  <a:pt x="25400" y="20200"/>
                </a:lnTo>
                <a:lnTo>
                  <a:pt x="25400" y="1400"/>
                </a:lnTo>
                <a:close/>
              </a:path>
              <a:path fill="darkenLess" w="26800" h="21600">
                <a:moveTo>
                  <a:pt x="2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00" y="20200"/>
                </a:lnTo>
                <a:close/>
              </a:path>
              <a:path fill="lighten" w="2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00" h="21600">
                <a:moveTo>
                  <a:pt x="6393" y="10800"/>
                </a:moveTo>
                <a:lnTo>
                  <a:pt x="20406" y="3794"/>
                </a:lnTo>
                <a:lnTo>
                  <a:pt x="20406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ction Button: Forward or Next 12">
            <a:hlinkClick r:id="" action="ppaction://hlinkshowjump?jump=nextslide"/>
          </p:cNvPr>
          <p:cNvSpPr/>
          <p:nvPr/>
        </p:nvSpPr>
        <p:spPr>
          <a:xfrm>
            <a:off x="822960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1"/>
          <p:cNvSpPr/>
          <p:nvPr/>
        </p:nvSpPr>
        <p:spPr>
          <a:xfrm>
            <a:off x="931320" y="909720"/>
            <a:ext cx="304272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Eurostile"/>
              </a:rPr>
              <a:t>QUICK QUIZ  #1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5715000" y="3733920"/>
            <a:ext cx="1992240" cy="2057400"/>
          </a:xfrm>
          <a:prstGeom prst="rect">
            <a:avLst/>
          </a:prstGeom>
          <a:ln w="0">
            <a:noFill/>
          </a:ln>
        </p:spPr>
      </p:pic>
      <p:grpSp>
        <p:nvGrpSpPr>
          <p:cNvPr id="258" name="TextBox 4"/>
          <p:cNvGrpSpPr/>
          <p:nvPr/>
        </p:nvGrpSpPr>
        <p:grpSpPr>
          <a:xfrm>
            <a:off x="-171720" y="1908000"/>
            <a:ext cx="7931880" cy="1352880"/>
            <a:chOff x="-171720" y="1908000"/>
            <a:chExt cx="7931880" cy="1352880"/>
          </a:xfrm>
        </p:grpSpPr>
        <p:pic>
          <p:nvPicPr>
            <p:cNvPr id="259" name="TextBox 4" descr=""/>
            <p:cNvPicPr/>
            <p:nvPr/>
          </p:nvPicPr>
          <p:blipFill>
            <a:blip r:embed="rId2"/>
            <a:stretch/>
          </p:blipFill>
          <p:spPr>
            <a:xfrm>
              <a:off x="244440" y="1908000"/>
              <a:ext cx="7034400" cy="13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-171720" y="1981080"/>
              <a:ext cx="7931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urostile"/>
                </a:rPr>
                <a:t>True or Fal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urostile"/>
                </a:rPr>
                <a:t>Cyberbulling is usually a one time communication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TextBox 5"/>
          <p:cNvSpPr/>
          <p:nvPr/>
        </p:nvSpPr>
        <p:spPr>
          <a:xfrm>
            <a:off x="2300760" y="3962520"/>
            <a:ext cx="1349640" cy="1136160"/>
          </a:xfrm>
          <a:prstGeom prst="rect">
            <a:avLst/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Eurostil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Eurostile"/>
                <a:hlinkClick r:id="rId3" action="ppaction://hlinksldjump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Eurostil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Eurostil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Eurostile"/>
                <a:hlinkClick r:id="rId4" action="ppaction://hlinksldjump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ction Button: Back or Previous 7">
            <a:hlinkClick r:id="" action="ppaction://hlinkshowjump?jump=previousslide"/>
          </p:cNvPr>
          <p:cNvSpPr/>
          <p:nvPr/>
        </p:nvSpPr>
        <p:spPr>
          <a:xfrm>
            <a:off x="304920" y="60199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10800"/>
                </a:moveTo>
                <a:lnTo>
                  <a:pt x="20503" y="3794"/>
                </a:lnTo>
                <a:lnTo>
                  <a:pt x="20503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ction Button: Forward or Next 8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28195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265" name="TextBox 2" descr=""/>
          <p:cNvPicPr/>
          <p:nvPr/>
        </p:nvPicPr>
        <p:blipFill>
          <a:blip r:embed="rId2"/>
          <a:stretch/>
        </p:blipFill>
        <p:spPr>
          <a:xfrm>
            <a:off x="554040" y="865080"/>
            <a:ext cx="8163000" cy="1335240"/>
          </a:xfrm>
          <a:prstGeom prst="rect">
            <a:avLst/>
          </a:prstGeom>
          <a:ln w="0">
            <a:noFill/>
          </a:ln>
        </p:spPr>
      </p:pic>
      <p:sp>
        <p:nvSpPr>
          <p:cNvPr id="266" name="Action Button: Back or Previous 3">
            <a:hlinkClick r:id="" action="ppaction://hlinkshowjump?jump=previousslide"/>
          </p:cNvPr>
          <p:cNvSpPr/>
          <p:nvPr/>
        </p:nvSpPr>
        <p:spPr>
          <a:xfrm>
            <a:off x="380880" y="57150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12001"/>
                </a:moveTo>
                <a:lnTo>
                  <a:pt x="17806" y="4995"/>
                </a:lnTo>
                <a:lnTo>
                  <a:pt x="17806" y="19008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30481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268" name="TextBox 2" descr=""/>
          <p:cNvPicPr/>
          <p:nvPr/>
        </p:nvPicPr>
        <p:blipFill>
          <a:blip r:embed="rId2"/>
          <a:stretch/>
        </p:blipFill>
        <p:spPr>
          <a:xfrm>
            <a:off x="1096920" y="1170000"/>
            <a:ext cx="6553080" cy="1335240"/>
          </a:xfrm>
          <a:prstGeom prst="rect">
            <a:avLst/>
          </a:prstGeom>
          <a:ln w="0">
            <a:noFill/>
          </a:ln>
        </p:spPr>
      </p:pic>
      <p:sp>
        <p:nvSpPr>
          <p:cNvPr id="269" name="Action Button: Forward or Next 3">
            <a:hlinkClick r:id="" action="ppaction://hlinkshowjump?jump=nextslide"/>
          </p:cNvPr>
          <p:cNvSpPr/>
          <p:nvPr/>
        </p:nvSpPr>
        <p:spPr>
          <a:xfrm>
            <a:off x="7772400" y="5867280"/>
            <a:ext cx="838080" cy="738360"/>
          </a:xfrm>
          <a:custGeom>
            <a:avLst/>
            <a:gdLst>
              <a:gd name="textAreaLeft" fmla="*/ 47520 w 838080"/>
              <a:gd name="textAreaRight" fmla="*/ 790560 w 83808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4516" h="21600">
                <a:moveTo>
                  <a:pt x="0" y="0"/>
                </a:moveTo>
                <a:lnTo>
                  <a:pt x="24516" y="0"/>
                </a:lnTo>
                <a:lnTo>
                  <a:pt x="24516" y="21600"/>
                </a:lnTo>
                <a:lnTo>
                  <a:pt x="0" y="21600"/>
                </a:lnTo>
                <a:close/>
              </a:path>
              <a:path fill="lightenLess" w="24516" h="21600">
                <a:moveTo>
                  <a:pt x="0" y="0"/>
                </a:moveTo>
                <a:lnTo>
                  <a:pt x="24516" y="0"/>
                </a:lnTo>
                <a:lnTo>
                  <a:pt x="23116" y="1400"/>
                </a:lnTo>
                <a:lnTo>
                  <a:pt x="1400" y="1400"/>
                </a:lnTo>
                <a:close/>
              </a:path>
              <a:path fill="darken" w="24516" h="21600">
                <a:moveTo>
                  <a:pt x="24516" y="0"/>
                </a:moveTo>
                <a:lnTo>
                  <a:pt x="24516" y="21600"/>
                </a:lnTo>
                <a:lnTo>
                  <a:pt x="23116" y="20200"/>
                </a:lnTo>
                <a:lnTo>
                  <a:pt x="23116" y="1400"/>
                </a:lnTo>
                <a:close/>
              </a:path>
              <a:path fill="darkenLess" w="24516" h="21600">
                <a:moveTo>
                  <a:pt x="24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6" y="20200"/>
                </a:lnTo>
                <a:close/>
              </a:path>
              <a:path fill="lighten" w="24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16" h="21600">
                <a:moveTo>
                  <a:pt x="5251" y="3794"/>
                </a:moveTo>
                <a:lnTo>
                  <a:pt x="19264" y="10800"/>
                </a:lnTo>
                <a:lnTo>
                  <a:pt x="5251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4"/>
          <p:cNvSpPr/>
          <p:nvPr/>
        </p:nvSpPr>
        <p:spPr>
          <a:xfrm>
            <a:off x="7480440" y="54864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1"/>
          <p:cNvSpPr/>
          <p:nvPr/>
        </p:nvSpPr>
        <p:spPr>
          <a:xfrm>
            <a:off x="1006920" y="762120"/>
            <a:ext cx="304272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Eurostile"/>
                <a:ea typeface="Aharoni"/>
              </a:rPr>
              <a:t>QUICK QUIZ  #2 . . </a:t>
            </a: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Aharon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5867280" y="3581280"/>
            <a:ext cx="1827360" cy="1820880"/>
          </a:xfrm>
          <a:prstGeom prst="rect">
            <a:avLst/>
          </a:prstGeom>
          <a:ln w="0">
            <a:noFill/>
          </a:ln>
        </p:spPr>
      </p:pic>
      <p:grpSp>
        <p:nvGrpSpPr>
          <p:cNvPr id="273" name="TextBox 3"/>
          <p:cNvGrpSpPr/>
          <p:nvPr/>
        </p:nvGrpSpPr>
        <p:grpSpPr>
          <a:xfrm>
            <a:off x="-26640" y="1603440"/>
            <a:ext cx="8309880" cy="1352520"/>
            <a:chOff x="-26640" y="1603440"/>
            <a:chExt cx="8309880" cy="1352520"/>
          </a:xfrm>
        </p:grpSpPr>
        <p:pic>
          <p:nvPicPr>
            <p:cNvPr id="274" name="TextBox 3" descr=""/>
            <p:cNvPicPr/>
            <p:nvPr/>
          </p:nvPicPr>
          <p:blipFill>
            <a:blip r:embed="rId2"/>
            <a:stretch/>
          </p:blipFill>
          <p:spPr>
            <a:xfrm>
              <a:off x="317520" y="1603440"/>
              <a:ext cx="755172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-26640" y="1676520"/>
              <a:ext cx="83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urostile"/>
                </a:rPr>
                <a:t>When a cyberbully steals a victim’s account passwo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urostile"/>
                </a:rPr>
                <a:t>And posts false messages to cause problems is 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urostile"/>
                </a:rPr>
                <a:t>Example of . .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Box 5"/>
          <p:cNvSpPr/>
          <p:nvPr/>
        </p:nvSpPr>
        <p:spPr>
          <a:xfrm>
            <a:off x="483120" y="3505320"/>
            <a:ext cx="256896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A. Direct A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6">
            <a:hlinkClick r:id="rId3" action="ppaction://hlinksldjump"/>
          </p:cNvPr>
          <p:cNvSpPr/>
          <p:nvPr/>
        </p:nvSpPr>
        <p:spPr>
          <a:xfrm>
            <a:off x="318240" y="4419720"/>
            <a:ext cx="406548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B. Cyberbullying by Pro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ction Button: Back or Previous 7">
            <a:hlinkClick r:id="" action="ppaction://hlinkshowjump?jump=previousslide"/>
          </p:cNvPr>
          <p:cNvSpPr/>
          <p:nvPr/>
        </p:nvSpPr>
        <p:spPr>
          <a:xfrm>
            <a:off x="380880" y="5815080"/>
            <a:ext cx="762120" cy="662040"/>
          </a:xfrm>
          <a:custGeom>
            <a:avLst/>
            <a:gdLst>
              <a:gd name="textAreaLeft" fmla="*/ 42840 w 762120"/>
              <a:gd name="textAreaRight" fmla="*/ 719280 w 7621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863" h="21600">
                <a:moveTo>
                  <a:pt x="0" y="0"/>
                </a:moveTo>
                <a:lnTo>
                  <a:pt x="24863" y="0"/>
                </a:lnTo>
                <a:lnTo>
                  <a:pt x="24863" y="21600"/>
                </a:lnTo>
                <a:lnTo>
                  <a:pt x="0" y="21600"/>
                </a:lnTo>
                <a:close/>
              </a:path>
              <a:path fill="lightenLess" w="24863" h="21600">
                <a:moveTo>
                  <a:pt x="0" y="0"/>
                </a:moveTo>
                <a:lnTo>
                  <a:pt x="24863" y="0"/>
                </a:lnTo>
                <a:lnTo>
                  <a:pt x="23463" y="1400"/>
                </a:lnTo>
                <a:lnTo>
                  <a:pt x="1400" y="1400"/>
                </a:lnTo>
                <a:close/>
              </a:path>
              <a:path fill="darken" w="24863" h="21600">
                <a:moveTo>
                  <a:pt x="24863" y="0"/>
                </a:moveTo>
                <a:lnTo>
                  <a:pt x="24863" y="21600"/>
                </a:lnTo>
                <a:lnTo>
                  <a:pt x="23463" y="20200"/>
                </a:lnTo>
                <a:lnTo>
                  <a:pt x="23463" y="1400"/>
                </a:lnTo>
                <a:close/>
              </a:path>
              <a:path fill="darkenLess" w="24863" h="21600">
                <a:moveTo>
                  <a:pt x="248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63" y="20200"/>
                </a:lnTo>
                <a:close/>
              </a:path>
              <a:path fill="lighten" w="248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63" h="21600">
                <a:moveTo>
                  <a:pt x="5425" y="10800"/>
                </a:moveTo>
                <a:lnTo>
                  <a:pt x="19438" y="3794"/>
                </a:lnTo>
                <a:lnTo>
                  <a:pt x="19438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ction Button: Forward or Next 8">
            <a:hlinkClick r:id="" action="ppaction://hlinkshowjump?jump=nextslide"/>
          </p:cNvPr>
          <p:cNvSpPr/>
          <p:nvPr/>
        </p:nvSpPr>
        <p:spPr>
          <a:xfrm>
            <a:off x="8077320" y="594360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3794"/>
                </a:moveTo>
                <a:lnTo>
                  <a:pt x="20503" y="10800"/>
                </a:lnTo>
                <a:lnTo>
                  <a:pt x="6490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28195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281" name="TextBox 2" descr=""/>
          <p:cNvPicPr/>
          <p:nvPr/>
        </p:nvPicPr>
        <p:blipFill>
          <a:blip r:embed="rId2"/>
          <a:stretch/>
        </p:blipFill>
        <p:spPr>
          <a:xfrm>
            <a:off x="554040" y="865080"/>
            <a:ext cx="8163000" cy="1335240"/>
          </a:xfrm>
          <a:prstGeom prst="rect">
            <a:avLst/>
          </a:prstGeom>
          <a:ln w="0">
            <a:noFill/>
          </a:ln>
        </p:spPr>
      </p:pic>
      <p:sp>
        <p:nvSpPr>
          <p:cNvPr id="282" name="Action Button: Back or Previous 3">
            <a:hlinkClick r:id="" action="ppaction://hlinkshowjump?jump=previousslide"/>
          </p:cNvPr>
          <p:cNvSpPr/>
          <p:nvPr/>
        </p:nvSpPr>
        <p:spPr>
          <a:xfrm>
            <a:off x="380880" y="57150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12001"/>
                </a:moveTo>
                <a:lnTo>
                  <a:pt x="17806" y="4995"/>
                </a:lnTo>
                <a:lnTo>
                  <a:pt x="17806" y="19008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30481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284" name="TextBox 2" descr=""/>
          <p:cNvPicPr/>
          <p:nvPr/>
        </p:nvPicPr>
        <p:blipFill>
          <a:blip r:embed="rId2"/>
          <a:stretch/>
        </p:blipFill>
        <p:spPr>
          <a:xfrm>
            <a:off x="1096920" y="1170000"/>
            <a:ext cx="6553080" cy="1335240"/>
          </a:xfrm>
          <a:prstGeom prst="rect">
            <a:avLst/>
          </a:prstGeom>
          <a:ln w="0">
            <a:noFill/>
          </a:ln>
        </p:spPr>
      </p:pic>
      <p:sp>
        <p:nvSpPr>
          <p:cNvPr id="285" name="Action Button: Forward or Next 3">
            <a:hlinkClick r:id="" action="ppaction://hlinkshowjump?jump=nextslide"/>
          </p:cNvPr>
          <p:cNvSpPr/>
          <p:nvPr/>
        </p:nvSpPr>
        <p:spPr>
          <a:xfrm>
            <a:off x="7772400" y="5867280"/>
            <a:ext cx="838080" cy="738360"/>
          </a:xfrm>
          <a:custGeom>
            <a:avLst/>
            <a:gdLst>
              <a:gd name="textAreaLeft" fmla="*/ 47520 w 838080"/>
              <a:gd name="textAreaRight" fmla="*/ 790560 w 83808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4516" h="21600">
                <a:moveTo>
                  <a:pt x="0" y="0"/>
                </a:moveTo>
                <a:lnTo>
                  <a:pt x="24516" y="0"/>
                </a:lnTo>
                <a:lnTo>
                  <a:pt x="24516" y="21600"/>
                </a:lnTo>
                <a:lnTo>
                  <a:pt x="0" y="21600"/>
                </a:lnTo>
                <a:close/>
              </a:path>
              <a:path fill="lightenLess" w="24516" h="21600">
                <a:moveTo>
                  <a:pt x="0" y="0"/>
                </a:moveTo>
                <a:lnTo>
                  <a:pt x="24516" y="0"/>
                </a:lnTo>
                <a:lnTo>
                  <a:pt x="23116" y="1400"/>
                </a:lnTo>
                <a:lnTo>
                  <a:pt x="1400" y="1400"/>
                </a:lnTo>
                <a:close/>
              </a:path>
              <a:path fill="darken" w="24516" h="21600">
                <a:moveTo>
                  <a:pt x="24516" y="0"/>
                </a:moveTo>
                <a:lnTo>
                  <a:pt x="24516" y="21600"/>
                </a:lnTo>
                <a:lnTo>
                  <a:pt x="23116" y="20200"/>
                </a:lnTo>
                <a:lnTo>
                  <a:pt x="23116" y="1400"/>
                </a:lnTo>
                <a:close/>
              </a:path>
              <a:path fill="darkenLess" w="24516" h="21600">
                <a:moveTo>
                  <a:pt x="24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6" y="20200"/>
                </a:lnTo>
                <a:close/>
              </a:path>
              <a:path fill="lighten" w="24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16" h="21600">
                <a:moveTo>
                  <a:pt x="5251" y="3794"/>
                </a:moveTo>
                <a:lnTo>
                  <a:pt x="19264" y="10800"/>
                </a:lnTo>
                <a:lnTo>
                  <a:pt x="5251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7543800" y="5497560"/>
            <a:ext cx="12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01:23:17Z</dcterms:created>
  <dc:creator>mary beth</dc:creator>
  <dc:description/>
  <dc:language>en-US</dc:language>
  <cp:lastModifiedBy>mary beth</cp:lastModifiedBy>
  <dcterms:modified xsi:type="dcterms:W3CDTF">2010-07-27T01:49:09Z</dcterms:modified>
  <cp:revision>33</cp:revision>
  <dc:subject/>
  <dc:title>Slide 1</dc:title>
</cp:coreProperties>
</file>