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A782-2FFC-4F84-B53E-7B7D66347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AF64-5A06-4DB7-BDB1-74FB6579C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68B-E2A7-4AD0-8B24-57C760461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121D-CD52-423D-B7D5-476381B37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715A-4F8C-418D-8309-636817AA7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929C-A0F8-4326-AF13-EAF675C6B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656D-93BB-47D3-9E3F-078757D88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B932-F89E-4202-AA3A-B41DCF0B3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C9A8-BED3-4DE1-805A-0FA78745D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4704-DAF5-43BD-81A4-4E7B37A18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C6E3-FECE-4BE9-A26F-22513B5B7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0AB1-FD1A-4611-97AE-C62BDF294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81A0-D45E-4D01-B3E8-FBDD562AC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9DEB-8864-4C56-B9CC-D005EAE6F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327D-0F5A-467C-A15D-737C8077A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7795-F98B-459D-8E4F-FD8C012A7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E60D-F64F-42E8-8100-DDFECC720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D5A8-0791-419E-996B-33B20EA8D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4BFE-4D67-463F-991D-A34B3C9E6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AE1B-4D3D-4B9B-BD8C-26619B813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56C-879F-41F0-B0EA-61449659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C24-C691-476A-9309-85AB6B2C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1C1-87C1-42E7-B92A-39E94361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4ED-EB7B-46C2-95D4-CEAF066F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17CD-3B80-4B6A-9C95-1ECEC8E7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D59A-9E0D-45E1-8535-48F37E45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0320-FA2F-4F9D-8D22-1572EE69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788E-6727-4382-A292-659B15C7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7288-1F17-4073-90EB-70AE2615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C191-1876-4F19-9BE3-138A6D36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7758-E9C7-47BD-A63E-0FF076D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376-7EED-42F4-B4BE-5AFF1DEE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7F1F-419B-4C10-AD94-7A755C6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383-D9B1-42C0-BFA8-B379C5DD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8F2C-2DD2-4759-A718-1917BB9C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04BC-5411-43DE-A5B0-08AAF842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9561-59EC-44B0-88EC-2E93EA5C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E27B-1E92-4AB4-914C-47D9004E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0174C-4778-4AAF-8D88-E4CED9C3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058A-EFA5-447A-B237-EFF3D2D5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55B4-5D2B-49B4-BD9D-B805ED8D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597E-7337-45DE-BCE6-5446F3EF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333-29BC-4BA1-BB7D-8A3D56B2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FB7F-98E2-4A43-965C-B842CA6D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2305-09B2-4D32-8988-8C3B0831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1CE2-E015-40E4-B3FB-50B61A5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E73A-5F12-4CD1-8E13-D496E6CD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7DA3-A0D7-4A45-BCAE-EA0E1DFB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06B2-6A5F-4C90-8650-35A95CEF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7BDA-AE04-4C47-8AE6-B111D09B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5927-73D1-48B8-A084-35A33478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0CB1-E8BA-4058-9DBB-33AC791E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7026-86B4-4B97-8ADE-F944CEBC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F25-5426-4CB7-AA8E-D18A651C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1EB4-7A00-4151-B768-BE2A1D0B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DA41-8DC2-4669-8EC5-5C58D3F2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648E1-D3EC-41AA-92AE-5DAA3E76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A3776-D8D9-455C-8530-A463EA6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55FD8-99D5-4C1C-8814-9F3D5109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852E-1176-4AE3-A679-C079E214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1EFF-764D-4884-8617-B58D6275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7E3C-4660-47A5-BF6E-A22BE1E5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B0F9-8174-4B2A-9224-1A6E9B0B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0832-6136-4164-ACBB-3B5991CF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0E0-249C-43F5-B756-E05704A1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6A10-C824-419A-A13F-83B764B5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6B839-DA4E-40C3-8EBB-50905535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7F51D-B13B-4BF3-9BB4-0BCF6317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9F25-1437-4D3B-806F-8E20229A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AD819-BA80-407D-ADD4-E2F9D591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35423-B550-49B1-812E-A661882E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FD107-AB9E-484C-BAE7-46958C86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3433-B705-430C-AF82-9237298E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BA7B6-89CE-42E5-9CF3-D8A976E8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F6BD5-5835-42BF-AB1A-46D25F44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AEC-9BEA-49FF-BA85-ED93AE0A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5BC33-A31B-4F8A-91BB-14521DF0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DD4-1CFF-477F-8B12-84301D43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83D-4CF2-4041-AA54-2CDDF49D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6D4-B415-4CB8-9301-0CDC9405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3FFA-BBC9-4BB7-8E3D-13CACB1E108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3CCC-5B41-4DA4-A710-EB2591E4EDA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7FC4-0D52-4FDA-8EF8-E8D650982C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9EAB-FA2B-4179-8791-0B9D654920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6AA0-656A-4B45-B1B6-4132DD782E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redkids.org/ktt_universal/games/javascript/cyberbullying_quiz_1/index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stopcyberbullying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topcyberbullying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1006560" y="347760"/>
            <a:ext cx="6960960" cy="2030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980520" y="3056040"/>
            <a:ext cx="42116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s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ake Olympia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rt Bend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mary beth\AppData\Local\Microsoft\Windows\Temporary Internet Files\Content.IE5\OFMNSCOL\MC900293876[1].wmf"/>
          <p:cNvPicPr/>
          <p:nvPr/>
        </p:nvPicPr>
        <p:blipFill>
          <a:blip r:embed="rId2"/>
          <a:stretch/>
        </p:blipFill>
        <p:spPr>
          <a:xfrm>
            <a:off x="533520" y="3124080"/>
            <a:ext cx="28224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79246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04920" y="4811760"/>
            <a:ext cx="8458200" cy="67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://www.wiredkids.org/ktt_universal/games/javascript/cyberbullying_quiz_1/index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53520" y="990720"/>
            <a:ext cx="47300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HAVE  YOU EVER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CYBER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extBox 3"/>
          <p:cNvGrpSpPr/>
          <p:nvPr/>
        </p:nvGrpSpPr>
        <p:grpSpPr>
          <a:xfrm>
            <a:off x="235080" y="2743200"/>
            <a:ext cx="3407040" cy="987480"/>
            <a:chOff x="235080" y="2743200"/>
            <a:chExt cx="3407040" cy="987480"/>
          </a:xfrm>
        </p:grpSpPr>
        <p:pic>
          <p:nvPicPr>
            <p:cNvPr id="290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2743200"/>
              <a:ext cx="3206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5080" y="2819520"/>
              <a:ext cx="34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Try a qui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Click the link below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3" descr="C:\Users\mary beth\AppData\Local\Microsoft\Windows\Temporary Internet Files\Content.IE5\9W7UX5WD\MC900293876[1].wmf"/>
          <p:cNvPicPr/>
          <p:nvPr/>
        </p:nvPicPr>
        <p:blipFill>
          <a:blip r:embed="rId3"/>
          <a:stretch/>
        </p:blipFill>
        <p:spPr>
          <a:xfrm>
            <a:off x="5943600" y="762120"/>
            <a:ext cx="22082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6"/>
          <p:cNvGrpSpPr/>
          <p:nvPr/>
        </p:nvGrpSpPr>
        <p:grpSpPr>
          <a:xfrm>
            <a:off x="474480" y="4151160"/>
            <a:ext cx="7733520" cy="500040"/>
            <a:chOff x="474480" y="4151160"/>
            <a:chExt cx="7733520" cy="500040"/>
          </a:xfrm>
        </p:grpSpPr>
        <p:pic>
          <p:nvPicPr>
            <p:cNvPr id="294" name="TextBox 6" descr=""/>
            <p:cNvPicPr/>
            <p:nvPr/>
          </p:nvPicPr>
          <p:blipFill>
            <a:blip r:embed="rId4"/>
            <a:stretch/>
          </p:blipFill>
          <p:spPr>
            <a:xfrm>
              <a:off x="895320" y="4151160"/>
              <a:ext cx="68533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4480" y="420228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Eurostile"/>
                </a:rPr>
                <a:t>When finished just close the window and continue with the les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ction Button: Forward or Next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IDEAS TO PREVENT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CYBERBULLYING . . 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733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Technolog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Setting software controls to limit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ing fil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kid-safe web brows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monitor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Learn and practice online safe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Use good Netiquet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Have computers in public places where monitors are visi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Report incidents immediat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:\Users\mary beth\AppData\Local\Microsoft\Windows\Temporary Internet Files\Content.IE5\9W7UX5WD\MC900293876[1].wmf"/>
          <p:cNvPicPr/>
          <p:nvPr/>
        </p:nvPicPr>
        <p:blipFill>
          <a:blip r:embed="rId1"/>
          <a:stretch/>
        </p:blipFill>
        <p:spPr>
          <a:xfrm>
            <a:off x="7086600" y="15876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356120" y="6172200"/>
            <a:ext cx="63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uggestions retrieved from cyberbullyingpreventi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ction Button: Back or Previous 9">
            <a:hlinkClick r:id="" action="ppaction://hlinkshowjump?jump=previousslide"/>
          </p:cNvPr>
          <p:cNvSpPr/>
          <p:nvPr/>
        </p:nvSpPr>
        <p:spPr>
          <a:xfrm>
            <a:off x="304920" y="5943600"/>
            <a:ext cx="814320" cy="609480"/>
          </a:xfrm>
          <a:custGeom>
            <a:avLst/>
            <a:gdLst>
              <a:gd name="textAreaLeft" fmla="*/ 39240 w 814320"/>
              <a:gd name="textAreaRight" fmla="*/ 775080 w 81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8855" h="21600">
                <a:moveTo>
                  <a:pt x="0" y="0"/>
                </a:moveTo>
                <a:lnTo>
                  <a:pt x="28855" y="0"/>
                </a:lnTo>
                <a:lnTo>
                  <a:pt x="28855" y="21600"/>
                </a:lnTo>
                <a:lnTo>
                  <a:pt x="0" y="21600"/>
                </a:lnTo>
                <a:close/>
              </a:path>
              <a:path fill="lightenLess" w="28855" h="21600">
                <a:moveTo>
                  <a:pt x="0" y="0"/>
                </a:moveTo>
                <a:lnTo>
                  <a:pt x="28855" y="0"/>
                </a:lnTo>
                <a:lnTo>
                  <a:pt x="27455" y="1400"/>
                </a:lnTo>
                <a:lnTo>
                  <a:pt x="1400" y="1400"/>
                </a:lnTo>
                <a:close/>
              </a:path>
              <a:path fill="darken" w="28855" h="21600">
                <a:moveTo>
                  <a:pt x="28855" y="0"/>
                </a:moveTo>
                <a:lnTo>
                  <a:pt x="28855" y="21600"/>
                </a:lnTo>
                <a:lnTo>
                  <a:pt x="27455" y="20200"/>
                </a:lnTo>
                <a:lnTo>
                  <a:pt x="27455" y="1400"/>
                </a:lnTo>
                <a:close/>
              </a:path>
              <a:path fill="darkenLess" w="28855" h="21600">
                <a:moveTo>
                  <a:pt x="28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55" y="20200"/>
                </a:lnTo>
                <a:close/>
              </a:path>
              <a:path fill="lighten" w="28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55" h="21600">
                <a:moveTo>
                  <a:pt x="7421" y="10800"/>
                </a:moveTo>
                <a:lnTo>
                  <a:pt x="21434" y="3794"/>
                </a:lnTo>
                <a:lnTo>
                  <a:pt x="214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ction Button: Forward or Next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833760" y="609480"/>
            <a:ext cx="342540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Eurostile"/>
              </a:rPr>
              <a:t>QUICK QUIZ #3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853320" y="457200"/>
            <a:ext cx="1298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09" name="TextBox 3"/>
          <p:cNvGrpSpPr/>
          <p:nvPr/>
        </p:nvGrpSpPr>
        <p:grpSpPr>
          <a:xfrm>
            <a:off x="62640" y="1749600"/>
            <a:ext cx="7639200" cy="1116000"/>
            <a:chOff x="62640" y="1749600"/>
            <a:chExt cx="7639200" cy="1116000"/>
          </a:xfrm>
        </p:grpSpPr>
        <p:pic>
          <p:nvPicPr>
            <p:cNvPr id="310" name="TextBox 3" descr=""/>
            <p:cNvPicPr/>
            <p:nvPr/>
          </p:nvPicPr>
          <p:blipFill>
            <a:blip r:embed="rId2"/>
            <a:stretch/>
          </p:blipFill>
          <p:spPr>
            <a:xfrm>
              <a:off x="365040" y="1749600"/>
              <a:ext cx="695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2640" y="1828800"/>
              <a:ext cx="763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Which is NOT a good way to prev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technology at schoo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4">
            <a:hlinkClick r:id="rId3" action="ppaction://hlinksldjump"/>
          </p:cNvPr>
          <p:cNvSpPr/>
          <p:nvPr/>
        </p:nvSpPr>
        <p:spPr>
          <a:xfrm>
            <a:off x="670320" y="3352680"/>
            <a:ext cx="26251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Add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>
            <a:hlinkClick r:id="rId4" action="ppaction://hlinksldjump"/>
          </p:cNvPr>
          <p:cNvSpPr/>
          <p:nvPr/>
        </p:nvSpPr>
        <p:spPr>
          <a:xfrm>
            <a:off x="515160" y="4267080"/>
            <a:ext cx="61851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Allowing students access to My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>
            <a:hlinkClick r:id="rId5" action="ppaction://hlinksldjump"/>
          </p:cNvPr>
          <p:cNvSpPr/>
          <p:nvPr/>
        </p:nvSpPr>
        <p:spPr>
          <a:xfrm>
            <a:off x="567360" y="5105520"/>
            <a:ext cx="469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Add kid-safe web brow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ction Button: Back or Previous 8">
            <a:hlinkClick r:id="" action="ppaction://hlinkshowjump?jump=previousslide"/>
          </p:cNvPr>
          <p:cNvSpPr/>
          <p:nvPr/>
        </p:nvSpPr>
        <p:spPr>
          <a:xfrm>
            <a:off x="304920" y="5867280"/>
            <a:ext cx="738000" cy="7621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306">
                <a:moveTo>
                  <a:pt x="0" y="0"/>
                </a:moveTo>
                <a:lnTo>
                  <a:pt x="21600" y="0"/>
                </a:lnTo>
                <a:lnTo>
                  <a:pt x="21600" y="22306"/>
                </a:lnTo>
                <a:lnTo>
                  <a:pt x="0" y="22306"/>
                </a:lnTo>
                <a:close/>
              </a:path>
              <a:path fill="lightenLess" w="21600" h="2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06">
                <a:moveTo>
                  <a:pt x="21600" y="0"/>
                </a:moveTo>
                <a:lnTo>
                  <a:pt x="21600" y="22306"/>
                </a:lnTo>
                <a:lnTo>
                  <a:pt x="20200" y="20906"/>
                </a:lnTo>
                <a:lnTo>
                  <a:pt x="20200" y="1400"/>
                </a:lnTo>
                <a:close/>
              </a:path>
              <a:path fill="darkenLess" w="21600" h="22306">
                <a:moveTo>
                  <a:pt x="21600" y="22306"/>
                </a:moveTo>
                <a:lnTo>
                  <a:pt x="0" y="22306"/>
                </a:lnTo>
                <a:lnTo>
                  <a:pt x="1400" y="20906"/>
                </a:lnTo>
                <a:lnTo>
                  <a:pt x="20200" y="20906"/>
                </a:lnTo>
                <a:close/>
              </a:path>
              <a:path fill="lighten" w="21600" h="22306">
                <a:moveTo>
                  <a:pt x="0" y="2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06"/>
                </a:lnTo>
                <a:close/>
              </a:path>
              <a:path fill="darken" w="21600" h="22306">
                <a:moveTo>
                  <a:pt x="3794" y="11153"/>
                </a:moveTo>
                <a:lnTo>
                  <a:pt x="17806" y="4146"/>
                </a:lnTo>
                <a:lnTo>
                  <a:pt x="17806" y="18159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ction Button: Forward or Next 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19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779760" y="685800"/>
            <a:ext cx="2963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#4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775560" y="380880"/>
            <a:ext cx="13762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3"/>
          <p:cNvGrpSpPr/>
          <p:nvPr/>
        </p:nvGrpSpPr>
        <p:grpSpPr>
          <a:xfrm>
            <a:off x="1440" y="1749600"/>
            <a:ext cx="7826760" cy="1116000"/>
            <a:chOff x="1440" y="1749600"/>
            <a:chExt cx="7826760" cy="1116000"/>
          </a:xfrm>
        </p:grpSpPr>
        <p:pic>
          <p:nvPicPr>
            <p:cNvPr id="327" name="TextBox 3" descr=""/>
            <p:cNvPicPr/>
            <p:nvPr/>
          </p:nvPicPr>
          <p:blipFill>
            <a:blip r:embed="rId2"/>
            <a:stretch/>
          </p:blipFill>
          <p:spPr>
            <a:xfrm>
              <a:off x="285840" y="1749600"/>
              <a:ext cx="7169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40" y="1828800"/>
              <a:ext cx="782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What is a good way for students to prev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educa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4">
            <a:hlinkClick r:id="rId3" action="ppaction://hlinksldjump"/>
          </p:cNvPr>
          <p:cNvSpPr/>
          <p:nvPr/>
        </p:nvSpPr>
        <p:spPr>
          <a:xfrm>
            <a:off x="263520" y="3429000"/>
            <a:ext cx="6226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Give out personal information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>
            <a:hlinkClick r:id="rId4" action="ppaction://hlinksldjump"/>
          </p:cNvPr>
          <p:cNvSpPr/>
          <p:nvPr/>
        </p:nvSpPr>
        <p:spPr>
          <a:xfrm>
            <a:off x="225720" y="4267080"/>
            <a:ext cx="7884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Start rumors using Gaggle electronic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>
            <a:hlinkClick r:id="rId5" action="ppaction://hlinksldjump"/>
          </p:cNvPr>
          <p:cNvSpPr/>
          <p:nvPr/>
        </p:nvSpPr>
        <p:spPr>
          <a:xfrm>
            <a:off x="209160" y="5105520"/>
            <a:ext cx="70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Learn and be informed about onlin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533160"/>
          </a:xfrm>
          <a:custGeom>
            <a:avLst/>
            <a:gdLst>
              <a:gd name="textAreaLeft" fmla="*/ 34560 w 814680"/>
              <a:gd name="textAreaRight" fmla="*/ 780120 w 814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10800"/>
                </a:moveTo>
                <a:lnTo>
                  <a:pt x="23505" y="3794"/>
                </a:lnTo>
                <a:lnTo>
                  <a:pt x="2350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ction Button: Forward or Next 8">
            <a:hlinkClick r:id="" action="ppaction://hlinkshowjump?jump=nextslide"/>
          </p:cNvPr>
          <p:cNvSpPr/>
          <p:nvPr/>
        </p:nvSpPr>
        <p:spPr>
          <a:xfrm>
            <a:off x="7848720" y="6019920"/>
            <a:ext cx="890640" cy="53316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6073" h="21600">
                <a:moveTo>
                  <a:pt x="0" y="0"/>
                </a:moveTo>
                <a:lnTo>
                  <a:pt x="36073" y="0"/>
                </a:lnTo>
                <a:lnTo>
                  <a:pt x="36073" y="21600"/>
                </a:lnTo>
                <a:lnTo>
                  <a:pt x="0" y="21600"/>
                </a:lnTo>
                <a:close/>
              </a:path>
              <a:path fill="lightenLess" w="36073" h="21600">
                <a:moveTo>
                  <a:pt x="0" y="0"/>
                </a:moveTo>
                <a:lnTo>
                  <a:pt x="36073" y="0"/>
                </a:lnTo>
                <a:lnTo>
                  <a:pt x="34673" y="1400"/>
                </a:lnTo>
                <a:lnTo>
                  <a:pt x="1400" y="1400"/>
                </a:lnTo>
                <a:close/>
              </a:path>
              <a:path fill="darken" w="36073" h="21600">
                <a:moveTo>
                  <a:pt x="36073" y="0"/>
                </a:moveTo>
                <a:lnTo>
                  <a:pt x="36073" y="21600"/>
                </a:lnTo>
                <a:lnTo>
                  <a:pt x="34673" y="20200"/>
                </a:lnTo>
                <a:lnTo>
                  <a:pt x="34673" y="1400"/>
                </a:lnTo>
                <a:close/>
              </a:path>
              <a:path fill="darkenLess" w="36073" h="21600">
                <a:moveTo>
                  <a:pt x="3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3" y="20200"/>
                </a:lnTo>
                <a:close/>
              </a:path>
              <a:path fill="lighten" w="3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3" h="21600">
                <a:moveTo>
                  <a:pt x="11030" y="3794"/>
                </a:moveTo>
                <a:lnTo>
                  <a:pt x="25043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459720" y="685800"/>
            <a:ext cx="5967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Eurostile"/>
              </a:rPr>
              <a:t>QUESTIONS USED FOR DISCUSSION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685800" y="1633680"/>
            <a:ext cx="6934320" cy="366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Use Gaggle to e-mail me your answers to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If someone posted false information or rumors about you on a social networking site (facebook), w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urostile"/>
              </a:rPr>
              <a:t>should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How does Lake O handle cyberbullying incidents? Do you agree or disagree with campus procedures?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3)  Do you share your passwords with other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570960" y="4876920"/>
            <a:ext cx="8003520" cy="7038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You may also use your Gaggle account to send m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And/or concerns about Cyberbullying . . . I will liste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7010280" y="228600"/>
            <a:ext cx="152892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Action Button: Back or Previous 5">
            <a:hlinkClick r:id="" action="ppaction://hlinkshowjump?jump=previousslide"/>
          </p:cNvPr>
          <p:cNvSpPr/>
          <p:nvPr/>
        </p:nvSpPr>
        <p:spPr>
          <a:xfrm>
            <a:off x="38088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ction Button: Forward or Next 6">
            <a:hlinkClick r:id="" action="ppaction://hlinkshowjump?jump=nextslide"/>
          </p:cNvPr>
          <p:cNvSpPr/>
          <p:nvPr/>
        </p:nvSpPr>
        <p:spPr>
          <a:xfrm>
            <a:off x="8001000" y="59436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678040" y="60199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y.cooley@fortbend.k12.tx.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9528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778320" y="757080"/>
            <a:ext cx="4866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Eurostile"/>
              </a:rPr>
              <a:t>SOURCES FOR INFORMATION . 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5943600" y="1219320"/>
            <a:ext cx="24368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TextBox 4"/>
          <p:cNvGrpSpPr/>
          <p:nvPr/>
        </p:nvGrpSpPr>
        <p:grpSpPr>
          <a:xfrm>
            <a:off x="717120" y="1951200"/>
            <a:ext cx="5098680" cy="2938320"/>
            <a:chOff x="717120" y="1951200"/>
            <a:chExt cx="5098680" cy="2938320"/>
          </a:xfrm>
        </p:grpSpPr>
        <p:pic>
          <p:nvPicPr>
            <p:cNvPr id="352" name="TextBox 4" descr=""/>
            <p:cNvPicPr/>
            <p:nvPr/>
          </p:nvPicPr>
          <p:blipFill>
            <a:blip r:embed="rId2"/>
            <a:stretch/>
          </p:blipFill>
          <p:spPr>
            <a:xfrm>
              <a:off x="884160" y="1951200"/>
              <a:ext cx="473544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17120" y="1981080"/>
              <a:ext cx="50986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wiredkids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stopcyberbullying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cyberbullyingpreventio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TextBox 5" descr=""/>
          <p:cNvPicPr/>
          <p:nvPr/>
        </p:nvPicPr>
        <p:blipFill>
          <a:blip r:embed="rId3"/>
          <a:stretch/>
        </p:blipFill>
        <p:spPr>
          <a:xfrm>
            <a:off x="2822400" y="5132520"/>
            <a:ext cx="4956480" cy="950760"/>
          </a:xfrm>
          <a:prstGeom prst="rect">
            <a:avLst/>
          </a:prstGeom>
          <a:ln w="0">
            <a:noFill/>
          </a:ln>
        </p:spPr>
      </p:pic>
      <p:sp>
        <p:nvSpPr>
          <p:cNvPr id="355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457200"/>
          </a:xfrm>
          <a:custGeom>
            <a:avLst/>
            <a:gdLst>
              <a:gd name="textAreaLeft" fmla="*/ 29520 w 814680"/>
              <a:gd name="textAreaRight" fmla="*/ 785160 w 814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76" h="21600">
                <a:moveTo>
                  <a:pt x="0" y="0"/>
                </a:moveTo>
                <a:lnTo>
                  <a:pt x="38476" y="0"/>
                </a:lnTo>
                <a:lnTo>
                  <a:pt x="38476" y="21600"/>
                </a:lnTo>
                <a:lnTo>
                  <a:pt x="0" y="21600"/>
                </a:lnTo>
                <a:close/>
              </a:path>
              <a:path fill="lightenLess" w="38476" h="21600">
                <a:moveTo>
                  <a:pt x="0" y="0"/>
                </a:moveTo>
                <a:lnTo>
                  <a:pt x="38476" y="0"/>
                </a:lnTo>
                <a:lnTo>
                  <a:pt x="37076" y="1400"/>
                </a:lnTo>
                <a:lnTo>
                  <a:pt x="1400" y="1400"/>
                </a:lnTo>
                <a:close/>
              </a:path>
              <a:path fill="darken" w="38476" h="21600">
                <a:moveTo>
                  <a:pt x="38476" y="0"/>
                </a:moveTo>
                <a:lnTo>
                  <a:pt x="38476" y="21600"/>
                </a:lnTo>
                <a:lnTo>
                  <a:pt x="37076" y="20200"/>
                </a:lnTo>
                <a:lnTo>
                  <a:pt x="37076" y="1400"/>
                </a:lnTo>
                <a:close/>
              </a:path>
              <a:path fill="darkenLess" w="38476" h="21600">
                <a:moveTo>
                  <a:pt x="38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76" y="20200"/>
                </a:lnTo>
                <a:close/>
              </a:path>
              <a:path fill="lighten" w="38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76" h="21600">
                <a:moveTo>
                  <a:pt x="12231" y="10800"/>
                </a:moveTo>
                <a:lnTo>
                  <a:pt x="26244" y="3794"/>
                </a:lnTo>
                <a:lnTo>
                  <a:pt x="2624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594000" y="635040"/>
            <a:ext cx="53560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Eurostile"/>
              </a:rPr>
              <a:t>WHAT IS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6629400" y="3808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41" name="TextBox 3"/>
          <p:cNvGrpSpPr/>
          <p:nvPr/>
        </p:nvGrpSpPr>
        <p:grpSpPr>
          <a:xfrm>
            <a:off x="48240" y="1908000"/>
            <a:ext cx="7248960" cy="2829240"/>
            <a:chOff x="48240" y="1908000"/>
            <a:chExt cx="7248960" cy="2829240"/>
          </a:xfrm>
        </p:grpSpPr>
        <p:pic>
          <p:nvPicPr>
            <p:cNvPr id="242" name="TextBox 3" descr=""/>
            <p:cNvPicPr/>
            <p:nvPr/>
          </p:nvPicPr>
          <p:blipFill>
            <a:blip r:embed="rId2"/>
            <a:stretch/>
          </p:blipFill>
          <p:spPr>
            <a:xfrm>
              <a:off x="328680" y="1908000"/>
              <a:ext cx="6615000" cy="28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240" y="1981080"/>
              <a:ext cx="7248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when a teen is threate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and harassed by another teen using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Internet or other digital technolog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usually not a on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ommunication and children know it wh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when they see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-45360" y="5105520"/>
            <a:ext cx="661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finition retrieved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ction Button: Forward or Next 5">
            <a:hlinkClick r:id="" action="ppaction://hlinkshowjump?jump=nextslide"/>
          </p:cNvPr>
          <p:cNvSpPr/>
          <p:nvPr/>
        </p:nvSpPr>
        <p:spPr>
          <a:xfrm>
            <a:off x="8077320" y="6043680"/>
            <a:ext cx="761760" cy="58572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088" h="21600">
                <a:moveTo>
                  <a:pt x="0" y="0"/>
                </a:moveTo>
                <a:lnTo>
                  <a:pt x="28088" y="0"/>
                </a:lnTo>
                <a:lnTo>
                  <a:pt x="28088" y="21600"/>
                </a:lnTo>
                <a:lnTo>
                  <a:pt x="0" y="21600"/>
                </a:lnTo>
                <a:close/>
              </a:path>
              <a:path fill="lightenLess" w="28088" h="21600">
                <a:moveTo>
                  <a:pt x="0" y="0"/>
                </a:moveTo>
                <a:lnTo>
                  <a:pt x="28088" y="0"/>
                </a:lnTo>
                <a:lnTo>
                  <a:pt x="26688" y="1400"/>
                </a:lnTo>
                <a:lnTo>
                  <a:pt x="1400" y="1400"/>
                </a:lnTo>
                <a:close/>
              </a:path>
              <a:path fill="darken" w="28088" h="21600">
                <a:moveTo>
                  <a:pt x="28088" y="0"/>
                </a:moveTo>
                <a:lnTo>
                  <a:pt x="28088" y="21600"/>
                </a:lnTo>
                <a:lnTo>
                  <a:pt x="26688" y="20200"/>
                </a:lnTo>
                <a:lnTo>
                  <a:pt x="26688" y="1400"/>
                </a:lnTo>
                <a:close/>
              </a:path>
              <a:path fill="darkenLess" w="28088" h="21600">
                <a:moveTo>
                  <a:pt x="28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8" y="20200"/>
                </a:lnTo>
                <a:close/>
              </a:path>
              <a:path fill="lighten" w="28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8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Eurostile"/>
              </a:rPr>
              <a:t>Two Kinds of Cyberbullying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81bd"/>
                </a:solidFill>
                <a:uFillTx/>
                <a:latin typeface="Eurostile"/>
              </a:rPr>
              <a:t>Direct Attack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sent directly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ant Messa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ve Ga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net Po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Eurostile"/>
              </a:rPr>
              <a:t>Cyberbullying by Prox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are sent through others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yberbully gets control of the victim’s account and sends out messages trying to cause problems between the victim and her frien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7467480" y="22860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64240" y="5943600"/>
            <a:ext cx="664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xamples retrieved from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ction Button: Back or Previous 11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ction Button: Forward or Next 12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931320" y="9097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 #1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715000" y="3733920"/>
            <a:ext cx="19922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Box 4"/>
          <p:cNvGrpSpPr/>
          <p:nvPr/>
        </p:nvGrpSpPr>
        <p:grpSpPr>
          <a:xfrm>
            <a:off x="-171720" y="1908000"/>
            <a:ext cx="7931880" cy="1352880"/>
            <a:chOff x="-171720" y="1908000"/>
            <a:chExt cx="7931880" cy="1352880"/>
          </a:xfrm>
        </p:grpSpPr>
        <p:pic>
          <p:nvPicPr>
            <p:cNvPr id="259" name="TextBox 4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703440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71720" y="1981080"/>
              <a:ext cx="79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True or Fa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Cyberbulling is usually a one time communic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5"/>
          <p:cNvSpPr/>
          <p:nvPr/>
        </p:nvSpPr>
        <p:spPr>
          <a:xfrm>
            <a:off x="2300760" y="3962520"/>
            <a:ext cx="1349640" cy="113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3" action="ppaction://hlinksldjump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4" action="ppaction://hlinksldjump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ction Button: Back or Previous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ction Button: Forward or Next 8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006920" y="7621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  <a:ea typeface="Aharoni"/>
              </a:rPr>
              <a:t>QUICK QUIZ  #2 . . </a:t>
            </a: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867280" y="35812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3"/>
          <p:cNvGrpSpPr/>
          <p:nvPr/>
        </p:nvGrpSpPr>
        <p:grpSpPr>
          <a:xfrm>
            <a:off x="-26640" y="1603440"/>
            <a:ext cx="8309880" cy="1352520"/>
            <a:chOff x="-26640" y="1603440"/>
            <a:chExt cx="8309880" cy="1352520"/>
          </a:xfrm>
        </p:grpSpPr>
        <p:pic>
          <p:nvPicPr>
            <p:cNvPr id="274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1603440"/>
              <a:ext cx="75517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26640" y="1676520"/>
              <a:ext cx="83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When a cyberbully steals a victim’s account pass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And posts false messages to cause problems is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Example of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"/>
          <p:cNvSpPr/>
          <p:nvPr/>
        </p:nvSpPr>
        <p:spPr>
          <a:xfrm>
            <a:off x="483120" y="3505320"/>
            <a:ext cx="25689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Direc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>
            <a:hlinkClick r:id="rId3" action="ppaction://hlinksldjump"/>
          </p:cNvPr>
          <p:cNvSpPr/>
          <p:nvPr/>
        </p:nvSpPr>
        <p:spPr>
          <a:xfrm>
            <a:off x="318240" y="4419720"/>
            <a:ext cx="406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Cyberbullying by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8150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8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1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82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43800" y="54975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1:23:17Z</dcterms:created>
  <dc:creator>mary beth</dc:creator>
  <dc:description/>
  <dc:language>en-US</dc:language>
  <cp:lastModifiedBy>mary beth</cp:lastModifiedBy>
  <dcterms:modified xsi:type="dcterms:W3CDTF">2010-07-27T01:49:09Z</dcterms:modified>
  <cp:revision>33</cp:revision>
  <dc:subject/>
  <dc:title>Slide 1</dc:title>
</cp:coreProperties>
</file>