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758D-9D29-49DC-8CC7-DEE4336CE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DB82-AAA8-483E-89AD-66CEFB453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964F-C6C4-4767-A49A-BF0B7AC10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ADDA-B85E-4C8C-A837-71AB00650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B251-C434-44C7-811C-E932246AE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BD81-C6D7-4BAA-8E56-820AAF515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AD5E-AC6C-4C50-A4A1-0FE98CBFD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FC60-1126-4453-ADDB-F9788B2DA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5C5B-0478-483A-BE4F-68D7C993B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3C1B-9C0C-41E2-B77C-A11A100A9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921D-DBD8-4A8F-9353-E90F73FF1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C127-7964-4B4C-B92E-A43735F20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766D-8257-408E-896A-07FFC5FB2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E783-B281-45C4-BFAC-A0F811416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07A5-6CAD-4DD2-B9D4-782AC516A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9660-D06F-48B5-B030-729561CE7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5FA6-1441-4891-92AC-550707209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9F66-EAED-4F5C-A1F0-21482BCC7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BB1C-82CE-42EA-8F59-7A01168A8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03A5-F637-47A1-9249-918790A46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12E-8D68-4954-B73A-B5CA978E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0EC-9BD3-4BC9-A05E-64637492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394-014F-46CE-86B1-E3DF3568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9EF-1D3C-4220-B8A7-33539E51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E28B-9804-4608-ADB7-B20260E6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F77E-C495-4886-BF9C-35C0E9EF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2686-3AF5-49A1-8075-06CA5E1B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FA52-6EFD-41D2-85F8-52F515DE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AD04-9F54-47FD-AF41-0CAF12D0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08D1-8320-4D23-A95A-95548F6F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53DF-53F6-471E-B915-3A0FB7A5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181-63B1-4160-B254-6AFEA8CE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AD3B-BE90-4190-99BC-7EDE2228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7420-A590-419A-BDBF-4DDA90B6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6B85-F175-4C16-87E8-BAB3C110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1D53-AAD7-4D31-A2D0-444024E7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02A8-0FF8-46FF-B53B-E75FF0A2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4E68-EDF4-45D2-9466-14F3AAE9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27F33-7717-4D9F-9E59-6584C569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113D9-9254-4612-BF62-1F3CB961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7C70-B052-431F-ADB7-9DFD8E05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E2CB-33D9-486C-B1B2-315576DF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5BD-D108-4B2E-918E-E95C4036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05F21-7254-4419-AE07-C07B95F2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B6F9B-E843-4528-BBE3-25103796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F48F9-F883-421B-BA97-631D4869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7325-AA39-43FB-80C8-B3BA182E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BDBE-5947-4759-A07D-3130E8C7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5A16-D70C-4AE9-9F4A-FC4D170F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2F48-DA48-4341-B7A2-8BD91FBA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AC8D7-1780-4895-9E06-333D0DB8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4F6EC-BF7A-437C-BB5E-9F997CAE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544AC-9CA8-4342-AFC6-C4B24426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C66-C32E-4AC4-8583-6E992924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A510C-5055-42DC-821B-C5B20A38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BB3CA-E9AC-4278-A9CB-CB7834B9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FC8C3-10C3-4309-9227-4AD66E96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D0A0-522B-4D4B-9483-4789CA6F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B6A23-192D-4ABD-A316-C8C24C9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AB4E5-2342-4E37-8F44-95CEA53A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C6F8-3DFF-4D5B-B1AE-574DFED5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1BDA-6F76-422B-A899-B2FEF61B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D42B0-AB1B-4C39-8089-093AF360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6AA09-3CAA-4703-980B-5889DAE7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A00E-BB9D-471C-97F8-98F8560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DCA60-15DF-48C6-980B-63ED78E4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B3686-769C-4EEE-8017-37FE1E75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480DF-A9AA-4B11-9570-B1E2E98A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66CED-733C-4BEC-8015-66894F08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DBA77-9518-424E-BE82-BCA1AEFE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04B2D-12F4-4353-9483-4471183C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F18E0-6454-4FC8-B942-0F58E92F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67D8D-963E-47BC-A901-C8B46B8E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51D10-56C9-4D7C-AE7A-89BA1D78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FE447-D8B8-4802-9EC4-00628AAF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BD8-054B-4817-8D90-CFFBBCB0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1375A-F292-4025-9CA9-2060941B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A2C-88DB-407E-A0C5-5284988F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5A4-1ECC-4AB8-A5BE-5AECEC5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067-6297-4D89-A5FA-E21FA3CC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B8A1-19FF-4C6E-815C-5FE99222C6C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3E0C-E449-4C0C-A937-A6E270A95B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5BE4-AA05-4B97-A837-4E60EBCD6DE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79C1-D057-4CB9-B4D0-852448C67B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575D-441A-4321-89A1-9EED6F220C4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redkids.org/ktt_universal/games/javascript/cyberbullying_quiz_1/index.html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4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stopcyberbullying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stopcyberbullying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5" descr=""/>
          <p:cNvPicPr/>
          <p:nvPr/>
        </p:nvPicPr>
        <p:blipFill>
          <a:blip r:embed="rId1"/>
          <a:stretch/>
        </p:blipFill>
        <p:spPr>
          <a:xfrm>
            <a:off x="1006560" y="347760"/>
            <a:ext cx="6960960" cy="2030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980520" y="3056040"/>
            <a:ext cx="42116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s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Lake Olympia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rt Bend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Users\mary beth\AppData\Local\Microsoft\Windows\Temporary Internet Files\Content.IE5\OFMNSCOL\MC900293876[1].wmf"/>
          <p:cNvPicPr/>
          <p:nvPr/>
        </p:nvPicPr>
        <p:blipFill>
          <a:blip r:embed="rId2"/>
          <a:stretch/>
        </p:blipFill>
        <p:spPr>
          <a:xfrm>
            <a:off x="533520" y="3124080"/>
            <a:ext cx="282240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Action Button: Forward or Next 4">
            <a:hlinkClick r:id="" action="ppaction://hlinkshowjump?jump=nextslide"/>
          </p:cNvPr>
          <p:cNvSpPr/>
          <p:nvPr/>
        </p:nvSpPr>
        <p:spPr>
          <a:xfrm>
            <a:off x="792468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04920" y="4811760"/>
            <a:ext cx="8458200" cy="67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://www.wiredkids.org/ktt_universal/games/javascript/cyberbullying_quiz_1/index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353520" y="990720"/>
            <a:ext cx="47300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HAVE  YOU EVER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CYBERBUL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TextBox 3"/>
          <p:cNvGrpSpPr/>
          <p:nvPr/>
        </p:nvGrpSpPr>
        <p:grpSpPr>
          <a:xfrm>
            <a:off x="235080" y="2743200"/>
            <a:ext cx="3407040" cy="987480"/>
            <a:chOff x="235080" y="2743200"/>
            <a:chExt cx="3407040" cy="987480"/>
          </a:xfrm>
        </p:grpSpPr>
        <p:pic>
          <p:nvPicPr>
            <p:cNvPr id="290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2743200"/>
              <a:ext cx="3206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5080" y="2819520"/>
              <a:ext cx="340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Try a qui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Click the link below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3" descr="C:\Users\mary beth\AppData\Local\Microsoft\Windows\Temporary Internet Files\Content.IE5\9W7UX5WD\MC900293876[1].wmf"/>
          <p:cNvPicPr/>
          <p:nvPr/>
        </p:nvPicPr>
        <p:blipFill>
          <a:blip r:embed="rId3"/>
          <a:stretch/>
        </p:blipFill>
        <p:spPr>
          <a:xfrm>
            <a:off x="5943600" y="762120"/>
            <a:ext cx="220824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6"/>
          <p:cNvGrpSpPr/>
          <p:nvPr/>
        </p:nvGrpSpPr>
        <p:grpSpPr>
          <a:xfrm>
            <a:off x="474480" y="4151160"/>
            <a:ext cx="7733520" cy="500040"/>
            <a:chOff x="474480" y="4151160"/>
            <a:chExt cx="7733520" cy="500040"/>
          </a:xfrm>
        </p:grpSpPr>
        <p:pic>
          <p:nvPicPr>
            <p:cNvPr id="294" name="TextBox 6" descr=""/>
            <p:cNvPicPr/>
            <p:nvPr/>
          </p:nvPicPr>
          <p:blipFill>
            <a:blip r:embed="rId4"/>
            <a:stretch/>
          </p:blipFill>
          <p:spPr>
            <a:xfrm>
              <a:off x="895320" y="4151160"/>
              <a:ext cx="68533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74480" y="4202280"/>
              <a:ext cx="77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Eurostile"/>
                </a:rPr>
                <a:t>When finished just close the window and continue with the les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ction Button: Forward or Next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IDEAS TO PREVENT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CYBERBULLYING . . .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733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Technolog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828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Setting software controls to limit acc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ing fil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kid-safe web brows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monitor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Learn and practice online safe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Use good Netiquet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Have computers in public places where monitors are visi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Report incidents immediate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C:\Users\mary beth\AppData\Local\Microsoft\Windows\Temporary Internet Files\Content.IE5\9W7UX5WD\MC900293876[1].wmf"/>
          <p:cNvPicPr/>
          <p:nvPr/>
        </p:nvPicPr>
        <p:blipFill>
          <a:blip r:embed="rId1"/>
          <a:stretch/>
        </p:blipFill>
        <p:spPr>
          <a:xfrm>
            <a:off x="7086600" y="15876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356120" y="6172200"/>
            <a:ext cx="63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Suggestions retrieved from cyberbullyingpreventi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ction Button: Back or Previous 9">
            <a:hlinkClick r:id="" action="ppaction://hlinkshowjump?jump=previousslide"/>
          </p:cNvPr>
          <p:cNvSpPr/>
          <p:nvPr/>
        </p:nvSpPr>
        <p:spPr>
          <a:xfrm>
            <a:off x="304920" y="5943600"/>
            <a:ext cx="814320" cy="609480"/>
          </a:xfrm>
          <a:custGeom>
            <a:avLst/>
            <a:gdLst>
              <a:gd name="textAreaLeft" fmla="*/ 39240 w 814320"/>
              <a:gd name="textAreaRight" fmla="*/ 775080 w 81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8855" h="21600">
                <a:moveTo>
                  <a:pt x="0" y="0"/>
                </a:moveTo>
                <a:lnTo>
                  <a:pt x="28855" y="0"/>
                </a:lnTo>
                <a:lnTo>
                  <a:pt x="28855" y="21600"/>
                </a:lnTo>
                <a:lnTo>
                  <a:pt x="0" y="21600"/>
                </a:lnTo>
                <a:close/>
              </a:path>
              <a:path fill="lightenLess" w="28855" h="21600">
                <a:moveTo>
                  <a:pt x="0" y="0"/>
                </a:moveTo>
                <a:lnTo>
                  <a:pt x="28855" y="0"/>
                </a:lnTo>
                <a:lnTo>
                  <a:pt x="27455" y="1400"/>
                </a:lnTo>
                <a:lnTo>
                  <a:pt x="1400" y="1400"/>
                </a:lnTo>
                <a:close/>
              </a:path>
              <a:path fill="darken" w="28855" h="21600">
                <a:moveTo>
                  <a:pt x="28855" y="0"/>
                </a:moveTo>
                <a:lnTo>
                  <a:pt x="28855" y="21600"/>
                </a:lnTo>
                <a:lnTo>
                  <a:pt x="27455" y="20200"/>
                </a:lnTo>
                <a:lnTo>
                  <a:pt x="27455" y="1400"/>
                </a:lnTo>
                <a:close/>
              </a:path>
              <a:path fill="darkenLess" w="28855" h="21600">
                <a:moveTo>
                  <a:pt x="28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55" y="20200"/>
                </a:lnTo>
                <a:close/>
              </a:path>
              <a:path fill="lighten" w="28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55" h="21600">
                <a:moveTo>
                  <a:pt x="7421" y="10800"/>
                </a:moveTo>
                <a:lnTo>
                  <a:pt x="21434" y="3794"/>
                </a:lnTo>
                <a:lnTo>
                  <a:pt x="214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ction Button: Forward or Next 10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833760" y="609480"/>
            <a:ext cx="342540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Eurostile"/>
              </a:rPr>
              <a:t>QUICK QUIZ #3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853320" y="457200"/>
            <a:ext cx="12985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09" name="TextBox 3"/>
          <p:cNvGrpSpPr/>
          <p:nvPr/>
        </p:nvGrpSpPr>
        <p:grpSpPr>
          <a:xfrm>
            <a:off x="62640" y="1749600"/>
            <a:ext cx="7639200" cy="1116000"/>
            <a:chOff x="62640" y="1749600"/>
            <a:chExt cx="7639200" cy="1116000"/>
          </a:xfrm>
        </p:grpSpPr>
        <p:pic>
          <p:nvPicPr>
            <p:cNvPr id="310" name="TextBox 3" descr=""/>
            <p:cNvPicPr/>
            <p:nvPr/>
          </p:nvPicPr>
          <p:blipFill>
            <a:blip r:embed="rId2"/>
            <a:stretch/>
          </p:blipFill>
          <p:spPr>
            <a:xfrm>
              <a:off x="365040" y="1749600"/>
              <a:ext cx="695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2640" y="1828800"/>
              <a:ext cx="763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Which is NOT a good way to preven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technology at schoo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Box 4">
            <a:hlinkClick r:id="rId3" action="ppaction://hlinksldjump"/>
          </p:cNvPr>
          <p:cNvSpPr/>
          <p:nvPr/>
        </p:nvSpPr>
        <p:spPr>
          <a:xfrm>
            <a:off x="670320" y="3352680"/>
            <a:ext cx="26251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Adding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>
            <a:hlinkClick r:id="rId4" action="ppaction://hlinksldjump"/>
          </p:cNvPr>
          <p:cNvSpPr/>
          <p:nvPr/>
        </p:nvSpPr>
        <p:spPr>
          <a:xfrm>
            <a:off x="515160" y="4267080"/>
            <a:ext cx="61851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Allowing students access to My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>
            <a:hlinkClick r:id="rId5" action="ppaction://hlinksldjump"/>
          </p:cNvPr>
          <p:cNvSpPr/>
          <p:nvPr/>
        </p:nvSpPr>
        <p:spPr>
          <a:xfrm>
            <a:off x="567360" y="5105520"/>
            <a:ext cx="469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Add kid-safe web brow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ction Button: Back or Previous 8">
            <a:hlinkClick r:id="" action="ppaction://hlinkshowjump?jump=previousslide"/>
          </p:cNvPr>
          <p:cNvSpPr/>
          <p:nvPr/>
        </p:nvSpPr>
        <p:spPr>
          <a:xfrm>
            <a:off x="304920" y="5867280"/>
            <a:ext cx="738000" cy="7621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1600" h="22306">
                <a:moveTo>
                  <a:pt x="0" y="0"/>
                </a:moveTo>
                <a:lnTo>
                  <a:pt x="21600" y="0"/>
                </a:lnTo>
                <a:lnTo>
                  <a:pt x="21600" y="22306"/>
                </a:lnTo>
                <a:lnTo>
                  <a:pt x="0" y="22306"/>
                </a:lnTo>
                <a:close/>
              </a:path>
              <a:path fill="lightenLess" w="21600" h="223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06">
                <a:moveTo>
                  <a:pt x="21600" y="0"/>
                </a:moveTo>
                <a:lnTo>
                  <a:pt x="21600" y="22306"/>
                </a:lnTo>
                <a:lnTo>
                  <a:pt x="20200" y="20906"/>
                </a:lnTo>
                <a:lnTo>
                  <a:pt x="20200" y="1400"/>
                </a:lnTo>
                <a:close/>
              </a:path>
              <a:path fill="darkenLess" w="21600" h="22306">
                <a:moveTo>
                  <a:pt x="21600" y="22306"/>
                </a:moveTo>
                <a:lnTo>
                  <a:pt x="0" y="22306"/>
                </a:lnTo>
                <a:lnTo>
                  <a:pt x="1400" y="20906"/>
                </a:lnTo>
                <a:lnTo>
                  <a:pt x="20200" y="20906"/>
                </a:lnTo>
                <a:close/>
              </a:path>
              <a:path fill="lighten" w="21600" h="22306">
                <a:moveTo>
                  <a:pt x="0" y="223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06"/>
                </a:lnTo>
                <a:close/>
              </a:path>
              <a:path fill="darken" w="21600" h="22306">
                <a:moveTo>
                  <a:pt x="3794" y="11153"/>
                </a:moveTo>
                <a:lnTo>
                  <a:pt x="17806" y="4146"/>
                </a:lnTo>
                <a:lnTo>
                  <a:pt x="17806" y="18159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ction Button: Forward or Next 9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19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22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779760" y="685800"/>
            <a:ext cx="2963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#4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775560" y="380880"/>
            <a:ext cx="13762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6" name="TextBox 3"/>
          <p:cNvGrpSpPr/>
          <p:nvPr/>
        </p:nvGrpSpPr>
        <p:grpSpPr>
          <a:xfrm>
            <a:off x="1440" y="1749600"/>
            <a:ext cx="7826760" cy="1116000"/>
            <a:chOff x="1440" y="1749600"/>
            <a:chExt cx="7826760" cy="1116000"/>
          </a:xfrm>
        </p:grpSpPr>
        <p:pic>
          <p:nvPicPr>
            <p:cNvPr id="327" name="TextBox 3" descr=""/>
            <p:cNvPicPr/>
            <p:nvPr/>
          </p:nvPicPr>
          <p:blipFill>
            <a:blip r:embed="rId2"/>
            <a:stretch/>
          </p:blipFill>
          <p:spPr>
            <a:xfrm>
              <a:off x="285840" y="1749600"/>
              <a:ext cx="7169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40" y="1828800"/>
              <a:ext cx="782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What is a good way for students to prev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educatio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4">
            <a:hlinkClick r:id="rId3" action="ppaction://hlinksldjump"/>
          </p:cNvPr>
          <p:cNvSpPr/>
          <p:nvPr/>
        </p:nvSpPr>
        <p:spPr>
          <a:xfrm>
            <a:off x="263520" y="3429000"/>
            <a:ext cx="6226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Give out personal information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>
            <a:hlinkClick r:id="rId4" action="ppaction://hlinksldjump"/>
          </p:cNvPr>
          <p:cNvSpPr/>
          <p:nvPr/>
        </p:nvSpPr>
        <p:spPr>
          <a:xfrm>
            <a:off x="225720" y="4267080"/>
            <a:ext cx="7884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Start rumors using Gaggle electronic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>
            <a:hlinkClick r:id="rId5" action="ppaction://hlinksldjump"/>
          </p:cNvPr>
          <p:cNvSpPr/>
          <p:nvPr/>
        </p:nvSpPr>
        <p:spPr>
          <a:xfrm>
            <a:off x="209160" y="5105520"/>
            <a:ext cx="704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Learn and be informed about onlin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533160"/>
          </a:xfrm>
          <a:custGeom>
            <a:avLst/>
            <a:gdLst>
              <a:gd name="textAreaLeft" fmla="*/ 34560 w 814680"/>
              <a:gd name="textAreaRight" fmla="*/ 780120 w 814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2998" h="21600">
                <a:moveTo>
                  <a:pt x="0" y="0"/>
                </a:moveTo>
                <a:lnTo>
                  <a:pt x="32998" y="0"/>
                </a:lnTo>
                <a:lnTo>
                  <a:pt x="32998" y="21600"/>
                </a:lnTo>
                <a:lnTo>
                  <a:pt x="0" y="21600"/>
                </a:lnTo>
                <a:close/>
              </a:path>
              <a:path fill="lightenLess" w="32998" h="21600">
                <a:moveTo>
                  <a:pt x="0" y="0"/>
                </a:moveTo>
                <a:lnTo>
                  <a:pt x="32998" y="0"/>
                </a:lnTo>
                <a:lnTo>
                  <a:pt x="31598" y="1400"/>
                </a:lnTo>
                <a:lnTo>
                  <a:pt x="1400" y="1400"/>
                </a:lnTo>
                <a:close/>
              </a:path>
              <a:path fill="darken" w="32998" h="21600">
                <a:moveTo>
                  <a:pt x="32998" y="0"/>
                </a:moveTo>
                <a:lnTo>
                  <a:pt x="32998" y="21600"/>
                </a:lnTo>
                <a:lnTo>
                  <a:pt x="31598" y="20200"/>
                </a:lnTo>
                <a:lnTo>
                  <a:pt x="31598" y="1400"/>
                </a:lnTo>
                <a:close/>
              </a:path>
              <a:path fill="darkenLess" w="32998" h="21600">
                <a:moveTo>
                  <a:pt x="3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98" y="20200"/>
                </a:lnTo>
                <a:close/>
              </a:path>
              <a:path fill="lighten" w="3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98" h="21600">
                <a:moveTo>
                  <a:pt x="9492" y="10800"/>
                </a:moveTo>
                <a:lnTo>
                  <a:pt x="23505" y="3794"/>
                </a:lnTo>
                <a:lnTo>
                  <a:pt x="2350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ction Button: Forward or Next 8">
            <a:hlinkClick r:id="" action="ppaction://hlinkshowjump?jump=nextslide"/>
          </p:cNvPr>
          <p:cNvSpPr/>
          <p:nvPr/>
        </p:nvSpPr>
        <p:spPr>
          <a:xfrm>
            <a:off x="7848720" y="6019920"/>
            <a:ext cx="890640" cy="533160"/>
          </a:xfrm>
          <a:custGeom>
            <a:avLst/>
            <a:gdLst>
              <a:gd name="textAreaLeft" fmla="*/ 34560 w 890640"/>
              <a:gd name="textAreaRight" fmla="*/ 856080 w 890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6073" h="21600">
                <a:moveTo>
                  <a:pt x="0" y="0"/>
                </a:moveTo>
                <a:lnTo>
                  <a:pt x="36073" y="0"/>
                </a:lnTo>
                <a:lnTo>
                  <a:pt x="36073" y="21600"/>
                </a:lnTo>
                <a:lnTo>
                  <a:pt x="0" y="21600"/>
                </a:lnTo>
                <a:close/>
              </a:path>
              <a:path fill="lightenLess" w="36073" h="21600">
                <a:moveTo>
                  <a:pt x="0" y="0"/>
                </a:moveTo>
                <a:lnTo>
                  <a:pt x="36073" y="0"/>
                </a:lnTo>
                <a:lnTo>
                  <a:pt x="34673" y="1400"/>
                </a:lnTo>
                <a:lnTo>
                  <a:pt x="1400" y="1400"/>
                </a:lnTo>
                <a:close/>
              </a:path>
              <a:path fill="darken" w="36073" h="21600">
                <a:moveTo>
                  <a:pt x="36073" y="0"/>
                </a:moveTo>
                <a:lnTo>
                  <a:pt x="36073" y="21600"/>
                </a:lnTo>
                <a:lnTo>
                  <a:pt x="34673" y="20200"/>
                </a:lnTo>
                <a:lnTo>
                  <a:pt x="34673" y="1400"/>
                </a:lnTo>
                <a:close/>
              </a:path>
              <a:path fill="darkenLess" w="36073" h="21600">
                <a:moveTo>
                  <a:pt x="36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3" y="20200"/>
                </a:lnTo>
                <a:close/>
              </a:path>
              <a:path fill="lighten" w="36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3" h="21600">
                <a:moveTo>
                  <a:pt x="11030" y="3794"/>
                </a:moveTo>
                <a:lnTo>
                  <a:pt x="25043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3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3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459720" y="685800"/>
            <a:ext cx="59673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Eurostile"/>
              </a:rPr>
              <a:t>QUESTIONS USED FOR DISCUSSION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685800" y="1633680"/>
            <a:ext cx="6934320" cy="366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Use Gaggle to e-mail me your answers to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If someone posted false information or rumors about you on a social networking site (facebook), w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Eurostile"/>
              </a:rPr>
              <a:t>should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How does Lake O handle cyberbullying incidents? Do you agree or disagree with campus procedures?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3)  Do you share your passwords with other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570960" y="4876920"/>
            <a:ext cx="8003520" cy="7038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You may also use your Gaggle account to send me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And/or concerns about Cyberbullying . . . I will listen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7010280" y="228600"/>
            <a:ext cx="1528920" cy="1523880"/>
          </a:xfrm>
          <a:prstGeom prst="rect">
            <a:avLst/>
          </a:prstGeom>
          <a:ln w="0">
            <a:noFill/>
          </a:ln>
        </p:spPr>
      </p:pic>
      <p:sp>
        <p:nvSpPr>
          <p:cNvPr id="345" name="Action Button: Back or Previous 5">
            <a:hlinkClick r:id="" action="ppaction://hlinkshowjump?jump=previousslide"/>
          </p:cNvPr>
          <p:cNvSpPr/>
          <p:nvPr/>
        </p:nvSpPr>
        <p:spPr>
          <a:xfrm>
            <a:off x="380880" y="59436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ction Button: Forward or Next 6">
            <a:hlinkClick r:id="" action="ppaction://hlinkshowjump?jump=nextslide"/>
          </p:cNvPr>
          <p:cNvSpPr/>
          <p:nvPr/>
        </p:nvSpPr>
        <p:spPr>
          <a:xfrm>
            <a:off x="8001000" y="59436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678040" y="6019920"/>
            <a:ext cx="31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y.cooley@fortbend.k12.tx.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295280" y="609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778320" y="757080"/>
            <a:ext cx="4866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Eurostile"/>
              </a:rPr>
              <a:t>SOURCES FOR INFORMATION . 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5943600" y="1219320"/>
            <a:ext cx="2436840" cy="2428920"/>
          </a:xfrm>
          <a:prstGeom prst="rect">
            <a:avLst/>
          </a:prstGeom>
          <a:ln w="0">
            <a:noFill/>
          </a:ln>
        </p:spPr>
      </p:pic>
      <p:grpSp>
        <p:nvGrpSpPr>
          <p:cNvPr id="351" name="TextBox 4"/>
          <p:cNvGrpSpPr/>
          <p:nvPr/>
        </p:nvGrpSpPr>
        <p:grpSpPr>
          <a:xfrm>
            <a:off x="717120" y="1951200"/>
            <a:ext cx="5098680" cy="2938320"/>
            <a:chOff x="717120" y="1951200"/>
            <a:chExt cx="5098680" cy="2938320"/>
          </a:xfrm>
        </p:grpSpPr>
        <p:pic>
          <p:nvPicPr>
            <p:cNvPr id="352" name="TextBox 4" descr=""/>
            <p:cNvPicPr/>
            <p:nvPr/>
          </p:nvPicPr>
          <p:blipFill>
            <a:blip r:embed="rId2"/>
            <a:stretch/>
          </p:blipFill>
          <p:spPr>
            <a:xfrm>
              <a:off x="884160" y="1951200"/>
              <a:ext cx="473544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17120" y="1981080"/>
              <a:ext cx="50986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wiredkids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stopcyberbullying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cyberbullyingprevention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TextBox 5" descr=""/>
          <p:cNvPicPr/>
          <p:nvPr/>
        </p:nvPicPr>
        <p:blipFill>
          <a:blip r:embed="rId3"/>
          <a:stretch/>
        </p:blipFill>
        <p:spPr>
          <a:xfrm>
            <a:off x="2822400" y="5132520"/>
            <a:ext cx="4956480" cy="950760"/>
          </a:xfrm>
          <a:prstGeom prst="rect">
            <a:avLst/>
          </a:prstGeom>
          <a:ln w="0">
            <a:noFill/>
          </a:ln>
        </p:spPr>
      </p:pic>
      <p:sp>
        <p:nvSpPr>
          <p:cNvPr id="355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457200"/>
          </a:xfrm>
          <a:custGeom>
            <a:avLst/>
            <a:gdLst>
              <a:gd name="textAreaLeft" fmla="*/ 29520 w 814680"/>
              <a:gd name="textAreaRight" fmla="*/ 785160 w 814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76" h="21600">
                <a:moveTo>
                  <a:pt x="0" y="0"/>
                </a:moveTo>
                <a:lnTo>
                  <a:pt x="38476" y="0"/>
                </a:lnTo>
                <a:lnTo>
                  <a:pt x="38476" y="21600"/>
                </a:lnTo>
                <a:lnTo>
                  <a:pt x="0" y="21600"/>
                </a:lnTo>
                <a:close/>
              </a:path>
              <a:path fill="lightenLess" w="38476" h="21600">
                <a:moveTo>
                  <a:pt x="0" y="0"/>
                </a:moveTo>
                <a:lnTo>
                  <a:pt x="38476" y="0"/>
                </a:lnTo>
                <a:lnTo>
                  <a:pt x="37076" y="1400"/>
                </a:lnTo>
                <a:lnTo>
                  <a:pt x="1400" y="1400"/>
                </a:lnTo>
                <a:close/>
              </a:path>
              <a:path fill="darken" w="38476" h="21600">
                <a:moveTo>
                  <a:pt x="38476" y="0"/>
                </a:moveTo>
                <a:lnTo>
                  <a:pt x="38476" y="21600"/>
                </a:lnTo>
                <a:lnTo>
                  <a:pt x="37076" y="20200"/>
                </a:lnTo>
                <a:lnTo>
                  <a:pt x="37076" y="1400"/>
                </a:lnTo>
                <a:close/>
              </a:path>
              <a:path fill="darkenLess" w="38476" h="21600">
                <a:moveTo>
                  <a:pt x="38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76" y="20200"/>
                </a:lnTo>
                <a:close/>
              </a:path>
              <a:path fill="lighten" w="38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76" h="21600">
                <a:moveTo>
                  <a:pt x="12231" y="10800"/>
                </a:moveTo>
                <a:lnTo>
                  <a:pt x="26244" y="3794"/>
                </a:lnTo>
                <a:lnTo>
                  <a:pt x="2624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594000" y="635040"/>
            <a:ext cx="53560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Eurostile"/>
              </a:rPr>
              <a:t>WHAT IS CYBER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6629400" y="3808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41" name="TextBox 3"/>
          <p:cNvGrpSpPr/>
          <p:nvPr/>
        </p:nvGrpSpPr>
        <p:grpSpPr>
          <a:xfrm>
            <a:off x="48240" y="1908000"/>
            <a:ext cx="7248960" cy="2829240"/>
            <a:chOff x="48240" y="1908000"/>
            <a:chExt cx="7248960" cy="2829240"/>
          </a:xfrm>
        </p:grpSpPr>
        <p:pic>
          <p:nvPicPr>
            <p:cNvPr id="242" name="TextBox 3" descr=""/>
            <p:cNvPicPr/>
            <p:nvPr/>
          </p:nvPicPr>
          <p:blipFill>
            <a:blip r:embed="rId2"/>
            <a:stretch/>
          </p:blipFill>
          <p:spPr>
            <a:xfrm>
              <a:off x="328680" y="1908000"/>
              <a:ext cx="6615000" cy="28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8240" y="1981080"/>
              <a:ext cx="72489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when a teen is threate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and harassed by another teen using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Internet or other digital technolog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usually not a on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ommunication and children know it wh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when they see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-45360" y="5105520"/>
            <a:ext cx="6612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finition retrieved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3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ction Button: Forward or Next 5">
            <a:hlinkClick r:id="" action="ppaction://hlinkshowjump?jump=nextslide"/>
          </p:cNvPr>
          <p:cNvSpPr/>
          <p:nvPr/>
        </p:nvSpPr>
        <p:spPr>
          <a:xfrm>
            <a:off x="8077320" y="6043680"/>
            <a:ext cx="761760" cy="585720"/>
          </a:xfrm>
          <a:custGeom>
            <a:avLst/>
            <a:gdLst>
              <a:gd name="textAreaLeft" fmla="*/ 37800 w 761760"/>
              <a:gd name="textAreaRight" fmla="*/ 723960 w 7617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8088" h="21600">
                <a:moveTo>
                  <a:pt x="0" y="0"/>
                </a:moveTo>
                <a:lnTo>
                  <a:pt x="28088" y="0"/>
                </a:lnTo>
                <a:lnTo>
                  <a:pt x="28088" y="21600"/>
                </a:lnTo>
                <a:lnTo>
                  <a:pt x="0" y="21600"/>
                </a:lnTo>
                <a:close/>
              </a:path>
              <a:path fill="lightenLess" w="28088" h="21600">
                <a:moveTo>
                  <a:pt x="0" y="0"/>
                </a:moveTo>
                <a:lnTo>
                  <a:pt x="28088" y="0"/>
                </a:lnTo>
                <a:lnTo>
                  <a:pt x="26688" y="1400"/>
                </a:lnTo>
                <a:lnTo>
                  <a:pt x="1400" y="1400"/>
                </a:lnTo>
                <a:close/>
              </a:path>
              <a:path fill="darken" w="28088" h="21600">
                <a:moveTo>
                  <a:pt x="28088" y="0"/>
                </a:moveTo>
                <a:lnTo>
                  <a:pt x="28088" y="21600"/>
                </a:lnTo>
                <a:lnTo>
                  <a:pt x="26688" y="20200"/>
                </a:lnTo>
                <a:lnTo>
                  <a:pt x="26688" y="1400"/>
                </a:lnTo>
                <a:close/>
              </a:path>
              <a:path fill="darkenLess" w="28088" h="21600">
                <a:moveTo>
                  <a:pt x="28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8" y="20200"/>
                </a:lnTo>
                <a:close/>
              </a:path>
              <a:path fill="lighten" w="28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8" h="21600">
                <a:moveTo>
                  <a:pt x="7037" y="3794"/>
                </a:moveTo>
                <a:lnTo>
                  <a:pt x="21050" y="10800"/>
                </a:lnTo>
                <a:lnTo>
                  <a:pt x="7037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Eurostile"/>
              </a:rPr>
              <a:t>Two Kinds of Cyberbullying</a:t>
            </a: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81bd"/>
                </a:solidFill>
                <a:uFillTx/>
                <a:latin typeface="Eurostile"/>
              </a:rPr>
              <a:t>Direct Attack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sent directly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ant Messag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ve Ga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net Pol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Eurostile"/>
              </a:rPr>
              <a:t>Cyberbullying by Prox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are sent through others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yberbully gets control of the victim’s account and sends out messages trying to cause problems between the victim and her frien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7467480" y="22860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64240" y="5943600"/>
            <a:ext cx="664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xamples retrieved from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2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ction Button: Back or Previous 11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ction Button: Forward or Next 12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931320" y="9097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 #1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715000" y="3733920"/>
            <a:ext cx="19922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58" name="TextBox 4"/>
          <p:cNvGrpSpPr/>
          <p:nvPr/>
        </p:nvGrpSpPr>
        <p:grpSpPr>
          <a:xfrm>
            <a:off x="-171720" y="1908000"/>
            <a:ext cx="7931880" cy="1352880"/>
            <a:chOff x="-171720" y="1908000"/>
            <a:chExt cx="7931880" cy="1352880"/>
          </a:xfrm>
        </p:grpSpPr>
        <p:pic>
          <p:nvPicPr>
            <p:cNvPr id="259" name="TextBox 4" descr=""/>
            <p:cNvPicPr/>
            <p:nvPr/>
          </p:nvPicPr>
          <p:blipFill>
            <a:blip r:embed="rId2"/>
            <a:stretch/>
          </p:blipFill>
          <p:spPr>
            <a:xfrm>
              <a:off x="244440" y="1908000"/>
              <a:ext cx="7034400" cy="13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-171720" y="1981080"/>
              <a:ext cx="793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True or Fa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Cyberbulling is usually a one time communic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5"/>
          <p:cNvSpPr/>
          <p:nvPr/>
        </p:nvSpPr>
        <p:spPr>
          <a:xfrm>
            <a:off x="2300760" y="3962520"/>
            <a:ext cx="1349640" cy="11361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3" action="ppaction://hlinksldjump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4" action="ppaction://hlinksldjump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ction Button: Back or Previous 7">
            <a:hlinkClick r:id="" action="ppaction://hlinkshowjump?jump=previousslide"/>
          </p:cNvPr>
          <p:cNvSpPr/>
          <p:nvPr/>
        </p:nvSpPr>
        <p:spPr>
          <a:xfrm>
            <a:off x="304920" y="60199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ction Button: Forward or Next 8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6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6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1006920" y="7621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  <a:ea typeface="Aharoni"/>
              </a:rPr>
              <a:t>QUICK QUIZ  #2 . . </a:t>
            </a: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867280" y="35812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73" name="TextBox 3"/>
          <p:cNvGrpSpPr/>
          <p:nvPr/>
        </p:nvGrpSpPr>
        <p:grpSpPr>
          <a:xfrm>
            <a:off x="-26640" y="1603440"/>
            <a:ext cx="8309880" cy="1352520"/>
            <a:chOff x="-26640" y="1603440"/>
            <a:chExt cx="8309880" cy="1352520"/>
          </a:xfrm>
        </p:grpSpPr>
        <p:pic>
          <p:nvPicPr>
            <p:cNvPr id="274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1603440"/>
              <a:ext cx="75517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-26640" y="1676520"/>
              <a:ext cx="83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When a cyberbully steals a victim’s account pass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And posts false messages to cause problems is 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Example of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5"/>
          <p:cNvSpPr/>
          <p:nvPr/>
        </p:nvSpPr>
        <p:spPr>
          <a:xfrm>
            <a:off x="483120" y="3505320"/>
            <a:ext cx="25689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Direc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>
            <a:hlinkClick r:id="rId3" action="ppaction://hlinksldjump"/>
          </p:cNvPr>
          <p:cNvSpPr/>
          <p:nvPr/>
        </p:nvSpPr>
        <p:spPr>
          <a:xfrm>
            <a:off x="318240" y="4419720"/>
            <a:ext cx="406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Cyberbullying by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8150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10800"/>
                </a:moveTo>
                <a:lnTo>
                  <a:pt x="19438" y="3794"/>
                </a:lnTo>
                <a:lnTo>
                  <a:pt x="19438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8">
            <a:hlinkClick r:id="" action="ppaction://hlinkshowjump?jump=nextslide"/>
          </p:cNvPr>
          <p:cNvSpPr/>
          <p:nvPr/>
        </p:nvSpPr>
        <p:spPr>
          <a:xfrm>
            <a:off x="80773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1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82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7543800" y="549756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1:23:17Z</dcterms:created>
  <dc:creator>mary beth</dc:creator>
  <dc:description/>
  <dc:language>en-US</dc:language>
  <cp:lastModifiedBy>mary beth</cp:lastModifiedBy>
  <dcterms:modified xsi:type="dcterms:W3CDTF">2010-07-27T01:49:09Z</dcterms:modified>
  <cp:revision>33</cp:revision>
  <dc:subject/>
  <dc:title>Slide 1</dc:title>
</cp:coreProperties>
</file>