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BF1-5C86-4E0F-A026-131CEFE5D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380A-8D37-44B1-A751-F9877E4CC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168-0AEC-46EA-A2F0-48A546D8A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E9D3-6D2A-4FBF-8EFB-0913CFBC4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93F1-40B9-4DB7-B733-6835CA257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656-3696-48B8-BE5F-2EA8529A1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515B-DD2E-426F-98D4-5095DCE6C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C83B-3914-4136-A3EE-E7F560CE5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3CD9-53B7-4945-A38A-F9A87B5B9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F364-2A4F-4169-93EA-131E4B4A4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66E3-5915-4489-B174-CAEEBC935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5295-8A0C-4713-A8A3-4A04ECCE7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051-C9CC-453E-906F-958ED31CB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4D0B-5D01-47DC-BF64-C03FA5FC0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491-91C1-4621-8E2C-64BDE0D14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0AE8-6085-4BF8-B773-F5C801EE4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4EB4-44EF-403E-84B8-9400B8914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3E12-9C1B-43D3-805B-B67BA3639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B9D-C028-4CCD-B82E-02785D190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D92C-2A59-41EA-A290-95E8D3FCA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258-A62B-43ED-BA02-DC0070E0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A19-EF32-42E3-B708-0B0E33A3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189-E5B1-4202-9C39-C8B33824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A44-246B-43A7-9566-4EC595BD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DF68-E625-4C5B-885E-B6C12053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BFF0-39B2-4406-8854-32C36F27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DDE3-0B26-4357-AC17-AF5C6418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64C3-49EB-42AB-BBBF-942C6162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BAF3-99F0-4A4E-82C7-BAE3B1FE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16F2-42A1-4DD9-BA85-819D4F4C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6A9F-3ADF-4342-93D3-840209B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438-67D4-49F3-BA49-E1B638FE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7D63-C935-4192-BCD3-525349B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1144-6A01-40ED-AAF7-FECB324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F6E-4E0C-42A3-9BDA-E844088F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C97C-2724-4013-BD5A-4E75BA4E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17B1-8E7B-42AE-A029-B5C3C0E0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9276-98F4-4993-9C19-8F43CCB8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3E5B-C7CE-4D67-BB3E-56EDC7E7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06EE-FCC5-4A94-82F2-135610E9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DDB1-0149-43C8-A355-4C445870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BDCA-5FCA-493A-970D-B1701D82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AFD-D8FD-42DE-AF92-6E7A054B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AB84-2AF5-4AA6-8C83-5391C2FB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C387-42DB-476C-ADEB-6B88A840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B0148-5505-43F1-A2C4-2823EE8B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427E-5FB3-4B37-855D-116F14F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47D3-0545-44F6-9DBB-1F534E91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594A-9C68-4C28-98ED-84887D18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910C-49CC-4713-A881-75581732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7EBF-2AA4-4F3D-B4F1-7F0F186A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D9D3-5BE5-4417-8296-573B7B8A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5821-776B-4483-B5E2-BA94448C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35B-B7BB-4709-B820-C910D802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1572-9525-48F5-B077-850AF833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CF38-A888-492F-B2B2-99D1765E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96AE-103E-4AAD-8DD9-635AE254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D7D7-EBEB-4088-9CFB-C291B859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6BC7-430D-4962-B4B9-5C3044C4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436E-DD17-47CE-B068-6E98B6F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AFDC-9523-48DC-A145-CC5BC5CA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2338-4DB0-41B0-8500-D9E33680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7FB6-4AC3-4F3C-B277-10511ED3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91C4-9E55-4343-9688-B537D42D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D13-04BD-4B75-9775-C01767DB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F88D5-9DA5-4A33-983F-4172379E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3B132-C2BC-4EE5-B60C-661F5433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7834D-5C5F-4A59-89BC-02488350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FBAD-1199-4E25-BC94-00FA1ECB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EB820-0C73-4CF7-AA8E-1FF00F6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215A-637C-4E87-A312-CE8F1380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A4B34-23E6-495E-B2D2-7E7D4BC3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B3984-B745-4D61-BC80-AFE5983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9997-A07F-4600-B2CD-D1B718AF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02898-8F3A-4CAE-8BEE-9D692073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943-1AB1-463B-85FE-BBA76FFA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F675-F0DB-4B47-896A-CFC4FA36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C37-506D-44DB-8178-947658EB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13C-F546-4514-9C20-8547B828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819-67C1-4D4E-86E7-0C570A9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767-E284-4BDB-AF1B-62F56F1A7E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A586-FCF2-4D45-99E5-ED3E903DF4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0706-0F93-4ED7-AF7A-336F7D3B84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3DD3-CD90-4CC6-8F0F-0AFC14E2F8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03B1-0AE5-4A69-801C-B4EC5F85A75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mailto:mary.cooley@fortbend.k12.tx.u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ary.cooley@fortbend.k12.tx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02T17:48:10Z</dcterms:modified>
  <cp:revision>33</cp:revision>
  <dc:subject/>
  <dc:title>Slide 1</dc:title>
</cp:coreProperties>
</file>