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6F1-E42B-4B46-8D18-D1AE1A18A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D55-8718-423A-8AFF-553616DB6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D7F-2ADB-44B8-8CF6-CB6B964AA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9DD-1930-4CD7-A070-B1241AF96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0D18-C488-45FA-BCFE-B7437E7B3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E2B0-4C88-4806-BB9D-C9F639B33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315-6FAD-449D-A295-9E9EEFDB4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92D-3ABE-49D5-9D85-EF46D5FA9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4F35-EF87-42D7-AD52-0057E6DE1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90EB-0417-49ED-A883-195CFE4F9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4B86-A7C4-4733-8189-17B64E824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5177-4C89-4B45-9D75-90F498481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806-2F10-4DB2-9921-B7C343F61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656C-0B70-420D-B399-0136E0E64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C0E-DB9B-48C9-ACA2-442840FAE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0145-12ED-4F4A-8BAE-A41A11A21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3D92-E94B-4047-B833-DC5B5C769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06D-78FE-4BA2-84B1-DB6A04EFB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910C-CD0F-4558-A026-604CCD7DC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7213-1E24-4F7D-8307-8746F3040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692-EC8B-4FB2-87D0-B456C891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217-E0B0-4A7A-9A13-166877E5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57E-5A38-4D84-8EE8-FC38862A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18C-7902-42E4-9C62-46BA012C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CD9E-9FB7-410F-9E98-F37088CB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A370-9625-4A18-8118-84CE1C8B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7851-726E-405A-AC0B-46CBC58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4240-55CD-4CA2-8E72-DB0D8CC9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4B19-C862-4BF2-AEF0-3262141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C27C-2CAE-4D03-AC5C-0F06C3F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2C9A-9848-4AAA-ADA1-AA063AFA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DFC-5BAF-41A5-A917-8621F30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7BF-61E6-46C4-A415-3A4B2884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AECC-7367-4617-A8C2-D78C13B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A5C3-A02A-4A6C-94FD-969EA20C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9098-1D2C-4127-8DA0-F3994D56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61BA-544D-45B4-BCBC-2150DA5B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1B02-94D1-418D-BF77-37D078A8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E1F9-9283-4842-A27D-F6B080D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81CB-3D9A-4B46-99D8-6D32609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8875-9B8B-4CE1-8ACB-C7269E36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9517-E3DE-4394-BFC9-4599CD2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1FF-40EF-422A-808B-B2A248C0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839A-5945-44AD-AAB6-5FBED4B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1D73-0E6C-4FFB-82F6-2F8A71E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9007-54B2-4E59-BAEC-7D1A8B8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D600-8BD1-41C2-8F58-9C44926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B5F8-DEE7-4622-8796-B4E2549F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28EA-775E-4828-B35A-8E58335D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21DB-53DA-4DCD-A3B0-F9686D14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7234-86C2-4CB3-95B4-31D345B2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875D-AFF8-4FEB-AC6D-9B3E60A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32B0-FFCE-4EA7-9B91-A916194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93F-01A6-457D-8D3B-3814DD8F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005B-E47E-4A80-98BB-18002AB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6546-2B6B-441E-A39B-D6FDB70C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A800-B4AB-4197-85F2-8CE9FDE7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00AE-7373-4D2A-B4ED-37563A5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4687-88F8-451F-8264-39564596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ADEE-B39F-476E-BAC3-272AC93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8474-92E9-442A-A954-AC2E7DF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424C-AAE5-4292-8877-55CCF0F3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8D04-B8D9-4A5E-98C4-CE15AFAE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090B-23BB-4562-8D8B-2E7D5204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E3A-50D3-496B-883C-B99EB66D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3FF0-BB1E-44E4-8056-5DE6638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AD11-E9EC-459D-BC75-02EDB9B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C5BAA-DDA5-4EEA-A2DE-D32FBF9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A4F8-6785-425C-8CF9-F8F1474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AF71B-9A58-4221-832F-3D3B37E3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BD94-FA42-44BC-9F1D-B0D25DCA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5DBB-B243-4DC6-BC54-0EF254C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8DD1B-6FE6-4ABD-8238-FC1C019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3891-B6BE-41D8-985E-DB192840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B9FF-861A-4BF0-A93F-4588B303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DD0-E482-49F1-9AC9-DF68D29A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197E-6C2B-4364-B8B6-CC6AACC4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571-2964-4D23-88F7-E87D1643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88E-0AD9-4D25-88CC-38EDA0EC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EE2-677E-4CAB-9F81-5782951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E22-42C1-4B01-A05A-F48D850719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6AFC-EBD9-4323-BFD2-70193C7FC6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3AB1-BA11-4AB9-B7C9-48C7A21E9C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DB4E-16B5-47F8-AD10-3F294F6EB0A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3D35-A208-4242-9CC1-548C477829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mailto:mary.cooley@fortbend.k12.tx.u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ary.cooley@fortbend.k12.tx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02T17:48:10Z</dcterms:modified>
  <cp:revision>33</cp:revision>
  <dc:subject/>
  <dc:title>Slide 1</dc:title>
</cp:coreProperties>
</file>