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445-5B62-4BF4-856A-B8C69D5E6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F7C-2C2B-41C5-A9CE-2E1171E28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011B-9D1F-44D8-8FA7-FD013C9C0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66A-EC3A-4BE2-9D4F-81343DF83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0F4-B3E3-4256-9303-4E24844C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E3D-A524-4522-94E6-DF692EFD6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CDB-AD88-43CA-947F-109CCCC96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23D6-692D-4188-B08D-6558C924B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26C-1CE4-449B-8778-821FC1DA1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0F32-DBFC-4BBB-BF60-983D72BF9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B30-F435-4DBD-8B38-55271C35C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CA2-3EDA-4DC1-BBC3-ADD74AB3F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E54-D289-4847-B458-39C39DA23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190-66D6-4A8D-AA02-B450B8184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423-7F30-4BA1-A732-A774ABBC9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AD2-74AB-4C69-8C4F-F5F4B8BB1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3EB-9A0A-43C7-AC7F-664B3D89B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2F6-A932-4F6B-9BEC-85802406B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253-9847-40AA-A4AF-5EDB13DE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2665-CB69-412F-B29D-041C2A661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8D7-DAEB-4D8D-BF2C-9C18BA9B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7A7-D8C0-4F1E-A147-B1B687E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29F-F9D8-4347-B8D6-087953B8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185-4600-477E-97C2-BE8B341C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48B-6EFD-46E5-8AFF-0F2E958A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06B-A734-44A7-BB43-3DE6E8F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9625-F68A-42EC-BAC3-D6DB350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509-2B5B-4C53-9252-334AC98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C253-90E4-47F7-A7EA-13F9093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BDC-0905-4353-A203-379E4CC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3F5E-55DF-4759-AAAC-FC60F25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E64-BD19-41F6-B3D8-B368E7F3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00F-CBB0-4367-9556-CEF43BB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EBBE-D890-43C0-8B23-5ED0DF0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C03A-D43F-4A5E-84A3-9A4D096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21D-AE36-40E4-AA29-4721342C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D41-4A2C-4092-859C-3AA751E4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CDBD-AC6F-4718-B1E5-D97FD33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B4A7-A78D-463B-96D2-E722A38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C47A-37CC-4B77-831D-2419986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CA85-842F-4D19-8AA5-7CE32800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8748-55DB-47B8-882A-5E1C9B7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B76-E0CA-436F-9A70-57E5A4F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E599-B512-4BEA-9E1B-4C5BBC1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A3D0-940E-4EBB-9A1C-79EE9F0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17CE-5A9D-4B39-9E8B-0692B29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EE4B-4F99-470A-9ACC-E432F2B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25BB-D7F9-47BA-A541-24BF2A2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E296-C2AA-4781-8969-107C32A7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F97A-C496-431A-8305-C4913322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84E9-8C3D-41AE-8302-4E6FF44F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C2E7-29B4-43B4-86E8-9EA9210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6E32-88F0-41EC-B9E3-2247CF72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49E-84FB-4109-B39C-85FD5EE6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9C6E-41AA-40C2-9CA6-6B4B17D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9440-A881-46C9-A865-97CC7F5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C232-9EBF-48E6-B722-62DC8BE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E4E2A-FE80-44F0-A580-EA79D0E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575C-BA74-4BD9-9291-BCEA019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DAE0-844A-4232-932C-E56E3418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B622-3C65-4B8E-ACF5-8251D091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EEBA-C882-4C1F-9CDD-B04F8F4B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F92D-426C-409E-B74A-1E9374CE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D311-E3A3-4362-995E-C349E8BC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E27-A9DA-4D72-AD30-D347AE54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AAD5-42EF-4ACB-BCA0-F230378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F24A-57A4-4148-8E5B-C56C6F5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A12F-34B6-40AE-A852-3ADE39C5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64A2-0145-4E7D-A332-231F9DC4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C981-D174-4EA3-A3D8-CE53491C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2567-B5ED-44A0-86E8-24694F2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B60D-46BC-4105-9D7E-E0BD074D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B839-6116-4B52-8D91-9E2264F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06E2-D643-425D-A471-ECE897C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DAC9-61A0-48BF-BD24-45709A4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FB3-1406-4C44-858B-067DD911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7D42-47CC-4F21-95F8-E3D7891A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9B2-9D4D-4CEA-9B77-BEF2F18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B65-F494-4C2D-885A-2EE4D1A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AE2-0E62-4103-AC9D-5ABED92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BF4-E92E-450E-911C-36068A6B9D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680-0B04-4904-868B-ECACC1644C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C1F-0C70-4F4F-AFC5-7A29AA5452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AC7-8261-42EF-8EB8-5302204F87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5E97-8ECF-43D0-85EE-4A130078F3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mailto:mary.cooley@fortbend.k12.tx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ary.cooley@fortbend.k12.tx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02T17:48:10Z</dcterms:modified>
  <cp:revision>33</cp:revision>
  <dc:subject/>
  <dc:title>Slide 1</dc:title>
</cp:coreProperties>
</file>